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A538D-7197-42ED-915A-E1E7DA14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FCAE6-1929-4D78-A941-7F2BBB4C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E35C1-D7B7-42E2-A628-3F1B8F15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2C93C-A3D8-46E3-BC10-B986EEA2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4387-BA66-4679-94CA-17D689DD5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5CA2-70DD-491C-A9AB-6685DEC0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4D48-5C0D-4343-9DA7-1BF0A30F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3FB0-6A5C-4F1F-B805-778CCA99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3BDF-61D7-47F7-A3ED-857B8E57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7876-8154-41B4-A73F-2D67BEAE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79BD-ED56-4120-9BF7-2EC56D70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252C9-B8FE-41B3-8C9A-6486AE6E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CBDF-AB36-49F0-8CAA-B6D2540E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E33C-16EC-4D44-A2AE-A9ADD5C7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7C67-DD93-4140-8C2D-68FD6B5E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27D7-195F-4EEF-A1E8-1A708A763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C609-3DD3-4F9A-8443-6AF88E419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F1038-5EA7-4A08-AD03-512923F9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6FA64-86E4-4277-97B4-DBD84EAF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B1218-9855-4F03-B975-796C560D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82B0D-CEBA-42F3-BC0F-63531851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7A2DE-1885-4D12-9581-4E273BD2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685E1-735D-48F4-A809-D8275AC4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E86F7-730C-431E-92D3-79D149E6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CDED3-55B9-4DF0-91C1-8380D3E8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08762-0B28-4DAD-8877-C06170EB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F9F81-CDD4-4A08-9D3C-51131C56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E0F9E-AB78-4800-BE14-8E832DA8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93DCF-52D9-455B-A339-2938DDEA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B894C-575E-4B06-A1EB-0B2E0ACE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D051A-41DC-4579-BFB8-BB283106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42232-7F23-492A-A222-60933BEA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A6321-B9C1-44B0-9E59-7678F88C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23B39-CCF8-40E8-83D1-DBDC12DB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4AA64-C35C-455D-9FA2-DF6D9CD8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6F3AC-7ABA-497F-A0BE-C9D0BED5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88000" y="6237360"/>
            <a:ext cx="23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4294-3BA7-4F17-BA06-27D387605AE6}" type="slidenum">
              <a:rPr b="0" lang="en-US" sz="1200" spc="-1" strike="noStrike">
                <a:solidFill>
                  <a:srgbClr val="000066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rot="5400000">
            <a:off x="-2815560" y="3291480"/>
            <a:ext cx="5905440" cy="2746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3200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271A-98AE-490E-850A-2738CF70A494}" type="slidenum"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PlaceHolder 3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body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dt" idx="3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 txBox="1"/>
          <p:nvPr/>
        </p:nvSpPr>
        <p:spPr>
          <a:xfrm>
            <a:off x="6324480" y="228600"/>
            <a:ext cx="2552760" cy="13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000066"/>
                    </a:gs>
                  </a:gsLst>
                  <a:lin ang="10800000"/>
                </a:gradFill>
                <a:latin typeface="Arial"/>
              </a:rPr>
              <a:t>Ministère des Affaires étrangères - DSI</a:t>
            </a:r>
            <a:endParaRPr b="0" lang="en-US" sz="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000066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395280" y="1413000"/>
            <a:ext cx="8497800" cy="0"/>
          </a:xfrm>
          <a:prstGeom prst="line">
            <a:avLst/>
          </a:prstGeom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Logo_Hornet_bitmap_500x348x128c" descr=""/>
          <p:cNvPicPr/>
          <p:nvPr/>
        </p:nvPicPr>
        <p:blipFill>
          <a:blip r:embed="rId2"/>
          <a:stretch/>
        </p:blipFill>
        <p:spPr>
          <a:xfrm>
            <a:off x="8244000" y="6237360"/>
            <a:ext cx="672840" cy="468360"/>
          </a:xfrm>
          <a:prstGeom prst="rect">
            <a:avLst/>
          </a:prstGeom>
          <a:ln w="0">
            <a:noFill/>
          </a:ln>
        </p:spPr>
      </p:pic>
      <p:sp>
        <p:nvSpPr>
          <p:cNvPr id="1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0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0612-15CD-48CC-81FA-7474629B0B18}" type="slidenum">
              <a:rPr b="0" lang="en-US" sz="1200" spc="-1" strike="noStrike">
                <a:solidFill>
                  <a:srgbClr val="000066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6308640"/>
            <a:ext cx="896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666699"/>
                </a:solidFill>
                <a:latin typeface="Tahoma"/>
                <a:ea typeface="Times New Roman"/>
              </a:rPr>
              <a:t>Ce document est la propriété du Ministère des Affaires étrangères et ne peut être ni divulgué ni copié sans son autorisation. Les citations doivent mentionner la source.</a:t>
            </a:r>
            <a:r>
              <a:rPr b="0" lang="en-US" sz="1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8604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Logo_Hornet_bitmap_500x348x128c" descr=""/>
          <p:cNvPicPr/>
          <p:nvPr/>
        </p:nvPicPr>
        <p:blipFill>
          <a:blip r:embed="rId2"/>
          <a:stretch/>
        </p:blipFill>
        <p:spPr>
          <a:xfrm>
            <a:off x="6948360" y="115920"/>
            <a:ext cx="2070360" cy="1441440"/>
          </a:xfrm>
          <a:prstGeom prst="rect">
            <a:avLst/>
          </a:prstGeom>
          <a:ln w="0">
            <a:noFill/>
          </a:ln>
        </p:spPr>
      </p:pic>
      <p:pic>
        <p:nvPicPr>
          <p:cNvPr id="77" name="logo_MAE-BD" descr=""/>
          <p:cNvPicPr/>
          <p:nvPr/>
        </p:nvPicPr>
        <p:blipFill>
          <a:blip r:embed="rId3"/>
          <a:stretch/>
        </p:blipFill>
        <p:spPr>
          <a:xfrm>
            <a:off x="611280" y="4365720"/>
            <a:ext cx="1738080" cy="17985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0B18-6F7F-47C1-9FCD-A7E67D7F4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Intitulé de la présent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187440" y="448308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99"/>
                </a:solidFill>
                <a:latin typeface="Arial"/>
              </a:rPr>
              <a:t>Sous-titres de la présentatio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99"/>
                </a:solidFill>
                <a:latin typeface="Arial"/>
              </a:rPr>
              <a:t>Lieu de la présentatio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99"/>
                </a:solidFill>
                <a:latin typeface="Arial"/>
              </a:rPr>
              <a:t>Date de la présentation – version x.y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99"/>
                </a:solidFill>
                <a:latin typeface="Arial"/>
              </a:rPr>
              <a:t>Présentateur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itre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iveau 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iveau 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iveau 3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iveau 4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Niveau 5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ésentation du 8 février 200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4:20:04Z</dcterms:created>
  <dc:creator/>
  <dc:description/>
  <cp:keywords>Hornet Modele de présentation</cp:keywords>
  <dc:language>en-US</dc:language>
  <cp:lastModifiedBy>Sébastien PERCIER</cp:lastModifiedBy>
  <dcterms:modified xsi:type="dcterms:W3CDTF">2012-09-28T13:52:37Z</dcterms:modified>
  <cp:revision>27</cp:revision>
  <dc:subject/>
  <dc:title>Modèle de présentation PowerPoint</dc:title>
</cp:coreProperties>
</file>