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84A-39C5-4AC2-B82C-8433F0B2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27E0-6215-4498-AA2A-1A8685E0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B34E-975E-4D1C-8B74-6263845E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214D-67CF-444E-A95F-C1CAC5AA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D32C-7837-4F3C-A779-08DE8DCB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883F-783C-47E8-99E8-1C5D54E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361-7874-4126-9C03-34D8CBE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FB8-1A5D-4A02-A7BF-2A2A9DF1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A987-0307-4422-8EE0-F0685C05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38D9-FB6F-46E3-8F32-CBEE093A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37D8-555D-45C4-A552-02D0FEB5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9C1A-A622-4E81-BCA2-7372083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9B9B-2227-44B2-88DF-FDB6EAA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41E5-8320-4523-93B3-D2630381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F4D-C20F-403C-88EB-3783600B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4DE3-2C30-43A5-B5DA-B21E7DC3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D48E-9251-4F70-AA3A-01F86676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343F-D733-4233-BB98-20C5409C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F644-CD98-45EB-827B-F92F2467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B325-5CEC-4EA0-9C37-6F5B428F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67306-4DF9-4F60-83C0-4738DE51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1CAC-F7E2-4F78-9833-C75D1DF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D72D-C5AB-4905-998F-A672D305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BDF7-2A90-43BF-95C4-4A15C84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A183-9C2C-4D6A-933B-B44C238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440E4-4FBA-4CEC-A09B-4DFBF77A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7DD8-6923-4ED9-9BB4-E98676A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B695-1024-4A10-9928-43F34733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13BFB-450E-46C5-AF19-4EB56066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FF2C-86DE-4BE7-A0D9-99DB9787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4918-CBCA-4746-A3A6-0F45F60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4B77-3E3E-4BA0-A93F-177FA1C8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520C-75C5-4E97-AA1D-AB788348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ACE2-619E-4D65-8FE0-5F5A9F6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7AE4-0411-44B7-93AD-9A945802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4294-3DEF-408B-AD1E-313EA77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723E-8161-4ACF-A00A-37C1C4A11DD9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00F-3F14-4DA7-B077-3961E11242E0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324480" y="228600"/>
            <a:ext cx="255276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Ministère des Affaires étrangères - DSI</a:t>
            </a:r>
            <a:endParaRPr b="0" lang="en-US" sz="8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_Hornet_bitmap_500x348x128c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72840" cy="468360"/>
          </a:xfrm>
          <a:prstGeom prst="rect">
            <a:avLst/>
          </a:prstGeom>
          <a:ln w="0">
            <a:noFill/>
          </a:ln>
        </p:spPr>
      </p:pic>
      <p:sp>
        <p:nvSpPr>
          <p:cNvPr id="1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E20-ECB7-438E-AF91-1909C3F81DBE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08640"/>
            <a:ext cx="896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66699"/>
                </a:solidFill>
                <a:latin typeface="Tahoma"/>
                <a:ea typeface="Times New Roman"/>
              </a:rPr>
              <a:t>Ce document est la propriété du Ministère des Affaires étrangères et ne peut être ni divulgué ni copié sans son autorisation. Les citations doivent mentionner la source.</a:t>
            </a:r>
            <a:r>
              <a:rPr b="0" lang="en-US" sz="1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Logo_Hornet_bitmap_500x348x128c" descr=""/>
          <p:cNvPicPr/>
          <p:nvPr/>
        </p:nvPicPr>
        <p:blipFill>
          <a:blip r:embed="rId2"/>
          <a:stretch/>
        </p:blipFill>
        <p:spPr>
          <a:xfrm>
            <a:off x="6948360" y="115920"/>
            <a:ext cx="207036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logo_MAE-BD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1738080" cy="1798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3CAC-FDD0-4AE7-9D71-8A6A0FAC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cp:keywords>Hornet Modele de présentation</cp:keywords>
  <dc:language>en-US</dc:language>
  <cp:lastModifiedBy>Sébastien PERCIER</cp:lastModifiedBy>
  <dcterms:modified xsi:type="dcterms:W3CDTF">2012-09-28T13:52:37Z</dcterms:modified>
  <cp:revision>27</cp:revision>
  <dc:subject/>
  <dc:title>Modèle de présentation PowerPoint</dc:title>
</cp:coreProperties>
</file>