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35FF-6977-4D24-A35E-9854E9393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07DA-5D25-4B4F-9DE3-65080717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6AA4-E5B1-4846-A5A8-380B5EBA1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F5B6-8252-4967-9851-4850573FC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0F78-2E76-4C71-A998-A6984424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51CA-1AD1-48EF-A984-956DF6B1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A547-2E87-4E77-B578-EE3F4327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8A3C-85D1-4018-8B63-C621906B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D88F-2C61-4A43-A6C0-40BFEE13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4EED-6726-497A-841E-48F6F18F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A582-D010-42EC-9B05-4E3B51A2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CC61-0537-45BD-827D-A82AEB00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ACAF-FBB9-4025-885B-C7B964A97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  <a:ea typeface="Times New Roman"/>
              </a:rPr>
              <a:t>2éme réunion sur la Mutualisation des outils du suivi régional des parcours VA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053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udi 14 janvier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GEFP - P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age 5" descr="logo.png"/>
          <p:cNvPicPr/>
          <p:nvPr/>
        </p:nvPicPr>
        <p:blipFill>
          <a:blip r:embed="rId3"/>
          <a:stretch/>
        </p:blipFill>
        <p:spPr>
          <a:xfrm>
            <a:off x="685800" y="533520"/>
            <a:ext cx="1571760" cy="742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\\srvec\travaux\COMMUNICATION\LOGOTHEQUE\LOGO DRTEFP\LOGO DRTEFP.jpg"/>
          <p:cNvPicPr/>
          <p:nvPr/>
        </p:nvPicPr>
        <p:blipFill>
          <a:blip r:embed="rId4"/>
          <a:stretch/>
        </p:blipFill>
        <p:spPr>
          <a:xfrm>
            <a:off x="3505320" y="304920"/>
            <a:ext cx="1352520" cy="1439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\\srvec\travaux\COMMUNICATION\LOGOTHEQUE\LOGO EC\LOGO EC CARRE\LOGO EC CARRE.jpg"/>
          <p:cNvPicPr/>
          <p:nvPr/>
        </p:nvPicPr>
        <p:blipFill>
          <a:blip r:embed="rId5"/>
          <a:stretch/>
        </p:blipFill>
        <p:spPr>
          <a:xfrm>
            <a:off x="6553080" y="304920"/>
            <a:ext cx="1440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types d’out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nonymisation des fichiers VAE certifica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pplicatif de codage indépend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util de codage intégré au progic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armonisation des données des fichiers certificateur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atch de correspondance par certific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ntégré au progiciel avec fichier de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ansfert des données vers la base commu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anuel : mail, ftp, extra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mi-automatique par connection directe avec le serv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xploitation des données et publication des résult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anuelle par scripts ou macros sur feuilles exc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étraitement par progiciel, publication sur extranet dédi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ébergement et Gestion de la base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n local sur outils bureaut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ébergement et traitement sur serveur externalis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eurs de succès et points de vigil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institu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 avec les certific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finition des résultats attendus et des indicateurs perti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ix du périmètre de la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intes : confidentialité, temps/certificateur, ressources opérateur (informatiq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ème technique : souplesse Vs inté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s du projet : court terme, moyen ter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Mutualisation des outils : quelle opti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tualisation : objectifs générau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duire fortement le coût d’accès aux outils informatiques du proj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 pas payer plusieurs fois le même out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er tous des développements fait pour chac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ager les règles et pratiques d’usage. Apprendre ensem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lques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mettre d’accord sur un cahier des charges type comm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sir/développer ensemble la même base logiciel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c des adaptations propres à chaque pro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sir le(s) même(s) prestatai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ir compte des spécificités de chaque projet (temps, taille, objectifs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1 : mise en commun d’outils informatiques du marché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u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hat groupé de licences d’outils informatiques du march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rutement sur Cahier des charges commun de prestataires uniques pour toutes les régions adhérent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ntag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éduction importante des coûts d’équipement à prestations ég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ils immédiatement dispon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tion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ut développement futur est facturé par le presta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 de maîtrise sur les versions fu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 Simulation budgétaire : année 1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le 1 : grosse région (10 valideurs), système d’export semi-automat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ût actuel : 21 400 € 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ût après mutualisation : 12 400 € 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enance : 3 800 € HT /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le 2 : région moyenne (6 valideurs), système d’export semi-automat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ût actuel : 19 200 € 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ût après mutualisation : 9 100 € 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enance : 2 500 € 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un nombre minimum de 4 à 5 rég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ant le même systè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 2 : production commune d’outils logiciels lib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e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oduire de manière collaborative les outils logiciels nécessaires au Suivi des Parcours V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rendre accessibles à tous pour utilisation, compléments et améliorations (logiciels lib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vanta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ûts d’achat nul après développ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mélioration continue des logiciels par communauté de développ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di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mpétences informatiques en ré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ccompagnement du processus (exemple : Adulla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ption 2 : exemple de l’accompagnement par Adull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Qui est Adullac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bjectif :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ider les collectivités territoriales, des administrations à de développer, mutualiser et maintenir un patrimoine commun de logiciels libres utiles aux missions de service publ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éation en 2002. Président François Elie (auteur de plusieurs ouvrages sur les logiciels libre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88 adhérents dont 142 collectivités territoriales et administrations publiques. (dont 11 Régions. Nombreuses villes, agglomérations, conseils régionaux. Service d’information du Gouvernemen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tructures : Adullact : association, Adulact.net : plate-forme de développement coopétarif. Adullact Projet : SCIC de développement de logiciels libr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s de projets : Maarch (gestion documentaire), I.Parapheur (signature de documents électronique), Web rSa (gestion dun RSA pour les départ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 2 : fonctionnement de  l’accompagn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ception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réation d’un Groupe de Travail Coopératif qui élabore le cahier des charges assisté par un chargé de mission d’Adullac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dullact rédige le cahier des charges fonctionnel et technique des logiciels en proj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velopp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is en charge par Adullact-projet sous la supervision du groupe de travail et confié sur devis à des prestataires sous-traitants répertorié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inancement est assuré par la coopérative Adullact au moyen de fonds propres, de crédits bancaires et de contributions des collectivités parties prenantes au proj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mainten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trat entre Adullact et chacun des utilisateurs des logiciels. Maintenance corrective et évolutiv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inancement par chaque collectivité utilisatrice avec aménagement suivant l’antériorité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tatut  libre des logici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s logiciels produits par la « forge » et leurs sources de programmation sont des logiciels « libres » utilisables gratuitement par simple télécharge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communauté des développeurs peut intervenir pour modifier et améliorer le logicie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pel du contex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lusieurs régions mettent en œuvre ou étudient le suivi des parcours VA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s formes de mutualisation des outils mis en oeuvre sont possibles et pertin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première réunion, le 6 octobre 2009 a montré l’intérêt des régions présentes pour poursuivre dans cette vo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 invitant à cette 2éme réunion, l’équipe VAE de PACA souhaite aller plus loin sur des options concrè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 2 : simulation budgét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stimation avec une réduction arythmé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14400" y="2286000"/>
          <a:ext cx="7467480" cy="2989440"/>
        </p:xfrm>
        <a:graphic>
          <a:graphicData uri="http://schemas.openxmlformats.org/drawingml/2006/table">
            <a:tbl>
              <a:tblPr/>
              <a:tblGrid>
                <a:gridCol w="1266840"/>
                <a:gridCol w="1171440"/>
                <a:gridCol w="914400"/>
                <a:gridCol w="1067040"/>
                <a:gridCol w="990360"/>
                <a:gridCol w="1067040"/>
                <a:gridCol w="9903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 de proj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ant ini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tenance 1ére anné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tenance anné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 2 : développe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 achet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ix entre développement à partir de zéro « page blanch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gration vers un statut libre d’un logiciel existant (exemple : Xad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mnisation du propriétaire de la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logiciel devient l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 2 : quel traitement pour les projets à statut différent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jets déjà équipés ou en passe de l’ê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uvent participer à la phase de con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uvent proposer le développement d’outils complémentaires des l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fitent des réductions de maintenance si leur outil est retenu dans la mutua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 réflexion sur des cahiers des charges ou simplement interress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uvent participer à la phase de conception en orientant le produit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-financent le développ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uvent être exonérés de maintenance pendant quelques a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joignent le dispositif après le développ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fitent de l’outil déjà développ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ssibilité de verser un droit d’entr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trois mutualis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176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 1 : formalisation et partage des bonnes prat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 2 : achats groupés de licences d’outils informatiques du march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 3 : production en commun d’outils informatiques libres au sein d’une forge en Open Source (Adullac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3.1 : achat de droits de propriété d’outils du march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3.2 : développement d’outils nouveaux en l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fs de la réun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ager l’état d’avancement des projets de Suivi des Parcours VAE à l’étude ou en cours dans les ré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e un premier échange autour des outils et méthodes mis en œuvre ou envisagé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r les options de mutualisation d’outils et choisir une piste de trav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h-13h : partage outils et pratiq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tat des lieux des programmes de suivi des parcours VAE en cours ou à l’é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e en commun des questions, outils et méth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h-16h : examen et choix des options de mutualis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achat commun de licen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logiciels lib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Suivi régional des parcours VAE : partage des outils et prati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roje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rigine du pro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m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eso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texte instituti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inan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incipes et cont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incipes et contrai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bjecti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artenaires et rô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rtific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at Ré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ri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 fonctions et leurs out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685800" y="3505320"/>
            <a:ext cx="757080" cy="620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990720" y="2209680"/>
            <a:ext cx="758880" cy="621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1"/>
          <p:cNvSpPr/>
          <p:nvPr/>
        </p:nvSpPr>
        <p:spPr>
          <a:xfrm>
            <a:off x="2666880" y="1143000"/>
            <a:ext cx="758880" cy="620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1066680" y="4952880"/>
            <a:ext cx="758880" cy="621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8"/>
          <p:cNvSpPr/>
          <p:nvPr/>
        </p:nvSpPr>
        <p:spPr>
          <a:xfrm>
            <a:off x="3962520" y="3548160"/>
            <a:ext cx="1171440" cy="9651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 Base Région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 parcours V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0"/>
          <p:cNvSpPr/>
          <p:nvPr/>
        </p:nvSpPr>
        <p:spPr>
          <a:xfrm>
            <a:off x="3429000" y="3200400"/>
            <a:ext cx="2274840" cy="1724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2"/>
          <p:cNvSpPr/>
          <p:nvPr/>
        </p:nvSpPr>
        <p:spPr>
          <a:xfrm>
            <a:off x="2928960" y="2835360"/>
            <a:ext cx="3308400" cy="250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3"/>
          <p:cNvSpPr/>
          <p:nvPr/>
        </p:nvSpPr>
        <p:spPr>
          <a:xfrm>
            <a:off x="2238480" y="2238480"/>
            <a:ext cx="4687920" cy="3562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2"/>
          <p:cNvSpPr/>
          <p:nvPr/>
        </p:nvSpPr>
        <p:spPr>
          <a:xfrm>
            <a:off x="4495680" y="2057400"/>
            <a:ext cx="167652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Transf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4"/>
          <p:cNvSpPr/>
          <p:nvPr/>
        </p:nvSpPr>
        <p:spPr>
          <a:xfrm>
            <a:off x="4495680" y="2590920"/>
            <a:ext cx="144792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mon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6"/>
          <p:cNvSpPr/>
          <p:nvPr/>
        </p:nvSpPr>
        <p:spPr>
          <a:xfrm rot="16200000">
            <a:off x="2581920" y="3209040"/>
            <a:ext cx="474480" cy="1523880"/>
          </a:xfrm>
          <a:prstGeom prst="downArrow">
            <a:avLst>
              <a:gd name="adj1" fmla="val 50000"/>
              <a:gd name="adj2" fmla="val 8029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37"/>
          <p:cNvSpPr/>
          <p:nvPr/>
        </p:nvSpPr>
        <p:spPr>
          <a:xfrm rot="18062400">
            <a:off x="2771640" y="2485440"/>
            <a:ext cx="476280" cy="1447920"/>
          </a:xfrm>
          <a:prstGeom prst="downArrow">
            <a:avLst>
              <a:gd name="adj1" fmla="val 50000"/>
              <a:gd name="adj2" fmla="val 7600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8"/>
          <p:cNvSpPr/>
          <p:nvPr/>
        </p:nvSpPr>
        <p:spPr>
          <a:xfrm rot="20126400">
            <a:off x="3504960" y="2057040"/>
            <a:ext cx="474480" cy="1308240"/>
          </a:xfrm>
          <a:prstGeom prst="downArrow">
            <a:avLst>
              <a:gd name="adj1" fmla="val 50000"/>
              <a:gd name="adj2" fmla="val 6893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0"/>
          <p:cNvSpPr/>
          <p:nvPr/>
        </p:nvSpPr>
        <p:spPr>
          <a:xfrm rot="16200000">
            <a:off x="6048360" y="3247560"/>
            <a:ext cx="476280" cy="1600200"/>
          </a:xfrm>
          <a:prstGeom prst="downArrow">
            <a:avLst>
              <a:gd name="adj1" fmla="val 50000"/>
              <a:gd name="adj2" fmla="val 83995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1"/>
          <p:cNvSpPr/>
          <p:nvPr/>
        </p:nvSpPr>
        <p:spPr>
          <a:xfrm rot="14707800">
            <a:off x="2735640" y="4045320"/>
            <a:ext cx="474840" cy="1374840"/>
          </a:xfrm>
          <a:prstGeom prst="downArrow">
            <a:avLst>
              <a:gd name="adj1" fmla="val 50000"/>
              <a:gd name="adj2" fmla="val 7238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3"/>
          <p:cNvSpPr/>
          <p:nvPr/>
        </p:nvSpPr>
        <p:spPr>
          <a:xfrm>
            <a:off x="7162920" y="3583080"/>
            <a:ext cx="16761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Exploitation des données et diffusion des résult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7"/>
          <p:cNvSpPr/>
          <p:nvPr/>
        </p:nvSpPr>
        <p:spPr>
          <a:xfrm>
            <a:off x="4495680" y="2590920"/>
            <a:ext cx="175284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Harmon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8"/>
          <p:cNvSpPr/>
          <p:nvPr/>
        </p:nvSpPr>
        <p:spPr>
          <a:xfrm>
            <a:off x="4495680" y="3048120"/>
            <a:ext cx="175284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Anonym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1"/>
          <p:cNvSpPr/>
          <p:nvPr/>
        </p:nvSpPr>
        <p:spPr>
          <a:xfrm>
            <a:off x="3048120" y="167652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2"/>
          <p:cNvSpPr/>
          <p:nvPr/>
        </p:nvSpPr>
        <p:spPr>
          <a:xfrm>
            <a:off x="1447920" y="274320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53"/>
          <p:cNvSpPr/>
          <p:nvPr/>
        </p:nvSpPr>
        <p:spPr>
          <a:xfrm>
            <a:off x="1143000" y="403848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4"/>
          <p:cNvSpPr/>
          <p:nvPr/>
        </p:nvSpPr>
        <p:spPr>
          <a:xfrm>
            <a:off x="1523880" y="5486400"/>
            <a:ext cx="60984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1"/>
          <p:cNvSpPr/>
          <p:nvPr/>
        </p:nvSpPr>
        <p:spPr>
          <a:xfrm>
            <a:off x="2666880" y="1143000"/>
            <a:ext cx="758880" cy="620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1"/>
          <p:cNvSpPr/>
          <p:nvPr/>
        </p:nvSpPr>
        <p:spPr>
          <a:xfrm>
            <a:off x="3048120" y="167652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8"/>
          <p:cNvSpPr/>
          <p:nvPr/>
        </p:nvSpPr>
        <p:spPr>
          <a:xfrm rot="20126400">
            <a:off x="3504960" y="2057040"/>
            <a:ext cx="474480" cy="1308240"/>
          </a:xfrm>
          <a:prstGeom prst="downArrow">
            <a:avLst>
              <a:gd name="adj1" fmla="val 50000"/>
              <a:gd name="adj2" fmla="val 6893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1"/>
          <p:cNvSpPr/>
          <p:nvPr/>
        </p:nvSpPr>
        <p:spPr>
          <a:xfrm>
            <a:off x="2666880" y="1143000"/>
            <a:ext cx="758880" cy="620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1"/>
          <p:cNvSpPr/>
          <p:nvPr/>
        </p:nvSpPr>
        <p:spPr>
          <a:xfrm>
            <a:off x="3048120" y="167652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1"/>
          <p:cNvSpPr/>
          <p:nvPr/>
        </p:nvSpPr>
        <p:spPr>
          <a:xfrm>
            <a:off x="2666880" y="1176480"/>
            <a:ext cx="758880" cy="620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1"/>
          <p:cNvSpPr/>
          <p:nvPr/>
        </p:nvSpPr>
        <p:spPr>
          <a:xfrm>
            <a:off x="3048120" y="170964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631880" y="2265480"/>
            <a:ext cx="27936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fo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8120" y="144792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Anonymisation des fichiers VAE certificate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er certaines données personnelles en un code indéchiffrable. Vérifier que ces données figurent dans chaque enregistrement et écarter les aut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 Harmonisation des données des fichiers certificateur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oniser les rubriques des fichiers avec celles de la base commune. L’harmonisation est produite à l’aide d’un applicatif de mise en correspondance de chaque fichier avec la b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Transfert des données vers la base commu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 certificateur génère une copie exportable de ses données. Celles-ci sont ensuite transférées à l’opérate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 Exploitation des données et publication des résulta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base est traitée à l’aide d’outils spécifiques. Les résultats sont diffusés généralement sur un site web à accès restreint de type Intra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 Hébergement et Gestion de la base de donné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ème de gestion de base de données supportant la base commune et les outils de traitement. et un serveur pour l’héber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8"/>
          <p:cNvSpPr/>
          <p:nvPr/>
        </p:nvSpPr>
        <p:spPr>
          <a:xfrm>
            <a:off x="2057400" y="1371600"/>
            <a:ext cx="533520" cy="439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8"/>
          <p:cNvSpPr/>
          <p:nvPr/>
        </p:nvSpPr>
        <p:spPr>
          <a:xfrm rot="16200000">
            <a:off x="1548360" y="1324800"/>
            <a:ext cx="201600" cy="555480"/>
          </a:xfrm>
          <a:prstGeom prst="downArrow">
            <a:avLst>
              <a:gd name="adj1" fmla="val 50000"/>
              <a:gd name="adj2" fmla="val 6888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838080" y="1425600"/>
            <a:ext cx="374760" cy="306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676520" y="1219320"/>
            <a:ext cx="182160" cy="67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3038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303847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996840" y="2311560"/>
            <a:ext cx="298440" cy="2044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1"/>
          <p:cNvSpPr/>
          <p:nvPr/>
        </p:nvSpPr>
        <p:spPr>
          <a:xfrm>
            <a:off x="996840" y="2558880"/>
            <a:ext cx="298440" cy="2048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1"/>
          <p:cNvSpPr/>
          <p:nvPr/>
        </p:nvSpPr>
        <p:spPr>
          <a:xfrm>
            <a:off x="996840" y="2841480"/>
            <a:ext cx="298440" cy="2048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8"/>
          <p:cNvSpPr/>
          <p:nvPr/>
        </p:nvSpPr>
        <p:spPr>
          <a:xfrm rot="16200000">
            <a:off x="1697040" y="2568240"/>
            <a:ext cx="685800" cy="206280"/>
          </a:xfrm>
          <a:prstGeom prst="downArrow">
            <a:avLst>
              <a:gd name="adj1" fmla="val 100000"/>
              <a:gd name="adj2" fmla="val 24861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8"/>
          <p:cNvSpPr/>
          <p:nvPr/>
        </p:nvSpPr>
        <p:spPr>
          <a:xfrm>
            <a:off x="2252520" y="2417760"/>
            <a:ext cx="533520" cy="439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8"/>
          <p:cNvSpPr/>
          <p:nvPr/>
        </p:nvSpPr>
        <p:spPr>
          <a:xfrm rot="16200000">
            <a:off x="1522440" y="2711520"/>
            <a:ext cx="146160" cy="403200"/>
          </a:xfrm>
          <a:prstGeom prst="downArrow">
            <a:avLst>
              <a:gd name="adj1" fmla="val 50000"/>
              <a:gd name="adj2" fmla="val 68966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38"/>
          <p:cNvSpPr/>
          <p:nvPr/>
        </p:nvSpPr>
        <p:spPr>
          <a:xfrm rot="16200000">
            <a:off x="1531800" y="2212920"/>
            <a:ext cx="146160" cy="403200"/>
          </a:xfrm>
          <a:prstGeom prst="downArrow">
            <a:avLst>
              <a:gd name="adj1" fmla="val 50000"/>
              <a:gd name="adj2" fmla="val 68966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8"/>
          <p:cNvSpPr/>
          <p:nvPr/>
        </p:nvSpPr>
        <p:spPr>
          <a:xfrm rot="16200000">
            <a:off x="1500120" y="2472840"/>
            <a:ext cx="145800" cy="403200"/>
          </a:xfrm>
          <a:prstGeom prst="downArrow">
            <a:avLst>
              <a:gd name="adj1" fmla="val 50000"/>
              <a:gd name="adj2" fmla="val 69136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8"/>
          <p:cNvSpPr/>
          <p:nvPr/>
        </p:nvSpPr>
        <p:spPr>
          <a:xfrm>
            <a:off x="2133720" y="3581280"/>
            <a:ext cx="533160" cy="439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8"/>
          <p:cNvSpPr/>
          <p:nvPr/>
        </p:nvSpPr>
        <p:spPr>
          <a:xfrm rot="16200000">
            <a:off x="1624680" y="3556800"/>
            <a:ext cx="201600" cy="555480"/>
          </a:xfrm>
          <a:prstGeom prst="downArrow">
            <a:avLst>
              <a:gd name="adj1" fmla="val 50000"/>
              <a:gd name="adj2" fmla="val 6888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1"/>
          <p:cNvSpPr/>
          <p:nvPr/>
        </p:nvSpPr>
        <p:spPr>
          <a:xfrm>
            <a:off x="914400" y="3652920"/>
            <a:ext cx="374760" cy="306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8"/>
          <p:cNvSpPr/>
          <p:nvPr/>
        </p:nvSpPr>
        <p:spPr>
          <a:xfrm>
            <a:off x="838080" y="4419720"/>
            <a:ext cx="533520" cy="439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8"/>
          <p:cNvSpPr/>
          <p:nvPr/>
        </p:nvSpPr>
        <p:spPr>
          <a:xfrm rot="16200000">
            <a:off x="1701000" y="4394880"/>
            <a:ext cx="201600" cy="555840"/>
          </a:xfrm>
          <a:prstGeom prst="downArrow">
            <a:avLst>
              <a:gd name="adj1" fmla="val 50000"/>
              <a:gd name="adj2" fmla="val 6892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4419720"/>
            <a:ext cx="533520" cy="439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8"/>
          <p:cNvSpPr/>
          <p:nvPr/>
        </p:nvSpPr>
        <p:spPr>
          <a:xfrm>
            <a:off x="1371600" y="5391000"/>
            <a:ext cx="762120" cy="709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08:46:06Z</dcterms:created>
  <dc:creator>Bruno</dc:creator>
  <dc:description/>
  <dc:language>en-US</dc:language>
  <cp:lastModifiedBy>Bruno</cp:lastModifiedBy>
  <dcterms:modified xsi:type="dcterms:W3CDTF">2010-01-13T17:14:12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