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BE6B-7069-47AE-ACED-2DEE29AD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C9A5-C18B-4A27-B889-2282BC36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DDD0-CEA3-456D-BC89-E5A82649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1188-51E5-4011-96BC-E954B5EE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FC31-7C57-404F-9661-6E4BC5F2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B810-ED77-4120-A24B-26A1E41E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507B-6B1E-4D24-9539-A2D2A65E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CD44-9C4A-4C10-896E-F1174B96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E701-DE49-4F25-A2D7-ACF46C40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9AFB-FB51-4E8A-8AC5-3F6711A8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23CC-8D5B-49F4-A355-EB916E65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7C35-FE52-4CCD-B0F4-DCCB8CB3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61BC-252A-4478-BEBB-A739E8C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881A-04B3-4F2B-992F-E44933E4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C591-BAD1-4B73-80B6-967F858A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75E0-5FA9-4C99-AE7A-D3B883EF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9AE2-5580-45B8-A90C-741BA903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597F-CEFE-43DA-8EC6-412BB20F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E7FCA-C234-42DC-B881-6EC7D136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46871-7B28-44F0-AC60-59BE8BAB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F566-FF75-4358-9564-F2FD85CB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53E03-6B66-4485-9E85-16D2B9A6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FB9A-966D-4DA4-B64E-6955C907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6B0B-CC10-4346-90C8-FF4787A2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29D5D-097C-4E31-9A36-044C43CE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D26EE-25E0-4014-A517-D72E0818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1CD69-A2E2-42E2-9B11-509C2816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7F31-680D-4779-BB81-22AF9A18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992FF-B60F-4009-B3B4-8383D5F6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DAAC7-76F6-4C43-9DB3-E81A3573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CEFE-B1E5-4DF6-90F3-94295C68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6F23-4C4C-4AFC-A3E8-E58773BD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FFDD-0F9A-4372-80AD-FD82C17F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7FCA-EA17-469E-8F8B-0A6F5A71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533C-49C9-4938-A85F-E010AC42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15F8-4F9A-4B39-BFBE-7C6CA4F0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88000" y="6237360"/>
            <a:ext cx="23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A848-C235-46A4-9A97-49714D559FD9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815560" y="3291480"/>
            <a:ext cx="5905440" cy="274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D0FC-3D70-4629-8637-8E9394851572}" type="slidenum"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6837480" y="189000"/>
            <a:ext cx="20476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000066"/>
                    </a:gs>
                  </a:gsLst>
                  <a:lin ang="10800000"/>
                </a:gradFill>
                <a:latin typeface="Arial"/>
              </a:rPr>
              <a:t>Communauté ACube</a:t>
            </a:r>
            <a:endParaRPr b="0" lang="en-US" sz="10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000066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LogoSimple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485640" cy="47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CF25-1CA6-47A6-AD01-C00DD448DF5C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8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666699"/>
                </a:solidFill>
                <a:latin typeface="Arial"/>
              </a:rPr>
              <a:t>Cette création est mise à disposition selon le Contrat Paternité - Pas d'Utilisation Commerciale - Partage des Conditions Initiales à l'Identique disponible en ligne http://creativecommons.org/licenses/by-nc-sa/2.0/fr/ ou par courrier postal à Creative Commons, 559 Nathan Abbott Way, Stanford, California 94305, US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LogoSimple" descr=""/>
          <p:cNvPicPr/>
          <p:nvPr/>
        </p:nvPicPr>
        <p:blipFill>
          <a:blip r:embed="rId2"/>
          <a:stretch/>
        </p:blipFill>
        <p:spPr>
          <a:xfrm>
            <a:off x="7467480" y="117360"/>
            <a:ext cx="1519200" cy="1482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529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C_SomeRightsReserved" descr=""/>
          <p:cNvPicPr/>
          <p:nvPr/>
        </p:nvPicPr>
        <p:blipFill>
          <a:blip r:embed="rId3"/>
          <a:stretch/>
        </p:blipFill>
        <p:spPr>
          <a:xfrm>
            <a:off x="1066680" y="5029200"/>
            <a:ext cx="83844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D664-93A1-439F-B086-1A521A589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titulé de la pré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187440" y="44830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ous-titres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Lieu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Date de la présentation – version x.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Présent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tr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iveau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iveau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iveau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iveau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iveau 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ésentation du 8 février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0:04Z</dcterms:created>
  <dc:creator/>
  <dc:description/>
  <dc:language>en-US</dc:language>
  <cp:lastModifiedBy>Pasquereau Gilles</cp:lastModifiedBy>
  <dcterms:modified xsi:type="dcterms:W3CDTF">2010-03-08T08:57:59Z</dcterms:modified>
  <cp:revision>13</cp:revision>
  <dc:subject/>
  <dc:title>Modèle de présentation PowerPoint</dc:title>
</cp:coreProperties>
</file>