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7154-E84D-4711-9D0C-A35302FD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534C-0648-4D8E-B464-680A7A68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9306-DCBF-489C-87C5-CDB02139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E563-8C54-486E-B126-19481ACD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7A3E-2695-406D-80F1-BEC2B653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F958-CB38-4B66-B105-E215125E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6FC7-638D-4982-B658-0D47690A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DED8-D7DF-482B-84C1-C8DBC886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D677-700A-4F49-8412-2395EFA0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6274-CAA8-4236-8D94-B16206AA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B020-6A2F-4BEF-AC06-15B5D2BE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6AA5-443C-4197-BD60-FAB3DE8E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DDC5-C765-4C15-8A59-0BD34DD0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7D40-EC31-415C-A8AF-65265B1B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1CCD-0BAD-44BA-B3CD-97D7188D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3D3D-5B75-4B61-BF8E-2457E58D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21B9-20CB-4335-8E0E-923AD741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0BADF-5488-4C61-9CA3-71BB13BB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53EBE-6081-4480-93CA-B761ACB5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BDD06-3168-4B60-9579-2566B3CF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A079C-BB35-4151-98BA-81B982C4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3E5C0-2182-446B-8E24-6FF106BF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556A-70B5-4C39-8CC1-EDD2DB84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0FCCB-BB86-4E4F-8EC8-C632BCE2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D8469-7DC1-4F67-B4A5-DD46A612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78436-2B1D-4B56-8026-B575E1E4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8C66F-8654-44D4-86ED-04C18098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75AB0-7539-460F-8EE7-7340C678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E3DF0-C1F1-46BE-8410-ACEF26F9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590C5-E5FB-4032-B2CD-6CA2A63E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7262-3539-41FB-B08C-4074E445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2A333-B46E-41F7-A2B6-EBCF67BF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6AA2-61CB-4B79-81E9-BE7B4061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5947-DADE-4958-AC81-7E028CB4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2339-66D3-4208-A313-7A602D50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ED9D-9150-44DF-9678-D07AB023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88000" y="6237360"/>
            <a:ext cx="23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07CA-294A-4349-88DE-08E564B9745A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-2815560" y="3291480"/>
            <a:ext cx="5905440" cy="2746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3200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2608-7955-46B7-83F4-948FED66BCC7}" type="slidenum"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body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dt" idx="3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6837480" y="189000"/>
            <a:ext cx="20476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000066"/>
                    </a:gs>
                  </a:gsLst>
                  <a:lin ang="10800000"/>
                </a:gradFill>
                <a:latin typeface="Arial"/>
              </a:rPr>
              <a:t>Communauté ACube</a:t>
            </a:r>
            <a:endParaRPr b="0" lang="en-US" sz="10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000066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95280" y="1413000"/>
            <a:ext cx="8497800" cy="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LogoSimple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485640" cy="47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9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23FD-B459-4922-86C3-9E69FAEB748A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308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666699"/>
                </a:solidFill>
                <a:latin typeface="Arial"/>
              </a:rPr>
              <a:t>Cette création est mise à disposition selon le Contrat Paternité - Pas d'Utilisation Commerciale - Partage des Conditions Initiales à l'Identique disponible en ligne http://creativecommons.org/licenses/by-nc-sa/2.0/fr/ ou par courrier postal à Creative Commons, 559 Nathan Abbott Way, Stanford, California 94305, US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LogoSimple" descr=""/>
          <p:cNvPicPr/>
          <p:nvPr/>
        </p:nvPicPr>
        <p:blipFill>
          <a:blip r:embed="rId2"/>
          <a:stretch/>
        </p:blipFill>
        <p:spPr>
          <a:xfrm>
            <a:off x="7467480" y="117360"/>
            <a:ext cx="1519200" cy="1482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5296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CC_SomeRightsReserved" descr=""/>
          <p:cNvPicPr/>
          <p:nvPr/>
        </p:nvPicPr>
        <p:blipFill>
          <a:blip r:embed="rId3"/>
          <a:stretch/>
        </p:blipFill>
        <p:spPr>
          <a:xfrm>
            <a:off x="1066680" y="5029200"/>
            <a:ext cx="838440" cy="295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6FC6-5630-4F74-8D6D-F89973AA5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Intitulé de la prés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187440" y="448308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ous-titres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Lieu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Date de la présentation – version x.y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Présentateu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itr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iveau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iveau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iveau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iveau 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iveau 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ésentation du 8 février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4:20:04Z</dcterms:created>
  <dc:creator/>
  <dc:description/>
  <dc:language>en-US</dc:language>
  <cp:lastModifiedBy>Pasquereau Gilles</cp:lastModifiedBy>
  <dcterms:modified xsi:type="dcterms:W3CDTF">2010-03-08T08:57:59Z</dcterms:modified>
  <cp:revision>13</cp:revision>
  <dc:subject/>
  <dc:title>Modèle de présentation PowerPoint</dc:title>
</cp:coreProperties>
</file>