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69464-B513-4FB4-B41C-08E190476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C949D-EB52-4024-9A58-864C152D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71E90-C701-4808-9624-5F976EAE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D43C9-321B-4472-8328-FEC2EE5FF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C360-F46C-4A3C-89AD-908D8F06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2FF7-526A-4C3E-AC27-7DF75BE9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2E1F-9644-4D3C-A423-C05036DA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38AC-6110-4E28-80A5-F85DB8EB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213E-6EEF-4A7D-8E2C-D437E0AD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4103-0E0B-48D5-AAD9-31CBD69E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0A6E-D543-4A12-AF20-2C5E67EC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34D5D-BF6C-41D2-A739-E0BA4E2F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CBCE5-2679-4162-9AA7-2BDBCA5E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A3C9-6F30-48A2-BFCA-63D633DE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653C-0AB4-4AFD-B867-6A7EE11B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5BCB-2D34-4ECE-BA47-A1D0372B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2C3C-484A-4628-A4A7-1B0FD5E36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13C7B-AA76-454E-B573-B2F64C106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71F60-213E-4F05-B0E7-9C8D60D5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97933-0626-4530-B311-AF7BDCC2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56B45-E69D-4CCD-9FB6-F95B5612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B4433-10B4-474E-96BB-9576D35B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841CF-B886-4D2E-A3D0-AA8F8750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D90DB-110C-428C-A51A-4EE01A19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1E0C0-69F8-481A-A820-DBCC9FC5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8BC71-0D04-45AD-BFAE-CB30EA0C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74AC7-5A0E-490B-8C3F-7B440454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19B3B-F7FD-4CC0-A206-18FF84EF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EDDA7-3D0F-4ACF-82AC-6C9DFF96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31704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165720" y="177300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836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31704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165720" y="4029480"/>
            <a:ext cx="27126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C7BBF-8228-4525-97D5-A96DFAAE2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35D34-9B12-4398-AA47-BAB4B06F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041AC-71FF-4F47-B208-653DF75C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94920" y="493200"/>
            <a:ext cx="8497800" cy="543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20AA8-9629-4170-AF01-BD84986A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B8316-5378-4436-9070-5D7122E9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85480" y="402948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7C23A-6ED2-483A-8B78-687082DB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5480" y="1773000"/>
            <a:ext cx="411120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8360" y="4029480"/>
            <a:ext cx="842472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EBCE5-180F-45D0-A4BB-06A20174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88000" y="6237360"/>
            <a:ext cx="23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5341-20E8-46C2-858E-94722B1CF6E3}" type="slidenum">
              <a:rPr b="0" lang="en-US" sz="1200" spc="-1" strike="noStrike">
                <a:solidFill>
                  <a:srgbClr val="000066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rot="5400000">
            <a:off x="-2815560" y="3291480"/>
            <a:ext cx="5905440" cy="2746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3200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3CE5-2BFF-4985-8079-E94C6E885382}" type="slidenum"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PlaceHolder 3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body"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dt" idx="3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 txBox="1"/>
          <p:nvPr/>
        </p:nvSpPr>
        <p:spPr>
          <a:xfrm>
            <a:off x="6837480" y="189000"/>
            <a:ext cx="20476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gradFill rotWithShape="0">
                  <a:gsLst>
                    <a:gs pos="0">
                      <a:srgbClr val="666699"/>
                    </a:gs>
                    <a:gs pos="100000">
                      <a:srgbClr val="000066"/>
                    </a:gs>
                  </a:gsLst>
                  <a:lin ang="10800000"/>
                </a:gradFill>
                <a:latin typeface="Arial"/>
              </a:rPr>
              <a:t>Communauté ACube</a:t>
            </a:r>
            <a:endParaRPr b="0" lang="en-US" sz="1000" spc="1" strike="noStrike">
              <a:ln w="0">
                <a:noFill/>
              </a:ln>
              <a:gradFill rotWithShape="0">
                <a:gsLst>
                  <a:gs pos="0">
                    <a:srgbClr val="666699"/>
                  </a:gs>
                  <a:gs pos="100000">
                    <a:srgbClr val="000066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395280" y="1413000"/>
            <a:ext cx="8497800" cy="0"/>
          </a:xfrm>
          <a:prstGeom prst="line">
            <a:avLst/>
          </a:prstGeom>
          <a:ln w="381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LogoSimple" descr=""/>
          <p:cNvPicPr/>
          <p:nvPr/>
        </p:nvPicPr>
        <p:blipFill>
          <a:blip r:embed="rId2"/>
          <a:stretch/>
        </p:blipFill>
        <p:spPr>
          <a:xfrm>
            <a:off x="8458200" y="6248520"/>
            <a:ext cx="485640" cy="47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6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9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3473-4881-41CF-A9AF-FBCD2C7B5835}" type="slidenum">
              <a:rPr b="0" lang="en-US" sz="1200" spc="-1" strike="noStrike">
                <a:solidFill>
                  <a:srgbClr val="000066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63086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666699"/>
                </a:solidFill>
                <a:latin typeface="Arial"/>
              </a:rPr>
              <a:t>Cette création est mise à disposition selon le Contrat Paternité - Pas d'Utilisation Commerciale - Partage des Conditions Initiales à l'Identique disponible en ligne http://creativecommons.org/licenses/by-nc-sa/2.0/fr/ ou par courrier postal à Creative Commons, 559 Nathan Abbott Way, Stanford, California 94305, US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LogoSimple" descr=""/>
          <p:cNvPicPr/>
          <p:nvPr/>
        </p:nvPicPr>
        <p:blipFill>
          <a:blip r:embed="rId2"/>
          <a:stretch/>
        </p:blipFill>
        <p:spPr>
          <a:xfrm>
            <a:off x="7467480" y="117360"/>
            <a:ext cx="1519200" cy="1482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15296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CC_SomeRightsReserved" descr=""/>
          <p:cNvPicPr/>
          <p:nvPr/>
        </p:nvPicPr>
        <p:blipFill>
          <a:blip r:embed="rId3"/>
          <a:stretch/>
        </p:blipFill>
        <p:spPr>
          <a:xfrm>
            <a:off x="1066680" y="5029200"/>
            <a:ext cx="838440" cy="2952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7d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7d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52E1-3391-4827-9850-16A2DDB36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Intitulé de la présent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187440" y="448308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ous-titres de la présentatio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Lieu de la présentation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Date de la présentation – version x.y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Présentateur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493200"/>
            <a:ext cx="84978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itre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iveau 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iveau 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iveau 3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iveau 4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Niveau 5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ésentation du 8 février 200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4:20:04Z</dcterms:created>
  <dc:creator/>
  <dc:description/>
  <dc:language>en-US</dc:language>
  <cp:lastModifiedBy>Pasquereau Gilles</cp:lastModifiedBy>
  <dcterms:modified xsi:type="dcterms:W3CDTF">2010-03-08T08:57:59Z</dcterms:modified>
  <cp:revision>13</cp:revision>
  <dc:subject/>
  <dc:title>Modèle de présentation PowerPoint</dc:title>
</cp:coreProperties>
</file>