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0F0C-72ED-440F-BA7E-EF204A2C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3FB0-C9DA-4DC0-855C-CEC756E4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392C2-BEC1-4BF0-BD60-977FB17F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FA60-23B9-46C4-BE6F-DE16E98C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1D14-7660-4F40-960D-3A14950C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F15A-01D3-42D3-A48D-CEF44B3C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1E57-E3A2-4724-B9EB-0C70DC22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42FC-DA15-410A-9A64-A1A409C2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D83F-3AB5-4660-89AD-2D0E7BBF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916F-D3C7-43A1-B4B4-7F7F8EAC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A2AF-B221-481C-A398-F711AA9E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EFD8B-1588-44DA-9326-92531130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9350-B2C3-4F9C-81A9-AD224931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A1C4-D758-4A55-8FA9-116E2549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5B8E-AE51-4AE7-8528-C84BE747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860C-A638-4B46-9143-C53C5D5D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5CBC-90D7-4559-9F05-F6C947C0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168D3-FE96-4221-939B-85CE9126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D0088-8C6D-4F87-BB79-158AFEA6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8B2E2-8213-4C38-B80D-D3A0E337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C0426-0588-4AE2-ADC3-9E506E64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F32EB-BAEA-48F5-8378-08E1AB32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6E19-1BE8-45E8-B7AA-AB62FAC6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7753B-E1E2-4624-BC96-47AD3CD4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EB345-044E-40AB-B5D1-A0DE90A8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F7B2F-D02E-4D3F-891A-8C3F391A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D5CCA-BB00-4D7F-A764-61A667D5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6889A-327D-45AD-957A-F73DAE39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AED5E-A6A8-45C8-BFDA-E700C172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982CB-EFBD-4C96-8B21-AF3633BC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9CD30-D99A-4B38-953C-90AAE0E0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C515C-3F9E-4F7F-A119-77370BA0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26787-FBFE-412A-A2D1-845632E3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9820-C0B7-4943-8E76-3D7EFEC6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BF06-090F-4B9D-BA06-8351F9BB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1371-B62B-40C5-B4F3-03354C8F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88000" y="6237360"/>
            <a:ext cx="23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49C4-C163-4426-BC67-FBFF7E0F7A7A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-2815560" y="3291480"/>
            <a:ext cx="5905440" cy="2746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3200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AC56-4EB1-4847-8C93-A88A4726D269}" type="slidenum"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body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dt" idx="3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 txBox="1"/>
          <p:nvPr/>
        </p:nvSpPr>
        <p:spPr>
          <a:xfrm>
            <a:off x="6837480" y="189000"/>
            <a:ext cx="20476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000066"/>
                    </a:gs>
                  </a:gsLst>
                  <a:lin ang="10800000"/>
                </a:gradFill>
                <a:latin typeface="Arial"/>
              </a:rPr>
              <a:t>Communauté ACube</a:t>
            </a:r>
            <a:endParaRPr b="0" lang="en-US" sz="10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000066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95280" y="1413000"/>
            <a:ext cx="8497800" cy="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LogoSimple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485640" cy="47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9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00DB-4120-4F7F-AA91-CCD6E54BEC97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308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666699"/>
                </a:solidFill>
                <a:latin typeface="Arial"/>
              </a:rPr>
              <a:t>Cette création est mise à disposition selon le Contrat Paternité - Pas d'Utilisation Commerciale - Partage des Conditions Initiales à l'Identique disponible en ligne http://creativecommons.org/licenses/by-nc-sa/2.0/fr/ ou par courrier postal à Creative Commons, 559 Nathan Abbott Way, Stanford, California 94305, US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LogoSimple" descr=""/>
          <p:cNvPicPr/>
          <p:nvPr/>
        </p:nvPicPr>
        <p:blipFill>
          <a:blip r:embed="rId2"/>
          <a:stretch/>
        </p:blipFill>
        <p:spPr>
          <a:xfrm>
            <a:off x="7467480" y="117360"/>
            <a:ext cx="1519200" cy="1482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5296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CC_SomeRightsReserved" descr=""/>
          <p:cNvPicPr/>
          <p:nvPr/>
        </p:nvPicPr>
        <p:blipFill>
          <a:blip r:embed="rId3"/>
          <a:stretch/>
        </p:blipFill>
        <p:spPr>
          <a:xfrm>
            <a:off x="1066680" y="5029200"/>
            <a:ext cx="838440" cy="295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85EC-EC9D-4B98-85B5-9D9A57BE7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Intitulé de la prés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187440" y="448308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ous-titres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Lieu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Date de la présentation – version x.y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Présentateu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itr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iveau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iveau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iveau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iveau 4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iveau 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ésentation du 8 février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4:20:04Z</dcterms:created>
  <dc:creator/>
  <dc:description/>
  <dc:language>en-US</dc:language>
  <cp:lastModifiedBy>Pasquereau Gilles</cp:lastModifiedBy>
  <dcterms:modified xsi:type="dcterms:W3CDTF">2010-03-08T08:57:59Z</dcterms:modified>
  <cp:revision>13</cp:revision>
  <dc:subject/>
  <dc:title>Modèle de présentation PowerPoint</dc:title>
</cp:coreProperties>
</file>