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57AF-5686-49CB-A29B-3BBB0D8ED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0963-C4E3-4147-B618-9238910B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8F61-7452-40FE-86D7-D9276E4B6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7FB4-64AB-407F-A590-59D66DF8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3A52-6515-49E8-B931-354DA8EE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84CD-3DCB-418A-85C0-1AEEA0B7A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9D2-D20E-4596-A7D2-1FCE62C5D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DB2-6791-43D2-B2FA-E58297E8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0FA9B-3403-420A-82AC-C1A4962F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DA00D-F3B1-4B2A-AB83-4353E8DB6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ADFF-3CB9-4BAB-9FA6-329F0A4CC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C6F21-B52A-479C-B512-A709B269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3B5AE-F7FB-4CB0-8049-25F7CBC673E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18901" t="0" r="-313" b="0"/>
          <a:stretch/>
        </p:blipFill>
        <p:spPr>
          <a:xfrm>
            <a:off x="179280" y="187200"/>
            <a:ext cx="8785440" cy="66121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903000" y="6165720"/>
            <a:ext cx="156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CD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-480" t="40994" r="81352" b="6000"/>
          <a:stretch/>
        </p:blipFill>
        <p:spPr>
          <a:xfrm>
            <a:off x="900000" y="333360"/>
            <a:ext cx="7417080" cy="6264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1360" y="260280"/>
            <a:ext cx="481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La table paramètres englobera toutes les tables de paramét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-753" t="0" r="-34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800760" y="4302000"/>
            <a:ext cx="181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Projet MDP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MPD_CakePHP V.0.1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9999"/>
                </a:solidFill>
                <a:latin typeface="Arial"/>
              </a:rPr>
              <a:t>CG 54 – 22/06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3T08:18:05Z</dcterms:created>
  <dc:creator>ANTHONY SCHLEMER</dc:creator>
  <dc:description/>
  <dc:language>en-US</dc:language>
  <cp:lastModifiedBy>ANTHONY SCHLEMER</cp:lastModifiedBy>
  <dcterms:modified xsi:type="dcterms:W3CDTF">2007-07-03T09:22:53Z</dcterms:modified>
  <cp:revision>10</cp:revision>
  <dc:subject/>
  <dc:title>Diapositive 1</dc:title>
</cp:coreProperties>
</file>