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4664-E822-4E34-9E13-090C9396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B417-E3E2-41B5-A3A1-FA456588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5BC9-6D06-450B-9F30-B747117A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285A-0D2C-4186-BBBB-027FA128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D047-0EED-4EE5-82E0-BA03443E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8D2C-DBDC-4C7F-9C94-90FA9CDF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61F6-1B2C-4AE1-B1EC-15068B37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94B2-09FD-446B-8E72-BC595772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8350-82B3-4F7C-B092-10CEEFFB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766E-D69C-4757-AEDF-6F430DE1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00FD-D2F2-4006-AB55-84E99FD3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B3F-DFC1-413F-8F57-B5836A93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CD22-1F03-42C0-B120-4DB088D68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2739" t="0" r="-27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9:00:17Z</dcterms:created>
  <dc:creator>ANTHONY SCHLEMER</dc:creator>
  <dc:description/>
  <dc:language>en-US</dc:language>
  <cp:lastModifiedBy>ANTHONY SCHLEMER</cp:lastModifiedBy>
  <dcterms:modified xsi:type="dcterms:W3CDTF">2008-01-08T09:00:29Z</dcterms:modified>
  <cp:revision>1</cp:revision>
  <dc:subject/>
  <dc:title>Diapositive 1</dc:title>
</cp:coreProperties>
</file>