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4B1A-BE20-4CAF-9BF2-0B7371DF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181-CC66-478A-942C-12B87FD8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A3E-F4F8-463B-B288-E17DC9CC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A8E9-EEB5-4BF4-8A46-7F9F9596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2BF0-284E-4C8A-8225-DC80CC05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E4D4-0C10-47C4-87B1-117BE6E8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77B-72B4-43D1-80A8-E1CCCF59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9CDD-26A1-4ED3-B08A-F1D3982C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11C9-88A6-4BD2-A41F-BDBBC904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5634-9A59-4E38-9832-C460F026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610-2EC2-43E7-904A-E727219C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3B2-9C66-4AC7-B8FE-9D995053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8A99-CF38-4C02-AE2D-902BED93F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1831" t="0" r="-183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8:29:17Z</dcterms:created>
  <dc:creator>ANTHONY SCHLEMER</dc:creator>
  <dc:description/>
  <dc:language>en-US</dc:language>
  <cp:lastModifiedBy>ANTHONY SCHLEMER</cp:lastModifiedBy>
  <dcterms:modified xsi:type="dcterms:W3CDTF">2008-01-08T08:29:42Z</dcterms:modified>
  <cp:revision>1</cp:revision>
  <dc:subject/>
  <dc:title>Diapositive 1</dc:title>
</cp:coreProperties>
</file>