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C62-29AF-432A-97EB-B3135533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D67-49ED-48C6-B2B5-2F2DB883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42C-45E6-4715-81DF-A628364F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0D1-681F-46A0-BF00-160B84C2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7920-414E-418C-A2AD-CCC582D7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EFE-2C54-4991-8B60-BB1BD668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57F-5AD8-49D1-8DC3-E98C6C58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3BD-6C8E-41C1-91D8-FAC97430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090-20C6-475E-BB96-E23166E8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0A1-8623-4DF7-B573-3D2EAB60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8891-EA46-41FF-9639-6C98345F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CFF-33BA-492B-B6E9-10C131F6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3C4E-E2BD-46C2-85FA-EA20B34AD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831" t="0" r="-183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8:29:17Z</dcterms:created>
  <dc:creator>ANTHONY SCHLEMER</dc:creator>
  <dc:description/>
  <dc:language>en-US</dc:language>
  <cp:lastModifiedBy>ANTHONY SCHLEMER</cp:lastModifiedBy>
  <dcterms:modified xsi:type="dcterms:W3CDTF">2008-01-08T08:29:42Z</dcterms:modified>
  <cp:revision>1</cp:revision>
  <dc:subject/>
  <dc:title>Diapositive 1</dc:title>
</cp:coreProperties>
</file>