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26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8.jpeg" ContentType="image/jpeg"/>
  <Override PartName="/ppt/media/image30.png" ContentType="image/png"/>
  <Override PartName="/ppt/media/image14.png" ContentType="image/png"/>
  <Override PartName="/ppt/media/image10.jpeg" ContentType="image/jpeg"/>
  <Override PartName="/ppt/media/image9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12.jpeg" ContentType="image/jpeg"/>
  <Override PartName="/ppt/media/image34.wmf" ContentType="image/x-wmf"/>
  <Override PartName="/ppt/media/image6.jpeg" ContentType="image/jpeg"/>
  <Override PartName="/ppt/media/image36.wmf" ContentType="image/x-wmf"/>
  <Override PartName="/ppt/media/image37.wmf" ContentType="image/x-wmf"/>
  <Override PartName="/ppt/media/image39.wmf" ContentType="image/x-wmf"/>
  <Override PartName="/ppt/media/image40.png" ContentType="image/png"/>
  <Override PartName="/ppt/media/image3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13.jpeg" ContentType="image/jpeg"/>
  <Override PartName="/ppt/media/image29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image1.png" ContentType="image/png"/>
  <Override PartName="/ppt/media/image11.jpeg" ContentType="image/jpe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rc Hallak" initials="MH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6-05-15T11:33:37.732000000" idx="1">
    <p:pos x="10" y="10"/>
    <p:text/>
  </p:cm>
</p:cmLst>
</file>

<file path=ppt/comments/comment3.xml><?xml version="1.0" encoding="utf-8"?>
<p:cmLst xmlns:p="http://schemas.openxmlformats.org/presentationml/2006/main">
  <p:cm authorId="0" dt="2006-05-15T11:33:37.732000000" idx="2">
    <p:pos x="10" y="10"/>
    <p:text/>
  </p:cm>
</p:cmLst>
</file>

<file path=ppt/comments/comment4.xml><?xml version="1.0" encoding="utf-8"?>
<p:cmLst xmlns:p="http://schemas.openxmlformats.org/presentationml/2006/main">
  <p:cm authorId="0" dt="2006-05-15T11:33:37.732000000" idx="3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26EB-87E0-4605-B018-0FFB8F30C6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L’architecture technique 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d’un système décisionnel est composé des éléments suivants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centre du système, une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base de donné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l’alimenter, au moins un outil d’extraction, transformation et de chargement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(ET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Pour restituer les informations, au moins un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outil de restitu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choix de ces outils dépend des performances, fonctionnalités, et ergonomie attendues, de l’infrastructure nécessaire à leur bon fonctionnement et des coûts. Il faut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Coller au maximum aux fonctions stand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Rechercher les packages communic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Étudier leur intégration avec le reste du S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pprécier la capacité à évolu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Estimer les coûts directs et récurr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des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performances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mesur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volume actuel / fut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effets de seu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bande passante nécess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monter en charge selon les # lo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’utilisation des machines /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à // les trait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fonctionnel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évalu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connexions aux sources de données (ODBC, Connecteurs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apacité aux transform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simulation et d’analy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restitut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fonctions de diffusion (Portail Web, Abonnements mail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u contexte international (multi-langues, polices, dates et nombre,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évolutivité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appréci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dynamisme des édite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atibilité de version des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accords croi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facilité de maintenance et de déploi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vers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méta-données (CW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 paramétr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Au niveau </a:t>
            </a:r>
            <a:r>
              <a:rPr b="1" lang="fr-FR" sz="800" spc="-1" strike="noStrike">
                <a:solidFill>
                  <a:srgbClr val="000000"/>
                </a:solidFill>
                <a:latin typeface="Tahoma"/>
              </a:rPr>
              <a:t>Intégration dans le SI</a:t>
            </a: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, on juge 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complétude des # produ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modules de communication et d’échange (API, XML, MDX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ystèmes d’exploitation accept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es structures de données autorisées (bases de données, fichiers, cubes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ahoma"/>
              </a:rPr>
              <a:t>La gestion des traitements par un ordonnanceur ti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B9A-B771-4ACE-B5CC-7FE571A3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4A1-2B5F-406D-BAA1-84DEE986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9E0-830C-49F7-B797-51F77F8F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133-831A-4B3A-8442-66028D6C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DB9D-7EA5-4978-9A7C-D204AC81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BF68-680B-4305-A7F8-CDDE11F6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EC29-BB18-402C-873A-A406159E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5BAE-5A23-4F23-BFBB-58C506F5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6864-3D7C-46B9-9C73-ECAE6D06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D452-CD3C-48F5-824B-D033CEE0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8148-CC0E-4D55-98E9-7C52CA76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609-53F9-4D55-856D-0F6861A8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9754-EE00-4DDF-A7B6-D4307198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98FC-A70F-46AA-BD91-66ECC653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79DE-D6CE-47E8-90CC-E50E4B04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66E2-E6DD-4F83-9312-7C71AFAC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9348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9120" y="179820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3784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9348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9120" y="4053960"/>
            <a:ext cx="24336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922C-2175-46A3-AB31-CB8BB3E1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599-B0D2-4941-98D7-9665DB77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38B-858B-4D52-B56B-A0027457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C1B-6E2E-4954-AC3E-0E742D25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37840" y="574200"/>
            <a:ext cx="75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A1CA-310C-4A5B-810B-69BD07C6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A32-D19F-4F75-A9F5-227663F7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10720" y="405396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FCB-7CB3-43AB-A2ED-F98FEB92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10720" y="1798200"/>
            <a:ext cx="368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7840" y="4053960"/>
            <a:ext cx="75582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CDD-9EBB-4035-8BE3-1A4F72FA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0760" cy="53964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57200" indent="-45720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3CF9-11AD-4C7B-889E-4255FBBED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17840"/>
            <a:ext cx="9140760" cy="4336920"/>
          </a:xfrm>
          <a:prstGeom prst="rect">
            <a:avLst/>
          </a:prstGeom>
          <a:solidFill>
            <a:srgbClr val="66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0760" cy="144360"/>
          </a:xfrm>
          <a:prstGeom prst="rect">
            <a:avLst/>
          </a:prstGeom>
          <a:solidFill>
            <a:srgbClr val="bfe1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4560" y="1295280"/>
            <a:ext cx="3735360" cy="99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207120"/>
            <a:ext cx="914076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297480" y="6548400"/>
            <a:ext cx="14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1438200" y="6548400"/>
            <a:ext cx="46785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Événement, lieu,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916400" y="6548400"/>
            <a:ext cx="107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D715-3683-4872-BC93-E17AFBF55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f091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e1f091"/>
              </a:solidFill>
              <a:latin typeface="Arial"/>
            </a:endParaRPr>
          </a:p>
          <a:p>
            <a:pPr lvl="1" marL="457200" indent="0" algn="ctr">
              <a:lnSpc>
                <a:spcPts val="2599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SzPct val="80000"/>
              <a:buFont typeface="Webding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c-rouen.fr/ecoles/aragon/conc2001/vert/ser_verte.htm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images.google.fr/imgres?imgurl=europa.eu.int/survey/feb-mar00/results/23.gif&amp;imgrefurl=http://europa.eu.int/survey/feb-mar00/results/survey_en.htm&amp;h=188&amp;w=282&amp;prev=/images%3Fq%3Dmoteur%26start%3D160%26svnum%3D10%26hl%3Dfr%26sa%3DN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fr/imgres?imgurl=europa.eu.int/survey/jun-jul99/results/8.gif&amp;imgrefurl=http://europa.eu.int/survey/jun-jul99/results/survey_en.htm&amp;h=181&amp;w=320&amp;prev=/images%3Fq%3Dmoteur%26start%3D320%26svnum%3D10%26hl%3Dfr%26sa%3DN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fr/imgres?imgurl=www.apple.com/fr/webobjects/images/object_mapping.gif&amp;imgrefurl=http://www.apple.com/fr/webobjects/&amp;h=145&amp;w=160&amp;prev=/images%3Fq%3Dmoteur%26start%3D320%26svnum%3D10%26hl%3Dfr%26sa%3DN" TargetMode="External"/><Relationship Id="rId8" Type="http://schemas.openxmlformats.org/officeDocument/2006/relationships/image" Target="../media/image17.jpeg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image" Target="../media/image30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7.wmf"/><Relationship Id="rId16" Type="http://schemas.openxmlformats.org/officeDocument/2006/relationships/image" Target="../media/image30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8.wmf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7840" y="2878200"/>
            <a:ext cx="75582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tocole d’échange de données MDPH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3/03/200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880" y="11970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)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4560" y="314172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8000" y="4076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03240" y="18446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300720" y="2421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31320" y="357336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7640" y="400536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4400" y="443700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in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FB2-BB38-43DF-A418-9CEF34C63A3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8320" y="1268280"/>
            <a:ext cx="43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)Convention de prest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c partenaire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4920" y="508464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MSA, CPAM,C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AS, Association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836360" y="3357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10880" y="285264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enaires sous tra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227640" y="3429000"/>
            <a:ext cx="2160720" cy="16160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904400" y="3429000"/>
            <a:ext cx="40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e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demande de pre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5364000" y="1341360"/>
            <a:ext cx="781200" cy="8287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12000" y="1844640"/>
            <a:ext cx="1008000" cy="1079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03240" y="1484280"/>
            <a:ext cx="19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22560" y="486900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d’activ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986-6149-423D-8FD2-8F7D97F6797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0120" y="1268280"/>
            <a:ext cx="41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7) Convention d’é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la personne handicap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7040" y="436572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 ANPE, A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ablissements de soi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inets d’experts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907640" y="4149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234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2720" y="486900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23640" y="44370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fin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21840" y="486900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’informations financi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2232360" cy="1593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195640" y="3500280"/>
            <a:ext cx="36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5840" y="306864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e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38920" y="3716280"/>
            <a:ext cx="25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 d’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12F-195C-4FBD-935A-744EE85D633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752004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1.8) Des groupes de travail fonctionnels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6920" y="126792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e proposition de groupes de travail en parallèle aux groupes techniques et visant à analyser les processus, dans la mesure du possible à les simplifier et ceci afin d’envisager leur dématérialisations doivent se mettre en place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On peut imaginer la mise ne place de grou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f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maladie et médico-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utour de la sphère 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300-0CAB-43CB-BECA-BB33CE7E7F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2) Trois exemples de flux d’échanges</a:t>
            </a:r>
            <a:br>
              <a:rPr sz="2800"/>
            </a:b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7840" y="17982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à vocation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univoque 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lux bilatéral à voca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78C-8B03-4F4B-8870-1E234D973EC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140360" y="288756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492360" y="1197000"/>
            <a:ext cx="3167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2360" y="1320840"/>
            <a:ext cx="31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I CN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Solution technique envisagée (partenariat CNAV)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GBD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ase de données 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TL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ata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quêteur :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Business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1) Un flux à vocation pilotage :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SI décisionnel CNSA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125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6" idx="4"/>
            <a:endCxn id="263" idx="1"/>
          </p:cNvCxnSpPr>
          <p:nvPr/>
        </p:nvCxnSpPr>
        <p:spPr>
          <a:xfrm>
            <a:off x="1331640" y="1341000"/>
            <a:ext cx="216108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324000" y="177336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8" idx="4"/>
            <a:endCxn id="263" idx="1"/>
          </p:cNvCxnSpPr>
          <p:nvPr/>
        </p:nvCxnSpPr>
        <p:spPr>
          <a:xfrm>
            <a:off x="1331640" y="1989000"/>
            <a:ext cx="216108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1692360" y="13413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32000" y="21160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2349360"/>
            <a:ext cx="100800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4"/>
            <a:endCxn id="263" idx="1"/>
          </p:cNvCxnSpPr>
          <p:nvPr/>
        </p:nvCxnSpPr>
        <p:spPr>
          <a:xfrm>
            <a:off x="1331640" y="2565000"/>
            <a:ext cx="216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187280" y="2708280"/>
            <a:ext cx="10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3357720"/>
            <a:ext cx="100800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5" idx="4"/>
            <a:endCxn id="263" idx="1"/>
          </p:cNvCxnSpPr>
          <p:nvPr/>
        </p:nvCxnSpPr>
        <p:spPr>
          <a:xfrm flipV="1">
            <a:off x="1402920" y="3212280"/>
            <a:ext cx="20898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535040" y="321300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4005360"/>
            <a:ext cx="1008000" cy="93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férenti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MS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08120" y="38606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8" idx="4"/>
            <a:endCxn id="263" idx="1"/>
          </p:cNvCxnSpPr>
          <p:nvPr/>
        </p:nvCxnSpPr>
        <p:spPr>
          <a:xfrm flipV="1">
            <a:off x="1402920" y="3212640"/>
            <a:ext cx="208980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3" idx="3"/>
            <a:endCxn id="282" idx="1"/>
          </p:cNvCxnSpPr>
          <p:nvPr/>
        </p:nvCxnSpPr>
        <p:spPr>
          <a:xfrm>
            <a:off x="6659640" y="3213000"/>
            <a:ext cx="289440" cy="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6942240" y="2565360"/>
            <a:ext cx="2038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inataires (L247.2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N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5013360"/>
            <a:ext cx="1008000" cy="93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F, 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G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3" idx="4"/>
            <a:endCxn id="263" idx="1"/>
          </p:cNvCxnSpPr>
          <p:nvPr/>
        </p:nvCxnSpPr>
        <p:spPr>
          <a:xfrm flipV="1">
            <a:off x="1331640" y="3212640"/>
            <a:ext cx="2161080" cy="226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824120" y="478008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x N°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A04-567A-481E-83B4-A3DB534AB52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8400" y="55080"/>
            <a:ext cx="719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L’axe technique décisionnel</a:t>
            </a:r>
            <a:endParaRPr b="1" lang="en-US" sz="32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54360" y="5987880"/>
            <a:ext cx="75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EQUE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26200" y="3298680"/>
            <a:ext cx="1344600" cy="1731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141640"/>
            <a:ext cx="7535880" cy="70920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YSTEM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PERATIONN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492280"/>
            <a:ext cx="4032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27640" y="2492280"/>
            <a:ext cx="40500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34120" y="2506680"/>
            <a:ext cx="403200" cy="36972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1520" y="2928960"/>
            <a:ext cx="7400880" cy="431640"/>
          </a:xfrm>
          <a:prstGeom prst="flowChartMerg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EXTRACTION-TRANSFORMATION-CHAR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32160" y="3400560"/>
            <a:ext cx="1413000" cy="57924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OCK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N SG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5896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321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71960" y="459756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13200" y="4473720"/>
            <a:ext cx="538200" cy="43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95560" y="4041720"/>
            <a:ext cx="2152800" cy="493920"/>
          </a:xfrm>
          <a:prstGeom prst="downArrowCallout">
            <a:avLst>
              <a:gd name="adj1" fmla="val 108975"/>
              <a:gd name="adj2" fmla="val 108965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PEC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5320" y="4721400"/>
            <a:ext cx="88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MA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18440" y="3608280"/>
            <a:ext cx="1361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Entrepôt de 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03560" y="5092560"/>
            <a:ext cx="3782880" cy="432000"/>
          </a:xfrm>
          <a:prstGeom prst="downArrowCallout">
            <a:avLst>
              <a:gd name="adj1" fmla="val 218937"/>
              <a:gd name="adj2" fmla="val 218917"/>
              <a:gd name="adj3" fmla="val 16667"/>
              <a:gd name="adj4" fmla="val 6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RE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loupe.gif (3148 octet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7720" y="5462640"/>
            <a:ext cx="415800" cy="525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663880" y="5710320"/>
            <a:ext cx="6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42400" y="575928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RAP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78200" y="5597640"/>
            <a:ext cx="696960" cy="428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58960" y="5524560"/>
            <a:ext cx="1119240" cy="585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76360" y="5380200"/>
            <a:ext cx="804960" cy="674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730600" y="213372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94240" y="2141640"/>
            <a:ext cx="61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MDPH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59320" y="214164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férenti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92000" y="2133720"/>
            <a:ext cx="8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Compta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9452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15760" y="2157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Autres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Flu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7640" y="3979800"/>
            <a:ext cx="139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SYSTE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Verdana"/>
              </a:rPr>
              <a:t>DECISIO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94400" y="3608280"/>
            <a:ext cx="808200" cy="433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8360" y="4103640"/>
            <a:ext cx="95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Métadonné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94400" y="4349880"/>
            <a:ext cx="808200" cy="43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45160" y="3670200"/>
            <a:ext cx="148104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1400" y="4659480"/>
            <a:ext cx="874800" cy="0"/>
          </a:xfrm>
          <a:prstGeom prst="line">
            <a:avLst/>
          </a:prstGeom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6086160" y="5094360"/>
            <a:ext cx="538200" cy="517320"/>
            <a:chOff x="6086160" y="5094360"/>
            <a:chExt cx="538200" cy="517320"/>
          </a:xfrm>
        </p:grpSpPr>
        <p:pic>
          <p:nvPicPr>
            <p:cNvPr id="325" name="" descr=""/>
            <p:cNvPicPr/>
            <p:nvPr/>
          </p:nvPicPr>
          <p:blipFill>
            <a:blip r:embed="rId9"/>
            <a:stretch/>
          </p:blipFill>
          <p:spPr>
            <a:xfrm>
              <a:off x="6244920" y="5094360"/>
              <a:ext cx="379440" cy="3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086160" y="5380560"/>
              <a:ext cx="476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be0e3"/>
                  </a:solidFill>
                  <a:latin typeface="Verdana"/>
                </a:rPr>
                <a:t>MAI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982200" y="5106960"/>
            <a:ext cx="445320" cy="505080"/>
            <a:chOff x="6982200" y="5106960"/>
            <a:chExt cx="445320" cy="505080"/>
          </a:xfrm>
        </p:grpSpPr>
        <p:pic>
          <p:nvPicPr>
            <p:cNvPr id="328" name="" descr=""/>
            <p:cNvPicPr/>
            <p:nvPr/>
          </p:nvPicPr>
          <p:blipFill>
            <a:blip r:embed="rId10"/>
            <a:stretch/>
          </p:blipFill>
          <p:spPr>
            <a:xfrm>
              <a:off x="7035120" y="5106960"/>
              <a:ext cx="392400" cy="3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982200" y="5380920"/>
              <a:ext cx="43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cc00"/>
                  </a:solidFill>
                  <a:latin typeface="Verdana"/>
                </a:rPr>
                <a:t>WE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527520" y="5057640"/>
            <a:ext cx="512640" cy="554040"/>
            <a:chOff x="6527520" y="5057640"/>
            <a:chExt cx="512640" cy="554040"/>
          </a:xfrm>
        </p:grpSpPr>
        <p:pic>
          <p:nvPicPr>
            <p:cNvPr id="331" name="" descr=""/>
            <p:cNvPicPr/>
            <p:nvPr/>
          </p:nvPicPr>
          <p:blipFill>
            <a:blip r:embed="rId11"/>
            <a:stretch/>
          </p:blipFill>
          <p:spPr>
            <a:xfrm>
              <a:off x="6638760" y="5057640"/>
              <a:ext cx="40140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527520" y="5380560"/>
              <a:ext cx="363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ff"/>
                  </a:solidFill>
                  <a:latin typeface="Verdana"/>
                </a:rPr>
                <a:t>C/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5364000" y="2492280"/>
            <a:ext cx="403560" cy="370080"/>
          </a:xfrm>
          <a:prstGeom prst="ca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02160" y="2133720"/>
            <a:ext cx="56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SMS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173640" y="352440"/>
            <a:ext cx="2563920" cy="1506600"/>
            <a:chOff x="6173640" y="352440"/>
            <a:chExt cx="2563920" cy="1506600"/>
          </a:xfrm>
        </p:grpSpPr>
        <p:sp>
          <p:nvSpPr>
            <p:cNvPr id="336" name=""/>
            <p:cNvSpPr/>
            <p:nvPr/>
          </p:nvSpPr>
          <p:spPr>
            <a:xfrm>
              <a:off x="6173640" y="969840"/>
              <a:ext cx="210960" cy="2282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518680" y="832320"/>
              <a:ext cx="218880" cy="168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264720" y="352440"/>
              <a:ext cx="2470680" cy="1506600"/>
              <a:chOff x="6264720" y="352440"/>
              <a:chExt cx="2470680" cy="1506600"/>
            </a:xfrm>
          </p:grpSpPr>
          <p:sp>
            <p:nvSpPr>
              <p:cNvPr id="339" name=""/>
              <p:cNvSpPr/>
              <p:nvPr/>
            </p:nvSpPr>
            <p:spPr>
              <a:xfrm>
                <a:off x="6738840" y="1378080"/>
                <a:ext cx="935640" cy="2206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35240" y="1070280"/>
                <a:ext cx="938160" cy="25596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413040" y="478440"/>
                <a:ext cx="282240" cy="112428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41720" y="478440"/>
                <a:ext cx="927360" cy="24372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38840" y="775080"/>
                <a:ext cx="932760" cy="243000"/>
              </a:xfrm>
              <a:prstGeom prst="rect">
                <a:avLst/>
              </a:prstGeom>
              <a:solidFill>
                <a:srgbClr val="e6e6e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66"/>
                    </a:solidFill>
                    <a:latin typeface="Comic Sans MS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72240" y="5716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47240" y="570960"/>
                <a:ext cx="37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0800000">
                <a:off x="6458040" y="532800"/>
                <a:ext cx="214560" cy="9590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450840" y="176220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392880" y="1084320"/>
                <a:ext cx="6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718760" y="567000"/>
                <a:ext cx="720" cy="89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675120" y="873720"/>
                <a:ext cx="11952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81800" y="871560"/>
                <a:ext cx="334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71840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80920" y="18104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64720" y="352440"/>
                <a:ext cx="2372400" cy="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8633880" y="356040"/>
                <a:ext cx="0" cy="474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80560" y="1195560"/>
                <a:ext cx="0" cy="619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7384320" y="1455480"/>
                <a:ext cx="333720" cy="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381800" y="1180440"/>
                <a:ext cx="336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77060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001360" y="831240"/>
                <a:ext cx="18144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95168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18244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234640" y="831240"/>
                <a:ext cx="226800" cy="1652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770600" y="1037160"/>
                <a:ext cx="704520" cy="83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463960" y="90900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18400" y="1075320"/>
                <a:ext cx="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8634240" y="1005840"/>
                <a:ext cx="2520" cy="7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483040" y="1081440"/>
                <a:ext cx="148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96440" y="78300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64720" y="352440"/>
                <a:ext cx="0" cy="61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50840" y="1633320"/>
                <a:ext cx="2284560" cy="96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284520" y="1679040"/>
                <a:ext cx="17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98240" y="486000"/>
                <a:ext cx="583200" cy="1713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98240" y="108396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81600" y="118044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1120" y="1378080"/>
                <a:ext cx="583200" cy="1713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77280" y="1450080"/>
                <a:ext cx="11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601-E013-42B6-990A-A4CBE42722B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18920" y="260280"/>
            <a:ext cx="72723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.2) Un flux univoque:</a:t>
            </a:r>
            <a:br>
              <a:rPr sz="1600"/>
            </a:b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proposition de serveur de formulaire «Projet DGME»</a:t>
            </a:r>
            <a:endParaRPr b="1" lang="en-US" sz="1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03280" y="2732040"/>
            <a:ext cx="4824360" cy="14335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16360" y="3021120"/>
            <a:ext cx="1452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Rés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serveur" descr=""/>
          <p:cNvPicPr/>
          <p:nvPr/>
        </p:nvPicPr>
        <p:blipFill>
          <a:blip r:embed="rId2"/>
          <a:stretch/>
        </p:blipFill>
        <p:spPr>
          <a:xfrm>
            <a:off x="1332000" y="1508040"/>
            <a:ext cx="852480" cy="955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rot="17369400">
            <a:off x="945000" y="2902680"/>
            <a:ext cx="2906640" cy="981360"/>
          </a:xfrm>
          <a:custGeom>
            <a:avLst/>
            <a:gdLst>
              <a:gd name="textAreaLeft" fmla="*/ 508680 w 2906640"/>
              <a:gd name="textAreaRight" fmla="*/ 2107440 w 2906640"/>
              <a:gd name="textAreaTop" fmla="*/ 131400 h 981360"/>
              <a:gd name="textAreaBottom" fmla="*/ 849960 h 98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17928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116000" y="4892760"/>
            <a:ext cx="863640" cy="5857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2050920" y="4892760"/>
            <a:ext cx="863640" cy="585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 rot="14690400">
            <a:off x="3829680" y="2730600"/>
            <a:ext cx="2950920" cy="1609560"/>
          </a:xfrm>
          <a:custGeom>
            <a:avLst/>
            <a:gdLst>
              <a:gd name="textAreaLeft" fmla="*/ 516240 w 2950920"/>
              <a:gd name="textAreaRight" fmla="*/ 2139480 w 2950920"/>
              <a:gd name="textAreaTop" fmla="*/ 215640 h 1609560"/>
              <a:gd name="textAreaBottom" fmla="*/ 1393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serveur3" descr=""/>
          <p:cNvPicPr/>
          <p:nvPr/>
        </p:nvPicPr>
        <p:blipFill>
          <a:blip r:embed="rId6"/>
          <a:stretch/>
        </p:blipFill>
        <p:spPr>
          <a:xfrm>
            <a:off x="4859280" y="1147680"/>
            <a:ext cx="762120" cy="10605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24000" y="1868400"/>
            <a:ext cx="266400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48680" y="33577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7"/>
          <a:stretch/>
        </p:blipFill>
        <p:spPr>
          <a:xfrm>
            <a:off x="4572000" y="4076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8"/>
          <a:stretch/>
        </p:blipFill>
        <p:spPr>
          <a:xfrm>
            <a:off x="507672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9"/>
          <a:stretch/>
        </p:blipFill>
        <p:spPr>
          <a:xfrm>
            <a:off x="4140360" y="386064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0"/>
          <a:stretch/>
        </p:blipFill>
        <p:spPr>
          <a:xfrm>
            <a:off x="5580000" y="422100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1"/>
          <a:stretch/>
        </p:blipFill>
        <p:spPr>
          <a:xfrm>
            <a:off x="6084720" y="4221000"/>
            <a:ext cx="720720" cy="7160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183600" y="5373720"/>
            <a:ext cx="32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sie en ligne de formul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une personne en 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handi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20" y="4076640"/>
            <a:ext cx="30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nexion sécuris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TT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32720" y="42210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DP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4653000"/>
            <a:ext cx="450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MDPH puisent de façon sécuris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ur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40" y="1940040"/>
            <a:ext cx="21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formul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55600" y="1268280"/>
            <a:ext cx="194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édi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27680" y="1076400"/>
            <a:ext cx="380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voi sécurisé des Formul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u serveur interméd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48360" y="5229360"/>
            <a:ext cx="0" cy="431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4360" y="5661000"/>
            <a:ext cx="25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28680" y="5661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iel éditeur M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88000" y="5805360"/>
            <a:ext cx="5050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164360" y="5445000"/>
            <a:ext cx="1800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11600" y="51577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520" y="551664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F,M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CPAM,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50160" y="52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59016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C46-92F5-4FED-9DBC-8DC92B6F678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2.3) Un flux bilatéral :Un partenaire de référence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La CAF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843200" y="1366920"/>
            <a:ext cx="5457600" cy="41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D19-37E5-4DE9-A1F7-4C285997019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95280" y="1638360"/>
            <a:ext cx="78184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rincipes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hemins de fl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Véhi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5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) Technologies de transpor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9C5-D24F-4328-9E66-FE6A04751B8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764640"/>
            <a:ext cx="8280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Groupe de Travail : protocole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Réunion d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23 mars 2007 14h-16h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Lieu :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NSA, 66 avenue du Maine, 75014 P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rdre du J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) Flux fonctionnels entre MDPH et organis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1)Flux de décisions d’orientation sphère é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2) Flux de décisions d’orientation sphère Trav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3) Flux d’orientations de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4) Flux de pre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5) Compen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6)Convention de prestations avec partenaire sous trai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.7) Convention d’évaluation de la personne handicap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7DF-DD71-4F47-ABF8-40CBF8DDE04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7840" y="18864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1) Principes techniqu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520560"/>
            <a:ext cx="8137800" cy="67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n lien avec le référentiel d’interopérabilité, la solution technique retenue devra offrir les servic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sécur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authentification, pour prouver l'identité d'une personne ou d'une appl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'intégrité, pour prouver que les informations n'ont pas été manipul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- De non-répudiation, pour garantir que les informations ne puissent être renié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fidentialité, pour que les informations restent priv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opérationna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garantie d’acheminement et de reprise sur 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 contrôle fonctionnels des en-têtes et cont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’interopérabilité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poser sur les standards, utiliser TCP/IP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060-91B3-471E-8280-99BC4523420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5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b800"/>
                </a:solidFill>
                <a:latin typeface="Arial"/>
              </a:rPr>
              <a:t>3.2.1) Le transport : les chemins</a:t>
            </a:r>
            <a:br>
              <a:rPr sz="32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Un VPN privé : Exemple le Réseau SESAM-Vitale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79280" y="1052640"/>
            <a:ext cx="11106000" cy="5139720"/>
            <a:chOff x="179280" y="1052640"/>
            <a:chExt cx="11106000" cy="5139720"/>
          </a:xfrm>
        </p:grpSpPr>
        <p:sp>
          <p:nvSpPr>
            <p:cNvPr id="423" name=""/>
            <p:cNvSpPr/>
            <p:nvPr/>
          </p:nvSpPr>
          <p:spPr>
            <a:xfrm>
              <a:off x="2242080" y="1163520"/>
              <a:ext cx="9043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6800" y="2648160"/>
              <a:ext cx="2364120" cy="136224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10720" y="2995200"/>
              <a:ext cx="1122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90560" y="3618000"/>
              <a:ext cx="1014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VP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68880" y="3730680"/>
              <a:ext cx="8697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8280" y="378036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Accès Inter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23400" y="3970080"/>
              <a:ext cx="35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c0000"/>
                  </a:solidFill>
                  <a:latin typeface="Times New Roman"/>
                </a:rPr>
                <a:t>publ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3494880" y="3433680"/>
              <a:ext cx="663840" cy="279360"/>
              <a:chOff x="3494880" y="3433680"/>
              <a:chExt cx="663840" cy="279360"/>
            </a:xfrm>
          </p:grpSpPr>
          <p:sp>
            <p:nvSpPr>
              <p:cNvPr id="431" name=""/>
              <p:cNvSpPr/>
              <p:nvPr/>
            </p:nvSpPr>
            <p:spPr>
              <a:xfrm>
                <a:off x="3527640" y="3450600"/>
                <a:ext cx="39348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3494880" y="3433680"/>
                <a:ext cx="663840" cy="267840"/>
                <a:chOff x="3494880" y="3433680"/>
                <a:chExt cx="663840" cy="2678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494880" y="3433680"/>
                  <a:ext cx="663840" cy="267840"/>
                </a:xfrm>
                <a:custGeom>
                  <a:avLst/>
                  <a:gdLst/>
                  <a:ahLst/>
                  <a:rect l="l" t="t" r="r" b="b"/>
                  <a:pathLst>
                    <a:path w="845" h="281">
                      <a:moveTo>
                        <a:pt x="70" y="0"/>
                      </a:moveTo>
                      <a:lnTo>
                        <a:pt x="0" y="70"/>
                      </a:lnTo>
                      <a:lnTo>
                        <a:pt x="0" y="281"/>
                      </a:lnTo>
                      <a:lnTo>
                        <a:pt x="774" y="281"/>
                      </a:lnTo>
                      <a:lnTo>
                        <a:pt x="845" y="210"/>
                      </a:lnTo>
                      <a:lnTo>
                        <a:pt x="845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94880" y="3433680"/>
                  <a:ext cx="663840" cy="66600"/>
                </a:xfrm>
                <a:custGeom>
                  <a:avLst/>
                  <a:gdLst/>
                  <a:ahLst/>
                  <a:rect l="l" t="t" r="r" b="b"/>
                  <a:pathLst>
                    <a:path w="845" h="70">
                      <a:moveTo>
                        <a:pt x="0" y="70"/>
                      </a:moveTo>
                      <a:lnTo>
                        <a:pt x="774" y="70"/>
                      </a:lnTo>
                      <a:lnTo>
                        <a:pt x="845" y="0"/>
                      </a:lnTo>
                    </a:path>
                  </a:pathLst>
                </a:custGeom>
                <a:noFill/>
                <a:ln w="64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101840" y="3500280"/>
                  <a:ext cx="1440" cy="20088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3494880" y="3433680"/>
                <a:ext cx="60732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567960" y="3527280"/>
                <a:ext cx="4626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Administration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44640" y="3617640"/>
                <a:ext cx="2430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3333cc"/>
                    </a:solidFill>
                    <a:latin typeface="Times New Roman"/>
                  </a:rPr>
                  <a:t>Suppor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176440" y="3807360"/>
              <a:ext cx="118188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9120" y="2790360"/>
              <a:ext cx="72000" cy="878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8120" y="4110120"/>
              <a:ext cx="420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5136840" y="4087080"/>
              <a:ext cx="417600" cy="754200"/>
              <a:chOff x="5136840" y="4087080"/>
              <a:chExt cx="417600" cy="754200"/>
            </a:xfrm>
          </p:grpSpPr>
          <p:sp>
            <p:nvSpPr>
              <p:cNvPr id="443" name=""/>
              <p:cNvSpPr/>
              <p:nvPr/>
            </p:nvSpPr>
            <p:spPr>
              <a:xfrm>
                <a:off x="5166720" y="408708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136840" y="450036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240160" y="451224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5362560" y="451008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463360" y="450648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5230080" y="421740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7320" y="426348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02200" y="2514240"/>
              <a:ext cx="1281240" cy="342720"/>
            </a:xfrm>
            <a:prstGeom prst="ellipse">
              <a:avLst/>
            </a:prstGeom>
            <a:noFill/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88160" y="2558160"/>
              <a:ext cx="6937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26960" y="2606040"/>
              <a:ext cx="131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66"/>
                  </a:solidFill>
                  <a:latin typeface="Times New Roman"/>
                </a:rPr>
                <a:t>Message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4210920" y="2487600"/>
              <a:ext cx="1010520" cy="574200"/>
              <a:chOff x="4210920" y="2487600"/>
              <a:chExt cx="1010520" cy="574200"/>
            </a:xfrm>
          </p:grpSpPr>
          <p:sp>
            <p:nvSpPr>
              <p:cNvPr id="454" name=""/>
              <p:cNvSpPr/>
              <p:nvPr/>
            </p:nvSpPr>
            <p:spPr>
              <a:xfrm>
                <a:off x="4256280" y="2535120"/>
                <a:ext cx="917640" cy="476640"/>
              </a:xfrm>
              <a:custGeom>
                <a:avLst/>
                <a:gdLst/>
                <a:ahLst/>
                <a:rect l="l" t="t" r="r" b="b"/>
                <a:pathLst>
                  <a:path w="1169" h="497">
                    <a:moveTo>
                      <a:pt x="0" y="468"/>
                    </a:moveTo>
                    <a:lnTo>
                      <a:pt x="11" y="497"/>
                    </a:lnTo>
                    <a:lnTo>
                      <a:pt x="1169" y="28"/>
                    </a:lnTo>
                    <a:lnTo>
                      <a:pt x="1157" y="0"/>
                    </a:lnTo>
                    <a:lnTo>
                      <a:pt x="0" y="468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10920" y="293724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119560" y="2487600"/>
                <a:ext cx="101880" cy="1238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834160" y="4079160"/>
              <a:ext cx="419040" cy="754560"/>
              <a:chOff x="5834160" y="4079160"/>
              <a:chExt cx="419040" cy="754560"/>
            </a:xfrm>
          </p:grpSpPr>
          <p:sp>
            <p:nvSpPr>
              <p:cNvPr id="458" name=""/>
              <p:cNvSpPr/>
              <p:nvPr/>
            </p:nvSpPr>
            <p:spPr>
              <a:xfrm>
                <a:off x="5865840" y="407916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5834160" y="4492800"/>
                <a:ext cx="6120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5938920" y="450432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6059880" y="450252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160680" y="449856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5927040" y="420948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83920" y="425556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6042960" y="3975840"/>
              <a:ext cx="108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58440" y="274824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39760" y="1424520"/>
              <a:ext cx="67500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064680" y="1836360"/>
              <a:ext cx="150120" cy="880560"/>
              <a:chOff x="3064680" y="1836360"/>
              <a:chExt cx="150120" cy="880560"/>
            </a:xfrm>
          </p:grpSpPr>
          <p:sp>
            <p:nvSpPr>
              <p:cNvPr id="469" name=""/>
              <p:cNvSpPr/>
              <p:nvPr/>
            </p:nvSpPr>
            <p:spPr>
              <a:xfrm>
                <a:off x="3103560" y="1897920"/>
                <a:ext cx="72000" cy="757800"/>
              </a:xfrm>
              <a:custGeom>
                <a:avLst/>
                <a:gdLst/>
                <a:ahLst/>
                <a:rect l="l" t="t" r="r" b="b"/>
                <a:pathLst>
                  <a:path w="92" h="792">
                    <a:moveTo>
                      <a:pt x="61" y="792"/>
                    </a:moveTo>
                    <a:lnTo>
                      <a:pt x="92" y="789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61" y="79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12920" y="2592360"/>
                <a:ext cx="10188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064680" y="1836360"/>
                <a:ext cx="101520" cy="1245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954880" y="1632960"/>
              <a:ext cx="354960" cy="193320"/>
              <a:chOff x="2954880" y="1632960"/>
              <a:chExt cx="354960" cy="193320"/>
            </a:xfrm>
          </p:grpSpPr>
          <p:sp>
            <p:nvSpPr>
              <p:cNvPr id="473" name=""/>
              <p:cNvSpPr/>
              <p:nvPr/>
            </p:nvSpPr>
            <p:spPr>
              <a:xfrm>
                <a:off x="2954880" y="1632960"/>
                <a:ext cx="354960" cy="19332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034800" y="1667160"/>
                <a:ext cx="208440" cy="13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34440" y="1671120"/>
                <a:ext cx="261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MDPH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288880" y="1502640"/>
              <a:ext cx="679680" cy="474840"/>
              <a:chOff x="2288880" y="1502640"/>
              <a:chExt cx="679680" cy="474840"/>
            </a:xfrm>
          </p:grpSpPr>
          <p:sp>
            <p:nvSpPr>
              <p:cNvPr id="477" name=""/>
              <p:cNvSpPr/>
              <p:nvPr/>
            </p:nvSpPr>
            <p:spPr>
              <a:xfrm>
                <a:off x="2288880" y="1502640"/>
                <a:ext cx="679680" cy="474840"/>
              </a:xfrm>
              <a:prstGeom prst="ellipse">
                <a:avLst/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2415960" y="1548360"/>
                <a:ext cx="435960" cy="355680"/>
                <a:chOff x="2415960" y="1548360"/>
                <a:chExt cx="435960" cy="3556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2415960" y="1548360"/>
                  <a:ext cx="435960" cy="35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89400" y="1594080"/>
                  <a:ext cx="2980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Résea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520000" y="1734120"/>
                  <a:ext cx="29484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MDP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5082120" y="2462760"/>
              <a:ext cx="147600" cy="16236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4118400" y="1954800"/>
              <a:ext cx="354600" cy="192960"/>
              <a:chOff x="4118400" y="1954800"/>
              <a:chExt cx="354600" cy="192960"/>
            </a:xfrm>
          </p:grpSpPr>
          <p:sp>
            <p:nvSpPr>
              <p:cNvPr id="484" name=""/>
              <p:cNvSpPr/>
              <p:nvPr/>
            </p:nvSpPr>
            <p:spPr>
              <a:xfrm>
                <a:off x="4118400" y="1954800"/>
                <a:ext cx="354600" cy="192960"/>
              </a:xfrm>
              <a:prstGeom prst="rect">
                <a:avLst/>
              </a:prstGeom>
              <a:solidFill>
                <a:srgbClr val="ffff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98320" y="1987200"/>
                <a:ext cx="203760" cy="13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196880" y="1991160"/>
                <a:ext cx="2523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CNS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973680" y="1479600"/>
              <a:ext cx="678240" cy="47520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000" y="1535040"/>
              <a:ext cx="437760" cy="3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9880" y="1579320"/>
              <a:ext cx="298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ésea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02640" y="1721160"/>
              <a:ext cx="27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NS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52160" y="2029680"/>
              <a:ext cx="10188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048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27320" y="1991160"/>
              <a:ext cx="149040" cy="16452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22560" y="1788120"/>
              <a:ext cx="149040" cy="164880"/>
            </a:xfrm>
            <a:custGeom>
              <a:avLst/>
              <a:gdLst/>
              <a:ahLst/>
              <a:rect l="l" t="t" r="r" b="b"/>
              <a:pathLst>
                <a:path w="189" h="171">
                  <a:moveTo>
                    <a:pt x="50" y="0"/>
                  </a:moveTo>
                  <a:lnTo>
                    <a:pt x="0" y="50"/>
                  </a:lnTo>
                  <a:lnTo>
                    <a:pt x="0" y="121"/>
                  </a:lnTo>
                  <a:lnTo>
                    <a:pt x="50" y="171"/>
                  </a:lnTo>
                  <a:lnTo>
                    <a:pt x="139" y="171"/>
                  </a:lnTo>
                  <a:lnTo>
                    <a:pt x="189" y="121"/>
                  </a:lnTo>
                  <a:lnTo>
                    <a:pt x="189" y="50"/>
                  </a:lnTo>
                  <a:lnTo>
                    <a:pt x="139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12040" y="2954880"/>
              <a:ext cx="117360" cy="1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37840" y="1052640"/>
              <a:ext cx="27961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93640" y="1098360"/>
              <a:ext cx="211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 nominaux Assurance maladi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43520" y="1550880"/>
              <a:ext cx="45684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37080" y="5072040"/>
              <a:ext cx="89640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55680" y="54568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30800" y="5640840"/>
              <a:ext cx="1152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Hopitaux établissemen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366160" y="3964320"/>
              <a:ext cx="144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193200" y="3250080"/>
              <a:ext cx="186840" cy="339840"/>
              <a:chOff x="3193200" y="3250080"/>
              <a:chExt cx="186840" cy="33984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3210120" y="3274920"/>
                <a:ext cx="151920" cy="315000"/>
                <a:chOff x="3210120" y="3274920"/>
                <a:chExt cx="151920" cy="3150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3304080" y="3310560"/>
                  <a:ext cx="56160" cy="2790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211200" y="3274920"/>
                  <a:ext cx="92520" cy="315000"/>
                </a:xfrm>
                <a:custGeom>
                  <a:avLst/>
                  <a:gdLst/>
                  <a:ahLst/>
                  <a:rect l="l" t="t" r="r" b="b"/>
                  <a:pathLst>
                    <a:path w="1000" h="2800">
                      <a:moveTo>
                        <a:pt x="0" y="2130"/>
                      </a:moveTo>
                      <a:lnTo>
                        <a:pt x="1000" y="2800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302280" y="331056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304080" y="33512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333600" y="33512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318120" y="3333600"/>
                  <a:ext cx="284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34800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302280" y="3333600"/>
                  <a:ext cx="140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304080" y="331452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333600" y="331452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304080" y="338940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333600" y="3389400"/>
                  <a:ext cx="284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318120" y="337032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348000" y="337032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304080" y="337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304080" y="3425760"/>
                  <a:ext cx="266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333600" y="342576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18120" y="34066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348000" y="3406680"/>
                  <a:ext cx="140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304080" y="3406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304080" y="3463920"/>
                  <a:ext cx="266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332160" y="346212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18120" y="3444840"/>
                  <a:ext cx="284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348000" y="344484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4080" y="344484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304080" y="35002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333600" y="3498480"/>
                  <a:ext cx="284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318120" y="348120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348000" y="3481200"/>
                  <a:ext cx="140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304080" y="3536640"/>
                  <a:ext cx="2664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333600" y="3536640"/>
                  <a:ext cx="284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18120" y="351756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348000" y="351756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304080" y="351756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304080" y="3573000"/>
                  <a:ext cx="266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333600" y="3573000"/>
                  <a:ext cx="28440" cy="1656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318120" y="3553920"/>
                  <a:ext cx="28440" cy="1656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348000" y="3553920"/>
                  <a:ext cx="140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304080" y="3553920"/>
                  <a:ext cx="12240" cy="1656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296520" y="3566880"/>
                  <a:ext cx="7560" cy="2124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270960" y="35478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2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2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247560" y="3527280"/>
                  <a:ext cx="21960" cy="3420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222360" y="3508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66"/>
                      </a:moveTo>
                      <a:lnTo>
                        <a:pt x="254" y="289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4" y="16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210120" y="3498480"/>
                  <a:ext cx="108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296520" y="331056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19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0960" y="33012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247560" y="32914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222360" y="328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4" h="206">
                      <a:moveTo>
                        <a:pt x="254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210120" y="327636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270960" y="333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247560" y="332640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222360" y="33145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18">
                      <a:moveTo>
                        <a:pt x="254" y="95"/>
                      </a:moveTo>
                      <a:lnTo>
                        <a:pt x="254" y="21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4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210120" y="330912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4"/>
                      </a:moveTo>
                      <a:lnTo>
                        <a:pt x="125" y="16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296520" y="3385440"/>
                  <a:ext cx="7560" cy="1944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2"/>
                      </a:moveTo>
                      <a:lnTo>
                        <a:pt x="83" y="168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270960" y="337248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247560" y="33588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22360" y="334728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4" h="232">
                      <a:moveTo>
                        <a:pt x="254" y="110"/>
                      </a:moveTo>
                      <a:lnTo>
                        <a:pt x="254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210120" y="3339720"/>
                  <a:ext cx="108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73">
                      <a:moveTo>
                        <a:pt x="125" y="50"/>
                      </a:moveTo>
                      <a:lnTo>
                        <a:pt x="125" y="173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5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296520" y="342180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0" h="173">
                      <a:moveTo>
                        <a:pt x="80" y="41"/>
                      </a:moveTo>
                      <a:lnTo>
                        <a:pt x="80" y="17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270960" y="3406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7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47560" y="3393000"/>
                  <a:ext cx="2196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222360" y="3377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45">
                      <a:moveTo>
                        <a:pt x="254" y="121"/>
                      </a:moveTo>
                      <a:lnTo>
                        <a:pt x="254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210120" y="3372480"/>
                  <a:ext cx="108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96520" y="345816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270960" y="3440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8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247560" y="342756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222360" y="3410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4" h="255">
                      <a:moveTo>
                        <a:pt x="254" y="131"/>
                      </a:moveTo>
                      <a:lnTo>
                        <a:pt x="254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210120" y="34027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1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1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296520" y="349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8">
                      <a:moveTo>
                        <a:pt x="83" y="36"/>
                      </a:moveTo>
                      <a:lnTo>
                        <a:pt x="83" y="16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83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270960" y="34772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4" h="277">
                      <a:moveTo>
                        <a:pt x="254" y="144"/>
                      </a:moveTo>
                      <a:lnTo>
                        <a:pt x="254" y="277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247560" y="34599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71">
                      <a:moveTo>
                        <a:pt x="253" y="144"/>
                      </a:moveTo>
                      <a:lnTo>
                        <a:pt x="253" y="271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222360" y="34430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7" h="271">
                      <a:moveTo>
                        <a:pt x="257" y="149"/>
                      </a:moveTo>
                      <a:lnTo>
                        <a:pt x="257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7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210120" y="343512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4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296520" y="3530880"/>
                  <a:ext cx="7560" cy="20520"/>
                </a:xfrm>
                <a:custGeom>
                  <a:avLst/>
                  <a:gdLst/>
                  <a:ahLst/>
                  <a:rect l="l" t="t" r="r" b="b"/>
                  <a:pathLst>
                    <a:path w="80" h="193">
                      <a:moveTo>
                        <a:pt x="80" y="52"/>
                      </a:moveTo>
                      <a:lnTo>
                        <a:pt x="80" y="193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80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270960" y="3511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247560" y="349452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22360" y="347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76">
                      <a:moveTo>
                        <a:pt x="254" y="153"/>
                      </a:moveTo>
                      <a:lnTo>
                        <a:pt x="254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4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10120" y="3467880"/>
                  <a:ext cx="10800" cy="2124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10120" y="3483000"/>
                  <a:ext cx="18720" cy="26640"/>
                </a:xfrm>
                <a:custGeom>
                  <a:avLst/>
                  <a:gdLst/>
                  <a:ahLst/>
                  <a:rect l="l" t="t" r="r" b="b"/>
                  <a:pathLst>
                    <a:path w="208" h="242">
                      <a:moveTo>
                        <a:pt x="208" y="132"/>
                      </a:moveTo>
                      <a:lnTo>
                        <a:pt x="208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77440" y="3534480"/>
                  <a:ext cx="26640" cy="34560"/>
                </a:xfrm>
                <a:custGeom>
                  <a:avLst/>
                  <a:gdLst/>
                  <a:ahLst/>
                  <a:rect l="l" t="t" r="r" b="b"/>
                  <a:pathLst>
                    <a:path w="285" h="313">
                      <a:moveTo>
                        <a:pt x="285" y="186"/>
                      </a:moveTo>
                      <a:lnTo>
                        <a:pt x="285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5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255480" y="3517560"/>
                  <a:ext cx="201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30280" y="34984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5">
                      <a:moveTo>
                        <a:pt x="248" y="152"/>
                      </a:moveTo>
                      <a:lnTo>
                        <a:pt x="248" y="275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248" y="1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10120" y="329400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219" h="196">
                      <a:moveTo>
                        <a:pt x="219" y="77"/>
                      </a:moveTo>
                      <a:lnTo>
                        <a:pt x="219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19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55480" y="3313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8" h="219">
                      <a:moveTo>
                        <a:pt x="238" y="85"/>
                      </a:moveTo>
                      <a:lnTo>
                        <a:pt x="238" y="21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38" y="8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232080" y="3301200"/>
                  <a:ext cx="21600" cy="24840"/>
                </a:xfrm>
                <a:custGeom>
                  <a:avLst/>
                  <a:gdLst/>
                  <a:ahLst/>
                  <a:rect l="l" t="t" r="r" b="b"/>
                  <a:pathLst>
                    <a:path w="250" h="212">
                      <a:moveTo>
                        <a:pt x="250" y="89"/>
                      </a:moveTo>
                      <a:lnTo>
                        <a:pt x="250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0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210120" y="33242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08">
                      <a:moveTo>
                        <a:pt x="219" y="91"/>
                      </a:moveTo>
                      <a:lnTo>
                        <a:pt x="219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19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278880" y="3358800"/>
                  <a:ext cx="25200" cy="2628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255480" y="3347280"/>
                  <a:ext cx="21960" cy="24840"/>
                </a:xfrm>
                <a:custGeom>
                  <a:avLst/>
                  <a:gdLst/>
                  <a:ahLst/>
                  <a:rect l="l" t="t" r="r" b="b"/>
                  <a:pathLst>
                    <a:path w="238" h="225">
                      <a:moveTo>
                        <a:pt x="238" y="92"/>
                      </a:moveTo>
                      <a:lnTo>
                        <a:pt x="238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8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232080" y="3335760"/>
                  <a:ext cx="21600" cy="24480"/>
                </a:xfrm>
                <a:custGeom>
                  <a:avLst/>
                  <a:gdLst/>
                  <a:ahLst/>
                  <a:rect l="l" t="t" r="r" b="b"/>
                  <a:pathLst>
                    <a:path w="250" h="224">
                      <a:moveTo>
                        <a:pt x="250" y="101"/>
                      </a:moveTo>
                      <a:lnTo>
                        <a:pt x="250" y="224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50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210120" y="3356640"/>
                  <a:ext cx="20160" cy="22680"/>
                </a:xfrm>
                <a:custGeom>
                  <a:avLst/>
                  <a:gdLst/>
                  <a:ahLst/>
                  <a:rect l="l" t="t" r="r" b="b"/>
                  <a:pathLst>
                    <a:path w="219" h="218">
                      <a:moveTo>
                        <a:pt x="219" y="101"/>
                      </a:moveTo>
                      <a:lnTo>
                        <a:pt x="219" y="218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1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55480" y="33818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8" h="237">
                      <a:moveTo>
                        <a:pt x="238" y="101"/>
                      </a:moveTo>
                      <a:lnTo>
                        <a:pt x="238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8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2080" y="3368520"/>
                  <a:ext cx="21600" cy="26280"/>
                </a:xfrm>
                <a:custGeom>
                  <a:avLst/>
                  <a:gdLst/>
                  <a:ahLst/>
                  <a:rect l="l" t="t" r="r" b="b"/>
                  <a:pathLst>
                    <a:path w="250" h="235">
                      <a:moveTo>
                        <a:pt x="250" y="111"/>
                      </a:moveTo>
                      <a:lnTo>
                        <a:pt x="250" y="235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0" y="11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10120" y="33876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2">
                      <a:moveTo>
                        <a:pt x="208" y="103"/>
                      </a:moveTo>
                      <a:lnTo>
                        <a:pt x="208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8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277440" y="342756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55480" y="341424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1">
                      <a:moveTo>
                        <a:pt x="236" y="114"/>
                      </a:moveTo>
                      <a:lnTo>
                        <a:pt x="236" y="25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1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0280" y="34009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210120" y="3420000"/>
                  <a:ext cx="18720" cy="24480"/>
                </a:xfrm>
                <a:custGeom>
                  <a:avLst/>
                  <a:gdLst/>
                  <a:ahLst/>
                  <a:rect l="l" t="t" r="r" b="b"/>
                  <a:pathLst>
                    <a:path w="208" h="228">
                      <a:moveTo>
                        <a:pt x="208" y="108"/>
                      </a:moveTo>
                      <a:lnTo>
                        <a:pt x="208" y="228"/>
                      </a:lnTo>
                      <a:lnTo>
                        <a:pt x="0" y="116"/>
                      </a:lnTo>
                      <a:lnTo>
                        <a:pt x="0" y="0"/>
                      </a:lnTo>
                      <a:lnTo>
                        <a:pt x="208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277440" y="3463920"/>
                  <a:ext cx="26640" cy="3060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4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255480" y="3448800"/>
                  <a:ext cx="201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30280" y="343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210120" y="3450240"/>
                  <a:ext cx="18720" cy="28800"/>
                </a:xfrm>
                <a:custGeom>
                  <a:avLst/>
                  <a:gdLst/>
                  <a:ahLst/>
                  <a:rect l="l" t="t" r="r" b="b"/>
                  <a:pathLst>
                    <a:path w="208" h="251">
                      <a:moveTo>
                        <a:pt x="208" y="133"/>
                      </a:moveTo>
                      <a:lnTo>
                        <a:pt x="208" y="251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08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277440" y="3498480"/>
                  <a:ext cx="2664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3255480" y="3483000"/>
                  <a:ext cx="201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230280" y="34660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48" h="271">
                      <a:moveTo>
                        <a:pt x="248" y="149"/>
                      </a:moveTo>
                      <a:lnTo>
                        <a:pt x="248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278880" y="3322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5" h="236">
                      <a:moveTo>
                        <a:pt x="275" y="96"/>
                      </a:moveTo>
                      <a:lnTo>
                        <a:pt x="275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296520" y="334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278880" y="3393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5" h="258">
                      <a:moveTo>
                        <a:pt x="275" y="119"/>
                      </a:moveTo>
                      <a:lnTo>
                        <a:pt x="275" y="258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5" y="11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304080" y="3481200"/>
                  <a:ext cx="1224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3193200" y="3250080"/>
                <a:ext cx="186840" cy="64440"/>
                <a:chOff x="3193200" y="3250080"/>
                <a:chExt cx="186840" cy="6444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3193200" y="3250080"/>
                  <a:ext cx="186840" cy="38160"/>
                </a:xfrm>
                <a:custGeom>
                  <a:avLst/>
                  <a:gdLst/>
                  <a:ahLst/>
                  <a:rect l="l" t="t" r="r" b="b"/>
                  <a:pathLst>
                    <a:path w="2020" h="340">
                      <a:moveTo>
                        <a:pt x="0" y="0"/>
                      </a:moveTo>
                      <a:lnTo>
                        <a:pt x="869" y="25"/>
                      </a:lnTo>
                      <a:lnTo>
                        <a:pt x="2020" y="326"/>
                      </a:lnTo>
                      <a:lnTo>
                        <a:pt x="1220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3307320" y="3286080"/>
                  <a:ext cx="7236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194280" y="3251880"/>
                  <a:ext cx="114480" cy="6228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7" name=""/>
            <p:cNvGrpSpPr/>
            <p:nvPr/>
          </p:nvGrpSpPr>
          <p:grpSpPr>
            <a:xfrm>
              <a:off x="5605200" y="3709440"/>
              <a:ext cx="185040" cy="340200"/>
              <a:chOff x="5605200" y="3709440"/>
              <a:chExt cx="185040" cy="340200"/>
            </a:xfrm>
          </p:grpSpPr>
          <p:grpSp>
            <p:nvGrpSpPr>
              <p:cNvPr id="618" name=""/>
              <p:cNvGrpSpPr/>
              <p:nvPr/>
            </p:nvGrpSpPr>
            <p:grpSpPr>
              <a:xfrm>
                <a:off x="5620680" y="3733920"/>
                <a:ext cx="153360" cy="315720"/>
                <a:chOff x="5620680" y="3733920"/>
                <a:chExt cx="153360" cy="3157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5714640" y="377028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623560" y="373392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714640" y="377028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714640" y="381060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744520" y="381060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730120" y="379332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758200" y="37911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713200" y="379116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714640" y="377208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745960" y="37742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71464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44520" y="3848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28680" y="382968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758200" y="382968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5714640" y="382968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71464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744520" y="388512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728680" y="386568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758200" y="386568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14640" y="386568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71464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744520" y="39211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728680" y="390420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5758200" y="390204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714640" y="390204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714640" y="3960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744520" y="395784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730120" y="394020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58200" y="394020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714640" y="399600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44520" y="399600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728680" y="3976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758200" y="3976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714640" y="3976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4640" y="40323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44520" y="403236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728680" y="401328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758200" y="401328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4640" y="40132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708160" y="402660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683320" y="400536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658120" y="398628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633280" y="39672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620680" y="395784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708160" y="377028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68332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58120" y="375120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633280" y="374148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20680" y="37360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683320" y="3795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658120" y="378540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633280" y="37742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20680" y="3768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08160" y="384480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683320" y="383148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658120" y="381780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633280" y="380664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620680" y="3798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708160" y="387900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683320" y="386568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658120" y="385272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633280" y="38368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620680" y="383148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708160" y="391752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683320" y="3900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658120" y="38851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633280" y="386964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620680" y="3862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706720" y="39538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683320" y="3936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658120" y="391968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633280" y="39020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620680" y="38948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708160" y="39902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683320" y="397116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58120" y="3953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33280" y="3934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620680" y="392724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620680" y="394236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689440" y="399420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66040" y="39769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41200" y="395784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620680" y="375300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666040" y="377208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642640" y="376056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620680" y="37836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689440" y="3816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666040" y="380664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642640" y="379512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620680" y="38163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666040" y="383940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642640" y="38275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620680" y="38466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689440" y="3886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666040" y="387360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641200" y="3858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620680" y="387900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689440" y="392328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666040" y="390780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641200" y="38926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620680" y="390996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689440" y="3957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666040" y="394236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641200" y="39250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689440" y="378144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706720" y="380664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689440" y="385272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714640" y="394020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5605200" y="3709440"/>
                <a:ext cx="185040" cy="64440"/>
                <a:chOff x="5605200" y="3709440"/>
                <a:chExt cx="185040" cy="644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605200" y="370944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717880" y="374544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605200" y="370944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1" name=""/>
            <p:cNvSpPr/>
            <p:nvPr/>
          </p:nvSpPr>
          <p:spPr>
            <a:xfrm>
              <a:off x="4969440" y="2868480"/>
              <a:ext cx="39384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53680" y="1165320"/>
              <a:ext cx="4788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344400" y="2930040"/>
              <a:ext cx="963720" cy="503280"/>
            </a:xfrm>
            <a:custGeom>
              <a:avLst/>
              <a:gdLst/>
              <a:ahLst/>
              <a:rect l="l" t="t" r="r" b="b"/>
              <a:pathLst>
                <a:path w="1169" h="497">
                  <a:moveTo>
                    <a:pt x="0" y="468"/>
                  </a:moveTo>
                  <a:lnTo>
                    <a:pt x="11" y="497"/>
                  </a:lnTo>
                  <a:lnTo>
                    <a:pt x="1169" y="28"/>
                  </a:lnTo>
                  <a:lnTo>
                    <a:pt x="1157" y="0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00120" y="2698200"/>
              <a:ext cx="345240" cy="5896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57560" y="2667240"/>
              <a:ext cx="72000" cy="758880"/>
            </a:xfrm>
            <a:custGeom>
              <a:avLst/>
              <a:gdLst/>
              <a:ahLst/>
              <a:rect l="l" t="t" r="r" b="b"/>
              <a:pathLst>
                <a:path w="92" h="792">
                  <a:moveTo>
                    <a:pt x="61" y="792"/>
                  </a:moveTo>
                  <a:lnTo>
                    <a:pt x="92" y="789"/>
                  </a:lnTo>
                  <a:lnTo>
                    <a:pt x="31" y="0"/>
                  </a:lnTo>
                  <a:lnTo>
                    <a:pt x="0" y="3"/>
                  </a:lnTo>
                  <a:lnTo>
                    <a:pt x="61" y="79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118320" y="2606040"/>
              <a:ext cx="101520" cy="1245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05200" y="1962720"/>
              <a:ext cx="753120" cy="551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ites aux lettres assurance 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5228280" y="2330280"/>
              <a:ext cx="185400" cy="340200"/>
              <a:chOff x="5228280" y="2330280"/>
              <a:chExt cx="185400" cy="3402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5243760" y="2354760"/>
                <a:ext cx="153720" cy="315720"/>
                <a:chOff x="5243760" y="2354760"/>
                <a:chExt cx="153720" cy="315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5337720" y="2391120"/>
                  <a:ext cx="5796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5246640" y="2354760"/>
                  <a:ext cx="9108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337720" y="2391120"/>
                  <a:ext cx="5652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337720" y="2431440"/>
                  <a:ext cx="280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367600" y="2431440"/>
                  <a:ext cx="2988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353560" y="241416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381640" y="24120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5336280" y="24120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337720" y="239292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369040" y="2395080"/>
                  <a:ext cx="284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33772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367600" y="24696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352120" y="2450520"/>
                  <a:ext cx="295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381640" y="24505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337720" y="24505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33772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367600" y="250596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352120" y="2486520"/>
                  <a:ext cx="295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381640" y="24865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337720" y="24865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33772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367600" y="254196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352120" y="2525040"/>
                  <a:ext cx="2808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381640" y="25228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337720" y="25228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337720" y="258084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367600" y="2578680"/>
                  <a:ext cx="298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353560" y="2561040"/>
                  <a:ext cx="2808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381640" y="25610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337720" y="2616840"/>
                  <a:ext cx="2808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367600" y="2616840"/>
                  <a:ext cx="280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352120" y="259776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5381640" y="25977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337720" y="25977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337720" y="265320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367600" y="2653200"/>
                  <a:ext cx="2808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352120" y="2634120"/>
                  <a:ext cx="2952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381640" y="26341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337720" y="26341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331600" y="26474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306400" y="26262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281200" y="26071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256360" y="25880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243760" y="25786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331600" y="23911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30640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81200" y="23720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256360" y="23623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243760" y="23569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06400" y="24159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281200" y="24062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256360" y="23950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243760" y="2389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331600" y="24656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306400" y="24523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281200" y="24386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256360" y="24274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243760" y="24195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331600" y="24998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306400" y="24865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281200" y="24735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256360" y="24577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243760" y="24523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331600" y="25383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306400" y="25214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281200" y="25059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256360" y="24904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243760" y="24829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330160" y="25747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306400" y="25578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281200" y="25405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256360" y="25228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243760" y="25156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331600" y="26110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306400" y="25920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281200" y="2574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256360" y="25556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243760" y="25480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243760" y="25632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312520" y="26150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289120" y="25977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264280" y="2578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243760" y="23738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289120" y="23929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265720" y="23814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243760" y="24044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312520" y="24372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289120" y="24274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265720" y="24159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243760" y="24372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289120" y="24602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5265720" y="24483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5243760" y="24674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5312520" y="25077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5289120" y="24944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264280" y="2479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5243760" y="24998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5312520" y="25441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5289120" y="25286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5264280" y="2513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243760" y="25308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312520" y="25786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289120" y="25632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264280" y="25459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312520" y="24022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330160" y="24274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312520" y="24735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5337720" y="25610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5228280" y="2330280"/>
                <a:ext cx="185400" cy="64440"/>
                <a:chOff x="5228280" y="2330280"/>
                <a:chExt cx="185400" cy="6444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5228280" y="2330280"/>
                  <a:ext cx="18540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5341320" y="23662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228280" y="2330280"/>
                  <a:ext cx="11628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"/>
            <p:cNvGrpSpPr/>
            <p:nvPr/>
          </p:nvGrpSpPr>
          <p:grpSpPr>
            <a:xfrm>
              <a:off x="1224360" y="3688560"/>
              <a:ext cx="461160" cy="399600"/>
              <a:chOff x="1224360" y="3688560"/>
              <a:chExt cx="461160" cy="399600"/>
            </a:xfrm>
          </p:grpSpPr>
          <p:sp>
            <p:nvSpPr>
              <p:cNvPr id="853" name=""/>
              <p:cNvSpPr/>
              <p:nvPr/>
            </p:nvSpPr>
            <p:spPr>
              <a:xfrm>
                <a:off x="1390680" y="3688560"/>
                <a:ext cx="294840" cy="344160"/>
              </a:xfrm>
              <a:custGeom>
                <a:avLst/>
                <a:gdLst/>
                <a:ahLst/>
                <a:rect l="l" t="t" r="r" b="b"/>
                <a:pathLst>
                  <a:path w="469" h="451">
                    <a:moveTo>
                      <a:pt x="207" y="451"/>
                    </a:moveTo>
                    <a:lnTo>
                      <a:pt x="469" y="179"/>
                    </a:lnTo>
                    <a:lnTo>
                      <a:pt x="367" y="0"/>
                    </a:lnTo>
                    <a:lnTo>
                      <a:pt x="0" y="92"/>
                    </a:lnTo>
                    <a:lnTo>
                      <a:pt x="207" y="451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1224360" y="3778560"/>
                <a:ext cx="176760" cy="67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1252080" y="3839400"/>
                <a:ext cx="170280" cy="853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1294200" y="3907440"/>
                <a:ext cx="160200" cy="1011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1344960" y="3970080"/>
                <a:ext cx="142560" cy="1180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668600" y="3433680"/>
              <a:ext cx="469440" cy="329040"/>
              <a:chOff x="1668600" y="3433680"/>
              <a:chExt cx="469440" cy="329040"/>
            </a:xfrm>
          </p:grpSpPr>
          <p:sp>
            <p:nvSpPr>
              <p:cNvPr id="859" name=""/>
              <p:cNvSpPr/>
              <p:nvPr/>
            </p:nvSpPr>
            <p:spPr>
              <a:xfrm>
                <a:off x="1705320" y="3477960"/>
                <a:ext cx="395280" cy="239400"/>
              </a:xfrm>
              <a:custGeom>
                <a:avLst/>
                <a:gdLst/>
                <a:ahLst/>
                <a:rect l="l" t="t" r="r" b="b"/>
                <a:pathLst>
                  <a:path w="532" h="226">
                    <a:moveTo>
                      <a:pt x="0" y="202"/>
                    </a:moveTo>
                    <a:lnTo>
                      <a:pt x="10" y="226"/>
                    </a:lnTo>
                    <a:lnTo>
                      <a:pt x="532" y="24"/>
                    </a:lnTo>
                    <a:lnTo>
                      <a:pt x="523" y="0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668600" y="3647520"/>
                <a:ext cx="8172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057040" y="3433680"/>
                <a:ext cx="81000" cy="115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1610280" y="4307400"/>
              <a:ext cx="411840" cy="505440"/>
              <a:chOff x="1610280" y="4307400"/>
              <a:chExt cx="411840" cy="505440"/>
            </a:xfrm>
          </p:grpSpPr>
          <p:sp>
            <p:nvSpPr>
              <p:cNvPr id="863" name=""/>
              <p:cNvSpPr/>
              <p:nvPr/>
            </p:nvSpPr>
            <p:spPr>
              <a:xfrm>
                <a:off x="1730160" y="4307400"/>
                <a:ext cx="291960" cy="365400"/>
              </a:xfrm>
              <a:custGeom>
                <a:avLst/>
                <a:gdLst/>
                <a:ahLst/>
                <a:rect l="l" t="t" r="r" b="b"/>
                <a:pathLst>
                  <a:path w="464" h="477">
                    <a:moveTo>
                      <a:pt x="341" y="477"/>
                    </a:moveTo>
                    <a:lnTo>
                      <a:pt x="464" y="119"/>
                    </a:lnTo>
                    <a:lnTo>
                      <a:pt x="294" y="0"/>
                    </a:lnTo>
                    <a:lnTo>
                      <a:pt x="0" y="239"/>
                    </a:lnTo>
                    <a:lnTo>
                      <a:pt x="341" y="477"/>
                    </a:lnTo>
                    <a:close/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1610280" y="4502520"/>
                <a:ext cx="136440" cy="15228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1663200" y="4546080"/>
                <a:ext cx="124920" cy="16596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1731240" y="4592160"/>
                <a:ext cx="109440" cy="17460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1804680" y="4632120"/>
                <a:ext cx="87480" cy="180720"/>
              </a:xfrm>
              <a:prstGeom prst="line">
                <a:avLst/>
              </a:prstGeom>
              <a:ln w="3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1960920" y="3761280"/>
              <a:ext cx="424800" cy="580680"/>
              <a:chOff x="1960920" y="3761280"/>
              <a:chExt cx="424800" cy="580680"/>
            </a:xfrm>
          </p:grpSpPr>
          <p:sp>
            <p:nvSpPr>
              <p:cNvPr id="869" name=""/>
              <p:cNvSpPr/>
              <p:nvPr/>
            </p:nvSpPr>
            <p:spPr>
              <a:xfrm>
                <a:off x="1988280" y="3795840"/>
                <a:ext cx="368640" cy="510840"/>
              </a:xfrm>
              <a:custGeom>
                <a:avLst/>
                <a:gdLst/>
                <a:ahLst/>
                <a:rect l="l" t="t" r="r" b="b"/>
                <a:pathLst>
                  <a:path w="587" h="667">
                    <a:moveTo>
                      <a:pt x="0" y="649"/>
                    </a:moveTo>
                    <a:lnTo>
                      <a:pt x="19" y="667"/>
                    </a:lnTo>
                    <a:lnTo>
                      <a:pt x="587" y="18"/>
                    </a:lnTo>
                    <a:lnTo>
                      <a:pt x="568" y="0"/>
                    </a:lnTo>
                    <a:lnTo>
                      <a:pt x="0" y="649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960920" y="425844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316960" y="3761280"/>
                <a:ext cx="6876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1783440" y="4395600"/>
              <a:ext cx="2322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24120" y="442656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30720" y="4742280"/>
              <a:ext cx="163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613880" y="3684960"/>
              <a:ext cx="100080" cy="11088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3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3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27800" y="4286520"/>
              <a:ext cx="100080" cy="1105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1"/>
                  </a:lnTo>
                  <a:lnTo>
                    <a:pt x="42" y="144"/>
                  </a:lnTo>
                  <a:lnTo>
                    <a:pt x="116" y="144"/>
                  </a:lnTo>
                  <a:lnTo>
                    <a:pt x="159" y="101"/>
                  </a:lnTo>
                  <a:lnTo>
                    <a:pt x="159" y="42"/>
                  </a:lnTo>
                  <a:lnTo>
                    <a:pt x="11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432080" y="3759480"/>
              <a:ext cx="2005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471320" y="37904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58480" y="1778400"/>
              <a:ext cx="988920" cy="1304640"/>
            </a:xfrm>
            <a:custGeom>
              <a:avLst/>
              <a:gdLst/>
              <a:ahLst/>
              <a:rect l="l" t="t" r="r" b="b"/>
              <a:pathLst>
                <a:path w="1575" h="1701">
                  <a:moveTo>
                    <a:pt x="1537" y="1701"/>
                  </a:moveTo>
                  <a:lnTo>
                    <a:pt x="1575" y="1667"/>
                  </a:lnTo>
                  <a:lnTo>
                    <a:pt x="38" y="0"/>
                  </a:lnTo>
                  <a:lnTo>
                    <a:pt x="0" y="35"/>
                  </a:lnTo>
                  <a:lnTo>
                    <a:pt x="1537" y="170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22640" y="1502640"/>
              <a:ext cx="1315440" cy="1312200"/>
            </a:xfrm>
            <a:custGeom>
              <a:avLst/>
              <a:gdLst/>
              <a:ahLst/>
              <a:rect l="l" t="t" r="r" b="b"/>
              <a:pathLst>
                <a:path w="2096" h="1714">
                  <a:moveTo>
                    <a:pt x="0" y="1674"/>
                  </a:moveTo>
                  <a:lnTo>
                    <a:pt x="33" y="1714"/>
                  </a:lnTo>
                  <a:lnTo>
                    <a:pt x="2096" y="40"/>
                  </a:lnTo>
                  <a:lnTo>
                    <a:pt x="2063" y="0"/>
                  </a:lnTo>
                  <a:lnTo>
                    <a:pt x="0" y="167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18320" y="3985560"/>
              <a:ext cx="46800" cy="1400400"/>
            </a:xfrm>
            <a:custGeom>
              <a:avLst/>
              <a:gdLst/>
              <a:ahLst/>
              <a:rect l="l" t="t" r="r" b="b"/>
              <a:pathLst>
                <a:path w="75" h="1828">
                  <a:moveTo>
                    <a:pt x="75" y="1"/>
                  </a:moveTo>
                  <a:lnTo>
                    <a:pt x="23" y="0"/>
                  </a:lnTo>
                  <a:lnTo>
                    <a:pt x="0" y="1827"/>
                  </a:lnTo>
                  <a:lnTo>
                    <a:pt x="52" y="1828"/>
                  </a:lnTo>
                  <a:lnTo>
                    <a:pt x="75" y="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2307960" y="2286360"/>
              <a:ext cx="258480" cy="520200"/>
              <a:chOff x="2307960" y="2286360"/>
              <a:chExt cx="258480" cy="520200"/>
            </a:xfrm>
          </p:grpSpPr>
          <p:sp>
            <p:nvSpPr>
              <p:cNvPr id="883" name=""/>
              <p:cNvSpPr/>
              <p:nvPr/>
            </p:nvSpPr>
            <p:spPr>
              <a:xfrm>
                <a:off x="2334960" y="2323080"/>
                <a:ext cx="204840" cy="446040"/>
              </a:xfrm>
              <a:custGeom>
                <a:avLst/>
                <a:gdLst/>
                <a:ahLst/>
                <a:rect l="l" t="t" r="r" b="b"/>
                <a:pathLst>
                  <a:path w="327" h="581">
                    <a:moveTo>
                      <a:pt x="23" y="0"/>
                    </a:moveTo>
                    <a:lnTo>
                      <a:pt x="0" y="12"/>
                    </a:lnTo>
                    <a:lnTo>
                      <a:pt x="304" y="581"/>
                    </a:lnTo>
                    <a:lnTo>
                      <a:pt x="327" y="56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307960" y="2286360"/>
                <a:ext cx="6840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498400" y="2723040"/>
                <a:ext cx="68040" cy="83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2001600" y="2012040"/>
              <a:ext cx="505440" cy="28908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99160" y="2023920"/>
              <a:ext cx="3074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36960" y="2054160"/>
              <a:ext cx="229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3333cc"/>
                  </a:solidFill>
                  <a:latin typeface="Times New Roman"/>
                </a:rPr>
                <a:t>Serv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43080" y="216540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3333cc"/>
                  </a:solidFill>
                  <a:latin typeface="Times New Roman"/>
                </a:rPr>
                <a:t>TIERS infogéré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276640" y="2261520"/>
              <a:ext cx="100080" cy="108720"/>
            </a:xfrm>
            <a:custGeom>
              <a:avLst/>
              <a:gdLst/>
              <a:ahLst/>
              <a:rect l="l" t="t" r="r" b="b"/>
              <a:pathLst>
                <a:path w="159" h="144">
                  <a:moveTo>
                    <a:pt x="42" y="0"/>
                  </a:moveTo>
                  <a:lnTo>
                    <a:pt x="0" y="42"/>
                  </a:lnTo>
                  <a:lnTo>
                    <a:pt x="0" y="102"/>
                  </a:lnTo>
                  <a:lnTo>
                    <a:pt x="42" y="144"/>
                  </a:lnTo>
                  <a:lnTo>
                    <a:pt x="117" y="144"/>
                  </a:lnTo>
                  <a:lnTo>
                    <a:pt x="159" y="102"/>
                  </a:lnTo>
                  <a:lnTo>
                    <a:pt x="159" y="42"/>
                  </a:lnTo>
                  <a:lnTo>
                    <a:pt x="11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333cc"/>
            </a:solidFill>
            <a:ln w="39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90560" y="1389600"/>
              <a:ext cx="846000" cy="331200"/>
            </a:xfrm>
            <a:prstGeom prst="ellipse">
              <a:avLst/>
            </a:prstGeom>
            <a:noFill/>
            <a:ln w="39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45640" y="1360800"/>
              <a:ext cx="45216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283440" y="1410840"/>
              <a:ext cx="753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bbe0e3"/>
                  </a:solidFill>
                  <a:latin typeface="Times New Roman"/>
                </a:rPr>
                <a:t>Service externe habilit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32120" y="1226520"/>
              <a:ext cx="36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Services F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4097520" y="1594440"/>
              <a:ext cx="2109960" cy="12870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44400" y="2881800"/>
              <a:ext cx="753120" cy="460080"/>
            </a:xfrm>
            <a:custGeom>
              <a:avLst/>
              <a:gdLst/>
              <a:ahLst/>
              <a:rect l="l" t="t" r="r" b="b"/>
              <a:pathLst>
                <a:path w="645" h="633">
                  <a:moveTo>
                    <a:pt x="645" y="22"/>
                  </a:moveTo>
                  <a:lnTo>
                    <a:pt x="624" y="0"/>
                  </a:lnTo>
                  <a:lnTo>
                    <a:pt x="0" y="611"/>
                  </a:lnTo>
                  <a:lnTo>
                    <a:pt x="22" y="633"/>
                  </a:lnTo>
                  <a:lnTo>
                    <a:pt x="645" y="2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660000" y="1594800"/>
              <a:ext cx="678240" cy="2206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7760" y="3721320"/>
              <a:ext cx="869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25320" y="3797640"/>
              <a:ext cx="1182240" cy="177840"/>
            </a:xfrm>
            <a:prstGeom prst="rect">
              <a:avLst/>
            </a:prstGeom>
            <a:solidFill>
              <a:srgbClr val="cc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6885720" y="4077720"/>
              <a:ext cx="417600" cy="754200"/>
              <a:chOff x="6885720" y="4077720"/>
              <a:chExt cx="417600" cy="754200"/>
            </a:xfrm>
          </p:grpSpPr>
          <p:sp>
            <p:nvSpPr>
              <p:cNvPr id="901" name=""/>
              <p:cNvSpPr/>
              <p:nvPr/>
            </p:nvSpPr>
            <p:spPr>
              <a:xfrm>
                <a:off x="6915600" y="4077720"/>
                <a:ext cx="387720" cy="41328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6885720" y="4491000"/>
                <a:ext cx="5940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6989040" y="4502880"/>
                <a:ext cx="37080" cy="329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7111440" y="4500720"/>
                <a:ext cx="10440" cy="325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212240" y="4497120"/>
                <a:ext cx="1872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6978960" y="420804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36200" y="425376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7583040" y="4069800"/>
              <a:ext cx="419040" cy="754560"/>
              <a:chOff x="7583040" y="4069800"/>
              <a:chExt cx="419040" cy="754560"/>
            </a:xfrm>
          </p:grpSpPr>
          <p:sp>
            <p:nvSpPr>
              <p:cNvPr id="909" name=""/>
              <p:cNvSpPr/>
              <p:nvPr/>
            </p:nvSpPr>
            <p:spPr>
              <a:xfrm>
                <a:off x="7614720" y="4069800"/>
                <a:ext cx="387360" cy="413640"/>
              </a:xfrm>
              <a:custGeom>
                <a:avLst/>
                <a:gdLst/>
                <a:ahLst/>
                <a:rect l="l" t="t" r="r" b="b"/>
                <a:pathLst>
                  <a:path w="494" h="433">
                    <a:moveTo>
                      <a:pt x="494" y="433"/>
                    </a:moveTo>
                    <a:lnTo>
                      <a:pt x="370" y="0"/>
                    </a:lnTo>
                    <a:lnTo>
                      <a:pt x="123" y="0"/>
                    </a:lnTo>
                    <a:lnTo>
                      <a:pt x="0" y="433"/>
                    </a:lnTo>
                    <a:lnTo>
                      <a:pt x="494" y="433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7583040" y="4483440"/>
                <a:ext cx="60840" cy="32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>
                <a:off x="7688160" y="4494960"/>
                <a:ext cx="35640" cy="32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7809120" y="4493160"/>
                <a:ext cx="10800" cy="327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909920" y="4489200"/>
                <a:ext cx="20160" cy="309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7675920" y="4200120"/>
              <a:ext cx="299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733880" y="42462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C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7791840" y="3966480"/>
              <a:ext cx="1440" cy="107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15400" y="3954600"/>
              <a:ext cx="1080" cy="11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7354080" y="3700080"/>
              <a:ext cx="185040" cy="340200"/>
              <a:chOff x="7354080" y="3700080"/>
              <a:chExt cx="185040" cy="34020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7369560" y="3724560"/>
                <a:ext cx="153360" cy="315720"/>
                <a:chOff x="7369560" y="3724560"/>
                <a:chExt cx="153360" cy="3157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463520" y="3760920"/>
                  <a:ext cx="57600" cy="2793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372440" y="3724560"/>
                  <a:ext cx="90720" cy="315720"/>
                </a:xfrm>
                <a:custGeom>
                  <a:avLst/>
                  <a:gdLst/>
                  <a:ahLst/>
                  <a:rect l="l" t="t" r="r" b="b"/>
                  <a:pathLst>
                    <a:path w="1000" h="2801">
                      <a:moveTo>
                        <a:pt x="0" y="2130"/>
                      </a:moveTo>
                      <a:lnTo>
                        <a:pt x="1000" y="2801"/>
                      </a:lnTo>
                      <a:lnTo>
                        <a:pt x="1000" y="336"/>
                      </a:lnTo>
                      <a:lnTo>
                        <a:pt x="841" y="216"/>
                      </a:lnTo>
                      <a:lnTo>
                        <a:pt x="0" y="0"/>
                      </a:lnTo>
                      <a:lnTo>
                        <a:pt x="0" y="213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463520" y="3760920"/>
                  <a:ext cx="56160" cy="32400"/>
                </a:xfrm>
                <a:custGeom>
                  <a:avLst/>
                  <a:gdLst/>
                  <a:ahLst/>
                  <a:rect l="l" t="t" r="r" b="b"/>
                  <a:pathLst>
                    <a:path w="614" h="283">
                      <a:moveTo>
                        <a:pt x="0" y="0"/>
                      </a:moveTo>
                      <a:lnTo>
                        <a:pt x="614" y="0"/>
                      </a:lnTo>
                      <a:lnTo>
                        <a:pt x="614" y="283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63520" y="3801240"/>
                  <a:ext cx="277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93400" y="3801240"/>
                  <a:ext cx="29520" cy="169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79000" y="378396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507080" y="378180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62080" y="3781800"/>
                  <a:ext cx="1548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463520" y="376272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494840" y="3764880"/>
                  <a:ext cx="2808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46352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493400" y="38394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77560" y="3820320"/>
                  <a:ext cx="2916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507080" y="3820320"/>
                  <a:ext cx="158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7463520" y="3820320"/>
                  <a:ext cx="1224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46352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93400" y="387576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477560" y="3856320"/>
                  <a:ext cx="2916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507080" y="3856320"/>
                  <a:ext cx="158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463520" y="3856320"/>
                  <a:ext cx="122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46352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493400" y="391176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477560" y="3894840"/>
                  <a:ext cx="27720" cy="1512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507080" y="3892680"/>
                  <a:ext cx="140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463520" y="389268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7463520" y="395064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493400" y="3948480"/>
                  <a:ext cx="295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479000" y="3930840"/>
                  <a:ext cx="2772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507080" y="3930840"/>
                  <a:ext cx="15840" cy="154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463520" y="3986640"/>
                  <a:ext cx="2772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493400" y="3986640"/>
                  <a:ext cx="2772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477560" y="396756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507080" y="396756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463520" y="396756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463520" y="4023000"/>
                  <a:ext cx="27720" cy="1512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493400" y="4023000"/>
                  <a:ext cx="27720" cy="17280"/>
                </a:xfrm>
                <a:prstGeom prst="rect">
                  <a:avLst/>
                </a:pr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477560" y="4003920"/>
                  <a:ext cx="29160" cy="172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507080" y="4003920"/>
                  <a:ext cx="158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463520" y="4003920"/>
                  <a:ext cx="12240" cy="17280"/>
                </a:xfrm>
                <a:prstGeom prst="rect">
                  <a:avLst/>
                </a:prstGeom>
                <a:solidFill>
                  <a:srgbClr val="e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457040" y="4017240"/>
                  <a:ext cx="6120" cy="20520"/>
                </a:xfrm>
                <a:custGeom>
                  <a:avLst/>
                  <a:gdLst/>
                  <a:ahLst/>
                  <a:rect l="l" t="t" r="r" b="b"/>
                  <a:pathLst>
                    <a:path w="83" h="179">
                      <a:moveTo>
                        <a:pt x="83" y="47"/>
                      </a:moveTo>
                      <a:lnTo>
                        <a:pt x="83" y="179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83" y="4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432200" y="399600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4" h="306">
                      <a:moveTo>
                        <a:pt x="254" y="173"/>
                      </a:moveTo>
                      <a:lnTo>
                        <a:pt x="254" y="30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54" y="173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407000" y="3976920"/>
                  <a:ext cx="23400" cy="34560"/>
                </a:xfrm>
                <a:custGeom>
                  <a:avLst/>
                  <a:gdLst/>
                  <a:ahLst/>
                  <a:rect l="l" t="t" r="r" b="b"/>
                  <a:pathLst>
                    <a:path w="253" h="294">
                      <a:moveTo>
                        <a:pt x="253" y="170"/>
                      </a:moveTo>
                      <a:lnTo>
                        <a:pt x="253" y="294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7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382160" y="39578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165"/>
                      </a:moveTo>
                      <a:lnTo>
                        <a:pt x="253" y="288"/>
                      </a:lnTo>
                      <a:lnTo>
                        <a:pt x="0" y="121"/>
                      </a:lnTo>
                      <a:lnTo>
                        <a:pt x="0" y="0"/>
                      </a:lnTo>
                      <a:lnTo>
                        <a:pt x="253" y="165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369560" y="3948480"/>
                  <a:ext cx="12600" cy="22680"/>
                </a:xfrm>
                <a:custGeom>
                  <a:avLst/>
                  <a:gdLst/>
                  <a:ahLst/>
                  <a:rect l="l" t="t" r="r" b="b"/>
                  <a:pathLst>
                    <a:path w="125" h="205">
                      <a:moveTo>
                        <a:pt x="125" y="83"/>
                      </a:moveTo>
                      <a:lnTo>
                        <a:pt x="125" y="205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457040" y="376092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58">
                      <a:moveTo>
                        <a:pt x="83" y="20"/>
                      </a:moveTo>
                      <a:lnTo>
                        <a:pt x="83" y="15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83" y="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43220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4" h="214">
                      <a:moveTo>
                        <a:pt x="254" y="83"/>
                      </a:moveTo>
                      <a:lnTo>
                        <a:pt x="254" y="214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83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407000" y="374184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9">
                      <a:moveTo>
                        <a:pt x="253" y="83"/>
                      </a:moveTo>
                      <a:lnTo>
                        <a:pt x="253" y="209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7382160" y="3732120"/>
                  <a:ext cx="23400" cy="22680"/>
                </a:xfrm>
                <a:custGeom>
                  <a:avLst/>
                  <a:gdLst/>
                  <a:ahLst/>
                  <a:rect l="l" t="t" r="r" b="b"/>
                  <a:pathLst>
                    <a:path w="253" h="206">
                      <a:moveTo>
                        <a:pt x="253" y="83"/>
                      </a:moveTo>
                      <a:lnTo>
                        <a:pt x="252" y="20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8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369560" y="37267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59">
                      <a:moveTo>
                        <a:pt x="125" y="36"/>
                      </a:moveTo>
                      <a:lnTo>
                        <a:pt x="125" y="159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125" y="36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432200" y="37857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30">
                      <a:moveTo>
                        <a:pt x="254" y="96"/>
                      </a:moveTo>
                      <a:lnTo>
                        <a:pt x="254" y="230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407000" y="377604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53" h="222">
                      <a:moveTo>
                        <a:pt x="253" y="97"/>
                      </a:moveTo>
                      <a:lnTo>
                        <a:pt x="253" y="222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9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7382160" y="37648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18">
                      <a:moveTo>
                        <a:pt x="253" y="95"/>
                      </a:moveTo>
                      <a:lnTo>
                        <a:pt x="253" y="218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9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7369560" y="3759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65">
                      <a:moveTo>
                        <a:pt x="125" y="45"/>
                      </a:moveTo>
                      <a:lnTo>
                        <a:pt x="125" y="165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125" y="4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457040" y="3835440"/>
                  <a:ext cx="6120" cy="19080"/>
                </a:xfrm>
                <a:custGeom>
                  <a:avLst/>
                  <a:gdLst/>
                  <a:ahLst/>
                  <a:rect l="l" t="t" r="r" b="b"/>
                  <a:pathLst>
                    <a:path w="83" h="169">
                      <a:moveTo>
                        <a:pt x="83" y="32"/>
                      </a:moveTo>
                      <a:lnTo>
                        <a:pt x="83" y="16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7432200" y="382212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4" h="241">
                      <a:moveTo>
                        <a:pt x="254" y="107"/>
                      </a:moveTo>
                      <a:lnTo>
                        <a:pt x="254" y="241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07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407000" y="380844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53" h="236">
                      <a:moveTo>
                        <a:pt x="253" y="112"/>
                      </a:moveTo>
                      <a:lnTo>
                        <a:pt x="253" y="23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382160" y="379728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53" h="232">
                      <a:moveTo>
                        <a:pt x="253" y="110"/>
                      </a:moveTo>
                      <a:lnTo>
                        <a:pt x="253" y="23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10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369560" y="378936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2">
                      <a:moveTo>
                        <a:pt x="125" y="49"/>
                      </a:moveTo>
                      <a:lnTo>
                        <a:pt x="125" y="172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457040" y="386964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74">
                      <a:moveTo>
                        <a:pt x="79" y="41"/>
                      </a:moveTo>
                      <a:lnTo>
                        <a:pt x="79" y="174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79" y="4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432200" y="3856320"/>
                  <a:ext cx="23400" cy="28800"/>
                </a:xfrm>
                <a:custGeom>
                  <a:avLst/>
                  <a:gdLst/>
                  <a:ahLst/>
                  <a:rect l="l" t="t" r="r" b="b"/>
                  <a:pathLst>
                    <a:path w="254" h="250">
                      <a:moveTo>
                        <a:pt x="254" y="118"/>
                      </a:moveTo>
                      <a:lnTo>
                        <a:pt x="254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54" y="11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407000" y="384336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253" h="245">
                      <a:moveTo>
                        <a:pt x="253" y="121"/>
                      </a:moveTo>
                      <a:lnTo>
                        <a:pt x="253" y="24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382160" y="38275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46">
                      <a:moveTo>
                        <a:pt x="253" y="122"/>
                      </a:moveTo>
                      <a:lnTo>
                        <a:pt x="253" y="24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2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369560" y="382212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125" h="178">
                      <a:moveTo>
                        <a:pt x="125" y="55"/>
                      </a:moveTo>
                      <a:lnTo>
                        <a:pt x="125" y="178"/>
                      </a:lnTo>
                      <a:lnTo>
                        <a:pt x="0" y="114"/>
                      </a:lnTo>
                      <a:lnTo>
                        <a:pt x="0" y="0"/>
                      </a:lnTo>
                      <a:lnTo>
                        <a:pt x="125" y="55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457040" y="3908160"/>
                  <a:ext cx="6120" cy="19440"/>
                </a:xfrm>
                <a:custGeom>
                  <a:avLst/>
                  <a:gdLst/>
                  <a:ahLst/>
                  <a:rect l="l" t="t" r="r" b="b"/>
                  <a:pathLst>
                    <a:path w="83" h="176">
                      <a:moveTo>
                        <a:pt x="83" y="46"/>
                      </a:moveTo>
                      <a:lnTo>
                        <a:pt x="83" y="176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83" y="4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432200" y="389124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60">
                      <a:moveTo>
                        <a:pt x="254" y="129"/>
                      </a:moveTo>
                      <a:lnTo>
                        <a:pt x="254" y="26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54" y="12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407000" y="387576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57">
                      <a:moveTo>
                        <a:pt x="253" y="133"/>
                      </a:moveTo>
                      <a:lnTo>
                        <a:pt x="253" y="257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382160" y="386028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53" h="255">
                      <a:moveTo>
                        <a:pt x="253" y="131"/>
                      </a:moveTo>
                      <a:lnTo>
                        <a:pt x="253" y="255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369560" y="385272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3">
                      <a:moveTo>
                        <a:pt x="125" y="62"/>
                      </a:moveTo>
                      <a:lnTo>
                        <a:pt x="125" y="183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125" y="6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455600" y="394452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2" h="168">
                      <a:moveTo>
                        <a:pt x="82" y="36"/>
                      </a:moveTo>
                      <a:lnTo>
                        <a:pt x="82" y="16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82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32200" y="392760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278">
                      <a:moveTo>
                        <a:pt x="254" y="144"/>
                      </a:moveTo>
                      <a:lnTo>
                        <a:pt x="254" y="278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54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407000" y="3910320"/>
                  <a:ext cx="23400" cy="30240"/>
                </a:xfrm>
                <a:custGeom>
                  <a:avLst/>
                  <a:gdLst/>
                  <a:ahLst/>
                  <a:rect l="l" t="t" r="r" b="b"/>
                  <a:pathLst>
                    <a:path w="253" h="270">
                      <a:moveTo>
                        <a:pt x="253" y="144"/>
                      </a:moveTo>
                      <a:lnTo>
                        <a:pt x="253" y="27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53" y="14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382160" y="38926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6" h="271">
                      <a:moveTo>
                        <a:pt x="256" y="149"/>
                      </a:moveTo>
                      <a:lnTo>
                        <a:pt x="256" y="271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6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369560" y="38854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87">
                      <a:moveTo>
                        <a:pt x="125" y="65"/>
                      </a:moveTo>
                      <a:lnTo>
                        <a:pt x="125" y="187"/>
                      </a:lnTo>
                      <a:lnTo>
                        <a:pt x="0" y="113"/>
                      </a:lnTo>
                      <a:lnTo>
                        <a:pt x="0" y="0"/>
                      </a:lnTo>
                      <a:lnTo>
                        <a:pt x="125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457040" y="3980880"/>
                  <a:ext cx="6120" cy="21240"/>
                </a:xfrm>
                <a:custGeom>
                  <a:avLst/>
                  <a:gdLst/>
                  <a:ahLst/>
                  <a:rect l="l" t="t" r="r" b="b"/>
                  <a:pathLst>
                    <a:path w="79" h="192">
                      <a:moveTo>
                        <a:pt x="79" y="52"/>
                      </a:moveTo>
                      <a:lnTo>
                        <a:pt x="79" y="192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79" y="5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432200" y="396180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4" h="289">
                      <a:moveTo>
                        <a:pt x="254" y="155"/>
                      </a:moveTo>
                      <a:lnTo>
                        <a:pt x="254" y="289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54" y="15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407000" y="39445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53" h="283">
                      <a:moveTo>
                        <a:pt x="253" y="158"/>
                      </a:moveTo>
                      <a:lnTo>
                        <a:pt x="253" y="28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53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382160" y="3925440"/>
                  <a:ext cx="23400" cy="32400"/>
                </a:xfrm>
                <a:custGeom>
                  <a:avLst/>
                  <a:gdLst/>
                  <a:ahLst/>
                  <a:rect l="l" t="t" r="r" b="b"/>
                  <a:pathLst>
                    <a:path w="253" h="276">
                      <a:moveTo>
                        <a:pt x="253" y="153"/>
                      </a:moveTo>
                      <a:lnTo>
                        <a:pt x="253" y="276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53" y="153"/>
                      </a:lnTo>
                      <a:close/>
                    </a:path>
                  </a:pathLst>
                </a:custGeom>
                <a:solidFill>
                  <a:srgbClr val="2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369560" y="39178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25" h="194">
                      <a:moveTo>
                        <a:pt x="125" y="71"/>
                      </a:moveTo>
                      <a:lnTo>
                        <a:pt x="125" y="194"/>
                      </a:lnTo>
                      <a:lnTo>
                        <a:pt x="0" y="108"/>
                      </a:lnTo>
                      <a:lnTo>
                        <a:pt x="0" y="0"/>
                      </a:lnTo>
                      <a:lnTo>
                        <a:pt x="125" y="7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369560" y="3933000"/>
                  <a:ext cx="20520" cy="26640"/>
                </a:xfrm>
                <a:custGeom>
                  <a:avLst/>
                  <a:gdLst/>
                  <a:ahLst/>
                  <a:rect l="l" t="t" r="r" b="b"/>
                  <a:pathLst>
                    <a:path w="209" h="242">
                      <a:moveTo>
                        <a:pt x="209" y="132"/>
                      </a:moveTo>
                      <a:lnTo>
                        <a:pt x="209" y="24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438320" y="398484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4" h="313">
                      <a:moveTo>
                        <a:pt x="284" y="186"/>
                      </a:moveTo>
                      <a:lnTo>
                        <a:pt x="284" y="313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84" y="18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414920" y="396756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236" h="279">
                      <a:moveTo>
                        <a:pt x="236" y="148"/>
                      </a:moveTo>
                      <a:lnTo>
                        <a:pt x="236" y="279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4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90080" y="394848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4">
                      <a:moveTo>
                        <a:pt x="248" y="151"/>
                      </a:moveTo>
                      <a:lnTo>
                        <a:pt x="248" y="274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248" y="15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369560" y="3743640"/>
                  <a:ext cx="20520" cy="21240"/>
                </a:xfrm>
                <a:custGeom>
                  <a:avLst/>
                  <a:gdLst/>
                  <a:ahLst/>
                  <a:rect l="l" t="t" r="r" b="b"/>
                  <a:pathLst>
                    <a:path w="220" h="196">
                      <a:moveTo>
                        <a:pt x="220" y="77"/>
                      </a:moveTo>
                      <a:lnTo>
                        <a:pt x="220" y="196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20" y="7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414920" y="3762720"/>
                  <a:ext cx="21960" cy="22680"/>
                </a:xfrm>
                <a:custGeom>
                  <a:avLst/>
                  <a:gdLst/>
                  <a:ahLst/>
                  <a:rect l="l" t="t" r="r" b="b"/>
                  <a:pathLst>
                    <a:path w="237" h="218">
                      <a:moveTo>
                        <a:pt x="237" y="84"/>
                      </a:moveTo>
                      <a:lnTo>
                        <a:pt x="237" y="21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391520" y="3751200"/>
                  <a:ext cx="23400" cy="24480"/>
                </a:xfrm>
                <a:custGeom>
                  <a:avLst/>
                  <a:gdLst/>
                  <a:ahLst/>
                  <a:rect l="l" t="t" r="r" b="b"/>
                  <a:pathLst>
                    <a:path w="249" h="212">
                      <a:moveTo>
                        <a:pt x="249" y="89"/>
                      </a:moveTo>
                      <a:lnTo>
                        <a:pt x="249" y="21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9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369560" y="377424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08">
                      <a:moveTo>
                        <a:pt x="220" y="91"/>
                      </a:moveTo>
                      <a:lnTo>
                        <a:pt x="220" y="20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9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438320" y="380700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9" h="248">
                      <a:moveTo>
                        <a:pt x="279" y="113"/>
                      </a:moveTo>
                      <a:lnTo>
                        <a:pt x="279" y="248"/>
                      </a:lnTo>
                      <a:lnTo>
                        <a:pt x="1" y="132"/>
                      </a:lnTo>
                      <a:lnTo>
                        <a:pt x="0" y="0"/>
                      </a:lnTo>
                      <a:lnTo>
                        <a:pt x="279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414920" y="3797280"/>
                  <a:ext cx="21960" cy="24480"/>
                </a:xfrm>
                <a:custGeom>
                  <a:avLst/>
                  <a:gdLst/>
                  <a:ahLst/>
                  <a:rect l="l" t="t" r="r" b="b"/>
                  <a:pathLst>
                    <a:path w="237" h="225">
                      <a:moveTo>
                        <a:pt x="237" y="92"/>
                      </a:moveTo>
                      <a:lnTo>
                        <a:pt x="237" y="225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7" y="9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391520" y="3785760"/>
                  <a:ext cx="23400" cy="24840"/>
                </a:xfrm>
                <a:custGeom>
                  <a:avLst/>
                  <a:gdLst/>
                  <a:ahLst/>
                  <a:rect l="l" t="t" r="r" b="b"/>
                  <a:pathLst>
                    <a:path w="249" h="225">
                      <a:moveTo>
                        <a:pt x="249" y="101"/>
                      </a:moveTo>
                      <a:lnTo>
                        <a:pt x="249" y="225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49" y="10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369560" y="38070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220" h="217">
                      <a:moveTo>
                        <a:pt x="220" y="100"/>
                      </a:moveTo>
                      <a:lnTo>
                        <a:pt x="220" y="217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20" y="10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414920" y="3830040"/>
                  <a:ext cx="21960" cy="26280"/>
                </a:xfrm>
                <a:custGeom>
                  <a:avLst/>
                  <a:gdLst/>
                  <a:ahLst/>
                  <a:rect l="l" t="t" r="r" b="b"/>
                  <a:pathLst>
                    <a:path w="237" h="237">
                      <a:moveTo>
                        <a:pt x="237" y="102"/>
                      </a:moveTo>
                      <a:lnTo>
                        <a:pt x="237" y="237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7" y="10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391520" y="3818160"/>
                  <a:ext cx="23400" cy="26640"/>
                </a:xfrm>
                <a:custGeom>
                  <a:avLst/>
                  <a:gdLst/>
                  <a:ahLst/>
                  <a:rect l="l" t="t" r="r" b="b"/>
                  <a:pathLst>
                    <a:path w="249" h="236">
                      <a:moveTo>
                        <a:pt x="249" y="112"/>
                      </a:moveTo>
                      <a:lnTo>
                        <a:pt x="249" y="236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49" y="11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369560" y="38372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2">
                      <a:moveTo>
                        <a:pt x="209" y="103"/>
                      </a:moveTo>
                      <a:lnTo>
                        <a:pt x="209" y="222"/>
                      </a:lnTo>
                      <a:lnTo>
                        <a:pt x="0" y="118"/>
                      </a:lnTo>
                      <a:lnTo>
                        <a:pt x="0" y="0"/>
                      </a:lnTo>
                      <a:lnTo>
                        <a:pt x="209" y="10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438320" y="387756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77">
                      <a:moveTo>
                        <a:pt x="288" y="140"/>
                      </a:moveTo>
                      <a:lnTo>
                        <a:pt x="288" y="277"/>
                      </a:lnTo>
                      <a:lnTo>
                        <a:pt x="0" y="137"/>
                      </a:lnTo>
                      <a:lnTo>
                        <a:pt x="0" y="0"/>
                      </a:lnTo>
                      <a:lnTo>
                        <a:pt x="288" y="14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414920" y="3864240"/>
                  <a:ext cx="21960" cy="28440"/>
                </a:xfrm>
                <a:custGeom>
                  <a:avLst/>
                  <a:gdLst/>
                  <a:ahLst/>
                  <a:rect l="l" t="t" r="r" b="b"/>
                  <a:pathLst>
                    <a:path w="236" h="250">
                      <a:moveTo>
                        <a:pt x="236" y="113"/>
                      </a:moveTo>
                      <a:lnTo>
                        <a:pt x="236" y="250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36" y="11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390080" y="38491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45">
                      <a:moveTo>
                        <a:pt x="248" y="122"/>
                      </a:moveTo>
                      <a:lnTo>
                        <a:pt x="248" y="245"/>
                      </a:lnTo>
                      <a:lnTo>
                        <a:pt x="0" y="127"/>
                      </a:lnTo>
                      <a:lnTo>
                        <a:pt x="0" y="0"/>
                      </a:lnTo>
                      <a:lnTo>
                        <a:pt x="248" y="122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369560" y="3869640"/>
                  <a:ext cx="20520" cy="24840"/>
                </a:xfrm>
                <a:custGeom>
                  <a:avLst/>
                  <a:gdLst/>
                  <a:ahLst/>
                  <a:rect l="l" t="t" r="r" b="b"/>
                  <a:pathLst>
                    <a:path w="209" h="228">
                      <a:moveTo>
                        <a:pt x="209" y="108"/>
                      </a:moveTo>
                      <a:lnTo>
                        <a:pt x="209" y="228"/>
                      </a:lnTo>
                      <a:lnTo>
                        <a:pt x="0" y="117"/>
                      </a:lnTo>
                      <a:lnTo>
                        <a:pt x="0" y="0"/>
                      </a:lnTo>
                      <a:lnTo>
                        <a:pt x="209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438320" y="391392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288" h="286">
                      <a:moveTo>
                        <a:pt x="288" y="158"/>
                      </a:moveTo>
                      <a:lnTo>
                        <a:pt x="288" y="28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88" y="15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414920" y="3898440"/>
                  <a:ext cx="21960" cy="28800"/>
                </a:xfrm>
                <a:custGeom>
                  <a:avLst/>
                  <a:gdLst/>
                  <a:ahLst/>
                  <a:rect l="l" t="t" r="r" b="b"/>
                  <a:pathLst>
                    <a:path w="236" h="263">
                      <a:moveTo>
                        <a:pt x="236" y="129"/>
                      </a:moveTo>
                      <a:lnTo>
                        <a:pt x="236" y="263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36" y="129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90080" y="3883320"/>
                  <a:ext cx="23400" cy="28440"/>
                </a:xfrm>
                <a:custGeom>
                  <a:avLst/>
                  <a:gdLst/>
                  <a:ahLst/>
                  <a:rect l="l" t="t" r="r" b="b"/>
                  <a:pathLst>
                    <a:path w="248" h="260">
                      <a:moveTo>
                        <a:pt x="248" y="134"/>
                      </a:moveTo>
                      <a:lnTo>
                        <a:pt x="248" y="260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369560" y="3900600"/>
                  <a:ext cx="20520" cy="28440"/>
                </a:xfrm>
                <a:custGeom>
                  <a:avLst/>
                  <a:gdLst/>
                  <a:ahLst/>
                  <a:rect l="l" t="t" r="r" b="b"/>
                  <a:pathLst>
                    <a:path w="209" h="250">
                      <a:moveTo>
                        <a:pt x="209" y="132"/>
                      </a:moveTo>
                      <a:lnTo>
                        <a:pt x="209" y="250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9" y="13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438320" y="3948480"/>
                  <a:ext cx="25200" cy="34200"/>
                </a:xfrm>
                <a:custGeom>
                  <a:avLst/>
                  <a:gdLst/>
                  <a:ahLst/>
                  <a:rect l="l" t="t" r="r" b="b"/>
                  <a:pathLst>
                    <a:path w="288" h="305">
                      <a:moveTo>
                        <a:pt x="288" y="169"/>
                      </a:moveTo>
                      <a:lnTo>
                        <a:pt x="288" y="305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88" y="16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414920" y="3933000"/>
                  <a:ext cx="21960" cy="30240"/>
                </a:xfrm>
                <a:custGeom>
                  <a:avLst/>
                  <a:gdLst/>
                  <a:ahLst/>
                  <a:rect l="l" t="t" r="r" b="b"/>
                  <a:pathLst>
                    <a:path w="236" h="271">
                      <a:moveTo>
                        <a:pt x="236" y="136"/>
                      </a:moveTo>
                      <a:lnTo>
                        <a:pt x="236" y="271"/>
                      </a:lnTo>
                      <a:lnTo>
                        <a:pt x="0" y="129"/>
                      </a:lnTo>
                      <a:lnTo>
                        <a:pt x="0" y="0"/>
                      </a:lnTo>
                      <a:lnTo>
                        <a:pt x="236" y="136"/>
                      </a:lnTo>
                      <a:close/>
                    </a:path>
                  </a:pathLst>
                </a:cu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390080" y="3915720"/>
                  <a:ext cx="23400" cy="30600"/>
                </a:xfrm>
                <a:custGeom>
                  <a:avLst/>
                  <a:gdLst/>
                  <a:ahLst/>
                  <a:rect l="l" t="t" r="r" b="b"/>
                  <a:pathLst>
                    <a:path w="248" h="272">
                      <a:moveTo>
                        <a:pt x="248" y="149"/>
                      </a:moveTo>
                      <a:lnTo>
                        <a:pt x="248" y="272"/>
                      </a:lnTo>
                      <a:lnTo>
                        <a:pt x="0" y="124"/>
                      </a:lnTo>
                      <a:lnTo>
                        <a:pt x="0" y="0"/>
                      </a:lnTo>
                      <a:lnTo>
                        <a:pt x="248" y="14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438320" y="3772080"/>
                  <a:ext cx="25200" cy="26640"/>
                </a:xfrm>
                <a:custGeom>
                  <a:avLst/>
                  <a:gdLst/>
                  <a:ahLst/>
                  <a:rect l="l" t="t" r="r" b="b"/>
                  <a:pathLst>
                    <a:path w="274" h="236">
                      <a:moveTo>
                        <a:pt x="274" y="96"/>
                      </a:moveTo>
                      <a:lnTo>
                        <a:pt x="274" y="236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74" y="9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455600" y="3797280"/>
                  <a:ext cx="7560" cy="19080"/>
                </a:xfrm>
                <a:custGeom>
                  <a:avLst/>
                  <a:gdLst/>
                  <a:ahLst/>
                  <a:rect l="l" t="t" r="r" b="b"/>
                  <a:pathLst>
                    <a:path w="86" h="169">
                      <a:moveTo>
                        <a:pt x="86" y="36"/>
                      </a:moveTo>
                      <a:lnTo>
                        <a:pt x="86" y="169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86" y="36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438320" y="3843360"/>
                  <a:ext cx="25200" cy="28440"/>
                </a:xfrm>
                <a:custGeom>
                  <a:avLst/>
                  <a:gdLst/>
                  <a:ahLst/>
                  <a:rect l="l" t="t" r="r" b="b"/>
                  <a:pathLst>
                    <a:path w="274" h="258">
                      <a:moveTo>
                        <a:pt x="274" y="120"/>
                      </a:moveTo>
                      <a:lnTo>
                        <a:pt x="274" y="258"/>
                      </a:lnTo>
                      <a:lnTo>
                        <a:pt x="0" y="136"/>
                      </a:lnTo>
                      <a:lnTo>
                        <a:pt x="0" y="0"/>
                      </a:lnTo>
                      <a:lnTo>
                        <a:pt x="274" y="12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463520" y="3930840"/>
                  <a:ext cx="12240" cy="15480"/>
                </a:xfrm>
                <a:prstGeom prst="rect">
                  <a:avLst/>
                </a:prstGeom>
                <a:solidFill>
                  <a:srgbClr val="6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7354080" y="3700080"/>
                <a:ext cx="185040" cy="64440"/>
                <a:chOff x="7354080" y="3700080"/>
                <a:chExt cx="185040" cy="6444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7354080" y="3700080"/>
                  <a:ext cx="185040" cy="37800"/>
                </a:xfrm>
                <a:custGeom>
                  <a:avLst/>
                  <a:gdLst/>
                  <a:ahLst/>
                  <a:rect l="l" t="t" r="r" b="b"/>
                  <a:pathLst>
                    <a:path w="2021" h="340">
                      <a:moveTo>
                        <a:pt x="0" y="0"/>
                      </a:moveTo>
                      <a:lnTo>
                        <a:pt x="870" y="25"/>
                      </a:lnTo>
                      <a:lnTo>
                        <a:pt x="2021" y="326"/>
                      </a:lnTo>
                      <a:lnTo>
                        <a:pt x="1221" y="3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466760" y="3736080"/>
                  <a:ext cx="72000" cy="28440"/>
                </a:xfrm>
                <a:custGeom>
                  <a:avLst/>
                  <a:gdLst/>
                  <a:ahLst/>
                  <a:rect l="l" t="t" r="r" b="b"/>
                  <a:pathLst>
                    <a:path w="785" h="257">
                      <a:moveTo>
                        <a:pt x="8" y="1"/>
                      </a:moveTo>
                      <a:lnTo>
                        <a:pt x="785" y="0"/>
                      </a:lnTo>
                      <a:lnTo>
                        <a:pt x="785" y="257"/>
                      </a:lnTo>
                      <a:lnTo>
                        <a:pt x="0" y="257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354080" y="3700080"/>
                  <a:ext cx="115920" cy="64440"/>
                </a:xfrm>
                <a:custGeom>
                  <a:avLst/>
                  <a:gdLst/>
                  <a:ahLst/>
                  <a:rect l="l" t="t" r="r" b="b"/>
                  <a:pathLst>
                    <a:path w="1248" h="574">
                      <a:moveTo>
                        <a:pt x="0" y="0"/>
                      </a:moveTo>
                      <a:lnTo>
                        <a:pt x="0" y="193"/>
                      </a:lnTo>
                      <a:lnTo>
                        <a:pt x="1248" y="574"/>
                      </a:lnTo>
                      <a:lnTo>
                        <a:pt x="1248" y="3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2" name=""/>
            <p:cNvSpPr/>
            <p:nvPr/>
          </p:nvSpPr>
          <p:spPr>
            <a:xfrm>
              <a:off x="3720960" y="5456880"/>
              <a:ext cx="753480" cy="7354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NS public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« rsv.fr 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55840" y="2973960"/>
              <a:ext cx="1431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ors marché, contrat ent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estataire Réseau et FAI/O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19160" y="4997160"/>
              <a:ext cx="59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ez Co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7564320" y="4905360"/>
              <a:ext cx="301320" cy="275400"/>
              <a:chOff x="7564320" y="4905360"/>
              <a:chExt cx="301320" cy="275400"/>
            </a:xfrm>
          </p:grpSpPr>
          <p:sp>
            <p:nvSpPr>
              <p:cNvPr id="1036" name=""/>
              <p:cNvSpPr/>
              <p:nvPr/>
            </p:nvSpPr>
            <p:spPr>
              <a:xfrm>
                <a:off x="763956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56432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5077440" y="4905360"/>
              <a:ext cx="301320" cy="275400"/>
              <a:chOff x="5077440" y="4905360"/>
              <a:chExt cx="301320" cy="275400"/>
            </a:xfrm>
          </p:grpSpPr>
          <p:sp>
            <p:nvSpPr>
              <p:cNvPr id="1039" name=""/>
              <p:cNvSpPr/>
              <p:nvPr/>
            </p:nvSpPr>
            <p:spPr>
              <a:xfrm>
                <a:off x="515268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7744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6886080" y="4905360"/>
              <a:ext cx="301320" cy="275400"/>
              <a:chOff x="6886080" y="4905360"/>
              <a:chExt cx="301320" cy="275400"/>
            </a:xfrm>
          </p:grpSpPr>
          <p:sp>
            <p:nvSpPr>
              <p:cNvPr id="1042" name=""/>
              <p:cNvSpPr/>
              <p:nvPr/>
            </p:nvSpPr>
            <p:spPr>
              <a:xfrm>
                <a:off x="6961320" y="490536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886080" y="508932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5831280" y="4905360"/>
              <a:ext cx="300960" cy="275400"/>
              <a:chOff x="5831280" y="4905360"/>
              <a:chExt cx="300960" cy="275400"/>
            </a:xfrm>
          </p:grpSpPr>
          <p:sp>
            <p:nvSpPr>
              <p:cNvPr id="1045" name=""/>
              <p:cNvSpPr/>
              <p:nvPr/>
            </p:nvSpPr>
            <p:spPr>
              <a:xfrm>
                <a:off x="590652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3128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1535760" y="1778400"/>
              <a:ext cx="1706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1535760" y="4905360"/>
              <a:ext cx="300960" cy="275400"/>
              <a:chOff x="1535760" y="4905360"/>
              <a:chExt cx="300960" cy="275400"/>
            </a:xfrm>
          </p:grpSpPr>
          <p:sp>
            <p:nvSpPr>
              <p:cNvPr id="1049" name=""/>
              <p:cNvSpPr/>
              <p:nvPr/>
            </p:nvSpPr>
            <p:spPr>
              <a:xfrm>
                <a:off x="1611000" y="4905360"/>
                <a:ext cx="22536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535760" y="5089320"/>
                <a:ext cx="300960" cy="91440"/>
              </a:xfrm>
              <a:prstGeom prst="parallelogram">
                <a:avLst>
                  <a:gd name="adj" fmla="val 82283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932400" y="4077720"/>
              <a:ext cx="301320" cy="275400"/>
              <a:chOff x="932400" y="4077720"/>
              <a:chExt cx="301320" cy="275400"/>
            </a:xfrm>
          </p:grpSpPr>
          <p:sp>
            <p:nvSpPr>
              <p:cNvPr id="1052" name=""/>
              <p:cNvSpPr/>
              <p:nvPr/>
            </p:nvSpPr>
            <p:spPr>
              <a:xfrm>
                <a:off x="1007640" y="407772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932400" y="426168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1234080" y="4629240"/>
              <a:ext cx="301320" cy="275400"/>
              <a:chOff x="1234080" y="4629240"/>
              <a:chExt cx="301320" cy="275400"/>
            </a:xfrm>
          </p:grpSpPr>
          <p:sp>
            <p:nvSpPr>
              <p:cNvPr id="1055" name=""/>
              <p:cNvSpPr/>
              <p:nvPr/>
            </p:nvSpPr>
            <p:spPr>
              <a:xfrm>
                <a:off x="1309320" y="46292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234080" y="48132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706320" y="3709440"/>
              <a:ext cx="301320" cy="275400"/>
              <a:chOff x="706320" y="3709440"/>
              <a:chExt cx="301320" cy="275400"/>
            </a:xfrm>
          </p:grpSpPr>
          <p:sp>
            <p:nvSpPr>
              <p:cNvPr id="1058" name=""/>
              <p:cNvSpPr/>
              <p:nvPr/>
            </p:nvSpPr>
            <p:spPr>
              <a:xfrm>
                <a:off x="781560" y="3709440"/>
                <a:ext cx="225720" cy="1839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06320" y="3893400"/>
                <a:ext cx="301320" cy="91440"/>
              </a:xfrm>
              <a:prstGeom prst="parallelogram">
                <a:avLst>
                  <a:gd name="adj" fmla="val 82382"/>
                </a:avLst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179280" y="4353480"/>
              <a:ext cx="70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ccord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03200" y="4997160"/>
              <a:ext cx="11239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fessionnels de sant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ôpitaux établissem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e soi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3645360" y="2054160"/>
              <a:ext cx="452160" cy="64368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14960" y="2790360"/>
              <a:ext cx="678240" cy="55152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062800" y="3341880"/>
              <a:ext cx="1130400" cy="1836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2364480" y="3341880"/>
              <a:ext cx="828720" cy="45936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54360" y="2881800"/>
              <a:ext cx="0" cy="9194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 txBox="1"/>
          <p:nvPr/>
        </p:nvSpPr>
        <p:spPr>
          <a:xfrm>
            <a:off x="6084720" y="2708280"/>
            <a:ext cx="26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ERNE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8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9A7-2F91-42D2-A47F-5660862727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28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28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1" name="" descr=""/>
          <p:cNvPicPr/>
          <p:nvPr/>
        </p:nvPicPr>
        <p:blipFill>
          <a:blip r:embed="rId2"/>
          <a:stretch/>
        </p:blipFill>
        <p:spPr>
          <a:xfrm>
            <a:off x="2340000" y="1309680"/>
            <a:ext cx="446400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C48-E54F-44B1-AEF1-12E8A9F9D6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VPN protège les éléments transportés contre l’écoute. (confidentialité) 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(non écouta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tout flux TCP/IP, de plus ,</a:t>
            </a: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 tout flux passe par un centre de service qui autorise selon une grille d’autorisation matricielle l’échange entre 2 points du VP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part son implémentation, Il garantit que la MDPH est le dernier dépositaire du flux avant son émission vers la C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authentification de l’expéditeur doit être garantie par d’autres moyens (log-in, authentification par clé USB ou par carte.)  </a:t>
            </a:r>
            <a:r>
              <a:rPr b="0" lang="fr-FR" sz="2400" spc="-1" strike="noStrike">
                <a:solidFill>
                  <a:srgbClr val="cc3300"/>
                </a:solidFill>
                <a:latin typeface="Arial"/>
              </a:rPr>
              <a:t>(nécessite un moyen annexe d’authentification et/ou de signature pour les flux asynchrones « SMTP, FTP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La robustesse est celle d’un réseau privé (débit garant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00"/>
                </a:solidFill>
                <a:latin typeface="Arial"/>
              </a:rPr>
              <a:t>Solution économique si l’on utilise un VPN exis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2) Le transport : les chemins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Un VPN sur internet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B6B2-B323-4699-AFA3-3345700252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65116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2.3) Le transport : les chemins</a:t>
            </a:r>
            <a:br>
              <a:rPr sz="36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transport sur internet sans VPN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4752720" cy="356688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383040" y="5392800"/>
            <a:ext cx="725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’est alors les outils de scellage et d’achemin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 se chargent de la sécu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63B-C9AC-40EA-849C-71A6ADCFAD9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3.3) Le transport :  Les véhicules 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(les technologies d’échange)</a:t>
            </a:r>
            <a:br>
              <a:rPr sz="3600"/>
            </a:b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esto une norme interopérabl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418-C5C5-4706-8BA5-0E6B7354AF2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Context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78920" y="3213000"/>
            <a:ext cx="807588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36576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36576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O est une enveloppe de transport pour l’échange de documents électroniques entre SI d’admini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79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79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96f00"/>
              </a:gs>
              <a:gs pos="50000">
                <a:srgbClr val="ff9900"/>
              </a:gs>
              <a:gs pos="100000">
                <a:srgbClr val="b96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948360" y="1413000"/>
            <a:ext cx="219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tocole proprié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de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S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411280" y="90792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411280" y="1698480"/>
            <a:ext cx="216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643280" y="909720"/>
            <a:ext cx="2160720" cy="114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43280" y="1700280"/>
            <a:ext cx="2160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04000" y="1557360"/>
            <a:ext cx="144360" cy="136692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39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PES HEL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771640" y="429264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 AC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003640" y="4294080"/>
            <a:ext cx="2160720" cy="114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e mét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écif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39640" y="5156280"/>
            <a:ext cx="66247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3274920" y="5300640"/>
            <a:ext cx="1152720" cy="49356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7164360" y="5229360"/>
            <a:ext cx="144360" cy="57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36000" y="5229360"/>
            <a:ext cx="21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e standard réutilis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4EC-B94D-40A1-BDF2-BAD6B06FC58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4313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changes point à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tifs d’échange suppor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imple (one way)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sans attente de réponse.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voi de dossier et traitement ultér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920" indent="-255960">
              <a:lnSpc>
                <a:spcPts val="2599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quête/Répons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s où l’émetteur reste en attente d’un message en ré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"/>
          <p:cNvGraphicFramePr/>
          <p:nvPr/>
        </p:nvGraphicFramePr>
        <p:xfrm>
          <a:off x="5183280" y="1628640"/>
          <a:ext cx="3960720" cy="19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3280" y="1628640"/>
                    <a:ext cx="396072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1" name=""/>
          <p:cNvGraphicFramePr/>
          <p:nvPr/>
        </p:nvGraphicFramePr>
        <p:xfrm>
          <a:off x="5181480" y="3645000"/>
          <a:ext cx="3962520" cy="19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645000"/>
                    <a:ext cx="396252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0BF-40E8-4B75-9065-66CE050D50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284292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érimèt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75578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le routage des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et de décrire les capacités du destina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sation du transport d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XML, PDF, scanné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abilité de la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message transmis arrive exactement 1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on des acquittements de réception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17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écurité au niveau du message (utilisation optionn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égrité du message (signature par l’émetteur PRES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tialité du message (chiffr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147-A0A2-48C4-9346-B88E08CB91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Princip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ép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u protocole métier : les données transportées sont opa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-à-vis des technologies support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ensi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e définir un canal PRESTO offrant différents niveaux d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sibilité d’ajout de nouveaux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ect des normes et standards ouverts internat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eb Services du W3C et O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s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 s’inspire en grande partie du profil WS-RAMP développé par IBM pour l’industrie automobile améri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ynchrone : WS-Addressing  / Optimisation : MTOM/X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abilité : WS-ReliableMess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301"/>
              </a:spcBef>
              <a:buClr>
                <a:srgbClr val="66b8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curité du message : WS-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273-7A6F-423A-A7BF-F139EFB186F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47592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) Trois  exemples de flux d’é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1) un flux à vocation pilo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2) un flux univoque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2.3) un flux bilatéral à vocation opér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) Technologies de trans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1) Principes techn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1) Le transport : les chemins un VPN privé : Exemple le Réseau SESAM-V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2) Le transport : les chemins Un VPN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Arial"/>
              </a:rPr>
              <a:t>3.2.3) Le transport : les chemins transport sur internet sans V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F9B-B56F-4595-888B-FFD4DD5D7B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7" name=""/>
          <p:cNvGraphicFramePr/>
          <p:nvPr/>
        </p:nvGraphicFramePr>
        <p:xfrm>
          <a:off x="2771640" y="3933720"/>
          <a:ext cx="251964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933720"/>
                    <a:ext cx="251964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9" name=""/>
          <p:cNvGraphicFramePr/>
          <p:nvPr/>
        </p:nvGraphicFramePr>
        <p:xfrm>
          <a:off x="6300720" y="1003320"/>
          <a:ext cx="2519280" cy="12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1003320"/>
                    <a:ext cx="25192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1" name=""/>
          <p:cNvGraphicFramePr/>
          <p:nvPr/>
        </p:nvGraphicFramePr>
        <p:xfrm>
          <a:off x="250920" y="3460680"/>
          <a:ext cx="2351160" cy="1120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460680"/>
                    <a:ext cx="2351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3" name=""/>
          <p:cNvGraphicFramePr/>
          <p:nvPr/>
        </p:nvGraphicFramePr>
        <p:xfrm>
          <a:off x="3924360" y="795240"/>
          <a:ext cx="2351160" cy="112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795240"/>
                    <a:ext cx="235116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324000" y="4941720"/>
            <a:ext cx="482436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Exemples de mise en œuvre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graphicFrame>
        <p:nvGraphicFramePr>
          <p:cNvPr id="1117" name=""/>
          <p:cNvGraphicFramePr/>
          <p:nvPr/>
        </p:nvGraphicFramePr>
        <p:xfrm>
          <a:off x="755640" y="1125360"/>
          <a:ext cx="1181160" cy="103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1125360"/>
                    <a:ext cx="118116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"/>
          <p:cNvGraphicFramePr/>
          <p:nvPr/>
        </p:nvGraphicFramePr>
        <p:xfrm>
          <a:off x="2052720" y="1125360"/>
          <a:ext cx="1198440" cy="104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2720" y="1125360"/>
                    <a:ext cx="11984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543960" y="263052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gré à des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691160" y="2630520"/>
            <a:ext cx="44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ation de plates-formes d’échange ou de messagerie inter appli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55640" y="551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e d’intégration avec un tiers de télé transmission utilisé par le S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734880" y="429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24000" y="2062080"/>
            <a:ext cx="3743280" cy="43200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3"/>
          <a:stretch/>
        </p:blipFill>
        <p:spPr>
          <a:xfrm>
            <a:off x="1692360" y="2133720"/>
            <a:ext cx="668160" cy="28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7" name=""/>
          <p:cNvGraphicFramePr/>
          <p:nvPr/>
        </p:nvGraphicFramePr>
        <p:xfrm>
          <a:off x="5148360" y="1630440"/>
          <a:ext cx="1108080" cy="503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48360" y="1630440"/>
                    <a:ext cx="1108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4427640" y="2060640"/>
            <a:ext cx="4465440" cy="43164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6"/>
          <a:stretch/>
        </p:blipFill>
        <p:spPr>
          <a:xfrm>
            <a:off x="6516720" y="2131920"/>
            <a:ext cx="668160" cy="2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1" name=""/>
          <p:cNvGraphicFramePr/>
          <p:nvPr/>
        </p:nvGraphicFramePr>
        <p:xfrm>
          <a:off x="828720" y="4367160"/>
          <a:ext cx="1073160" cy="81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8720" y="4367160"/>
                    <a:ext cx="10731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3" name="" descr=""/>
          <p:cNvPicPr/>
          <p:nvPr/>
        </p:nvPicPr>
        <p:blipFill>
          <a:blip r:embed="rId19"/>
          <a:stretch/>
        </p:blipFill>
        <p:spPr>
          <a:xfrm>
            <a:off x="2195640" y="5013360"/>
            <a:ext cx="668160" cy="2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9BE-1047-4C5F-A8E5-D09507264A2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-720" y="333360"/>
            <a:ext cx="89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4) L’Etude des moyens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’anonymisation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lorsque nécess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70640" y="1125360"/>
            <a:ext cx="767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ette étude portera en particulier sur la réutilisation et l’intég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odules d’anonymisation développés en Assurance Mala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t dénommés «foins » ou d’autres processus d’anonym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0080" y="2133720"/>
            <a:ext cx="8710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Art.. 40-12. – Les données issues des systèmes d’information visés 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’article L.710-6 du code de la santé publique, celles issues des doss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dicaux détenus dans le cadre de l’exercice libéral des profession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nté, ainsi que celles issues des systèmes d’information des ca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assurance maladie, ne peuvent être communiquées à des fin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’évaluation ou d’analyse des pratiques et des activités de soins e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évention que sous la forme de statistiques agrégées ou de données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ient constituées de telle sorte que les personnes concernées ne puis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être identifi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ême si il ne s’agit de données purement médicales, le même principe s’appliqu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ntre la MDPH et la C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a solution proposée : FOIN (Fonction d’Occultation d’Identifiants Nominati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9DD-5BED-4121-8636-2FCADE16624D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419720" cy="526572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5148360" y="1052640"/>
            <a:ext cx="381636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s fonctions d’anonymisation sont développées en langage C et sont livrées sous 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’obj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Elles doivent être intégrées dans un logiciel qui effectue la sélection et le contrôle des informations nominatives, directes ou indirectes, à rendre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Une documentation d’intégration, précisant le nom de chaque fonction nécessaire et 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amètres d’appel, est fournie avec chaque objet liv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B83-07A2-4EEE-81B7-D68A348D0F6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4)FOIN (Fonction d’Occultation d’Identifiants Nominatifs) (suite)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55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nction élaborée intègre les notions et propriété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370640" cy="382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27A-BEE0-482F-9F66-34479A50B72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5)Formats de fichiers et Entêt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604360" y="907200"/>
            <a:ext cx="53964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67440" y="639720"/>
            <a:ext cx="55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pl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chiers XML intégrant des fichiers pl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A46B-0509-48EE-87B0-0EB5F47460D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75582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Merci de votre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907-1F8F-4CEB-BD26-B3D7DD3D749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b800"/>
                </a:solidFill>
                <a:latin typeface="Arial"/>
              </a:rPr>
              <a:t>Ordre du Jour</a:t>
            </a:r>
            <a:endParaRPr b="1" lang="en-US" sz="33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86043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rdre du Jour (su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3.3) Le transport :  Les véhicules (les technologies d’échange) Presto une norme interopé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4) L’Etude des moyens d’anonymisation lorsque nécessaire des données échangées entre la CNSA et ses parte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599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5)Formats de fichiers et Entê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6E1-AEC4-410A-9386-FAF67984BC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7840" y="574200"/>
            <a:ext cx="75582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b800"/>
                </a:solidFill>
                <a:latin typeface="Arial"/>
              </a:rPr>
              <a:t>Les échanges</a:t>
            </a:r>
            <a:endParaRPr b="1" lang="en-US" sz="36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2492280"/>
            <a:ext cx="108108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2492280"/>
            <a:ext cx="647640" cy="1081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ond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mpen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72360" y="2421000"/>
            <a:ext cx="86364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PAIERIE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6" idx="3"/>
            <a:endCxn id="107" idx="1"/>
          </p:cNvCxnSpPr>
          <p:nvPr/>
        </p:nvCxnSpPr>
        <p:spPr>
          <a:xfrm flipV="1">
            <a:off x="7667640" y="2744280"/>
            <a:ext cx="505440" cy="28944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09" name=""/>
          <p:cNvSpPr/>
          <p:nvPr/>
        </p:nvSpPr>
        <p:spPr>
          <a:xfrm>
            <a:off x="5003640" y="2492280"/>
            <a:ext cx="648000" cy="100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re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3645000"/>
            <a:ext cx="648000" cy="1008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372280"/>
            <a:ext cx="1150920" cy="72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Inspection</a:t>
            </a:r>
            <a:br>
              <a:rPr sz="1400"/>
            </a:b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cadém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 flipH="1">
            <a:off x="4427280" y="4653000"/>
            <a:ext cx="900720" cy="937440"/>
          </a:xfrm>
          <a:prstGeom prst="straightConnector1">
            <a:avLst/>
          </a:prstGeom>
          <a:ln w="34920">
            <a:solidFill>
              <a:srgbClr val="000080"/>
            </a:solidFill>
            <a:prstDash val="sysDot"/>
            <a:miter/>
            <a:tailEnd len="lg" type="triangle" w="sm"/>
          </a:ln>
        </p:spPr>
      </p:cxnSp>
      <p:cxnSp>
        <p:nvCxnSpPr>
          <p:cNvPr id="113" name=""/>
          <p:cNvCxnSpPr>
            <a:endCxn id="114" idx="3"/>
          </p:cNvCxnSpPr>
          <p:nvPr/>
        </p:nvCxnSpPr>
        <p:spPr>
          <a:xfrm flipH="1">
            <a:off x="3201120" y="4149360"/>
            <a:ext cx="1770840" cy="86436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5" name=""/>
          <p:cNvSpPr/>
          <p:nvPr/>
        </p:nvSpPr>
        <p:spPr>
          <a:xfrm>
            <a:off x="684360" y="4076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AN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0" idx="1"/>
            <a:endCxn id="115" idx="3"/>
          </p:cNvCxnSpPr>
          <p:nvPr/>
        </p:nvCxnSpPr>
        <p:spPr>
          <a:xfrm flipH="1">
            <a:off x="1834560" y="4149720"/>
            <a:ext cx="3169080" cy="288000"/>
          </a:xfrm>
          <a:prstGeom prst="straightConnector1">
            <a:avLst/>
          </a:prstGeom>
          <a:ln w="34920">
            <a:solidFill>
              <a:srgbClr val="333399"/>
            </a:solidFill>
            <a:prstDash val="sysDot"/>
            <a:miter/>
            <a:tailEnd len="lg" type="triangle" w="sm"/>
          </a:ln>
        </p:spPr>
      </p:cxnSp>
      <p:sp>
        <p:nvSpPr>
          <p:cNvPr id="117" name=""/>
          <p:cNvSpPr/>
          <p:nvPr/>
        </p:nvSpPr>
        <p:spPr>
          <a:xfrm>
            <a:off x="4643280" y="5229360"/>
            <a:ext cx="936720" cy="288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col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4221000"/>
            <a:ext cx="1224000" cy="3621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rofessionn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422100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4797360"/>
            <a:ext cx="50292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RQ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139920"/>
            <a:ext cx="115092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edico-S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0" idx="1"/>
          </p:cNvCxnSpPr>
          <p:nvPr/>
        </p:nvCxnSpPr>
        <p:spPr>
          <a:xfrm flipH="1" flipV="1">
            <a:off x="1763280" y="3499920"/>
            <a:ext cx="3240720" cy="65016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3" name=""/>
          <p:cNvSpPr/>
          <p:nvPr/>
        </p:nvSpPr>
        <p:spPr>
          <a:xfrm>
            <a:off x="684360" y="227664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0" idx="1"/>
          </p:cNvCxnSpPr>
          <p:nvPr/>
        </p:nvCxnSpPr>
        <p:spPr>
          <a:xfrm flipH="1" flipV="1">
            <a:off x="1834560" y="2636640"/>
            <a:ext cx="3169080" cy="1513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25" name=""/>
          <p:cNvSpPr/>
          <p:nvPr/>
        </p:nvSpPr>
        <p:spPr>
          <a:xfrm>
            <a:off x="2411280" y="3284640"/>
            <a:ext cx="1224000" cy="3618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ers E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1700280"/>
            <a:ext cx="115092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09" idx="1"/>
          </p:cNvCxnSpPr>
          <p:nvPr/>
        </p:nvCxnSpPr>
        <p:spPr>
          <a:xfrm flipH="1" flipV="1">
            <a:off x="2700000" y="2420280"/>
            <a:ext cx="230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cxnSp>
        <p:nvCxnSpPr>
          <p:cNvPr id="129" name=""/>
          <p:cNvCxnSpPr>
            <a:stCxn id="109" idx="1"/>
            <a:endCxn id="127" idx="2"/>
          </p:cNvCxnSpPr>
          <p:nvPr/>
        </p:nvCxnSpPr>
        <p:spPr>
          <a:xfrm flipH="1" flipV="1">
            <a:off x="4140000" y="2420280"/>
            <a:ext cx="864000" cy="57708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30" name=""/>
          <p:cNvSpPr/>
          <p:nvPr/>
        </p:nvSpPr>
        <p:spPr>
          <a:xfrm>
            <a:off x="3708360" y="2492280"/>
            <a:ext cx="503280" cy="216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63700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EE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1268280"/>
            <a:ext cx="2448000" cy="7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Dépar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2" idx="2"/>
            <a:endCxn id="105" idx="0"/>
          </p:cNvCxnSpPr>
          <p:nvPr/>
        </p:nvCxnSpPr>
        <p:spPr>
          <a:xfrm flipH="1">
            <a:off x="6336720" y="1989000"/>
            <a:ext cx="35640" cy="504000"/>
          </a:xfrm>
          <a:prstGeom prst="straightConnector1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lg" type="triangle" w="sm"/>
          </a:ln>
        </p:spPr>
      </p:cxnSp>
      <p:sp>
        <p:nvSpPr>
          <p:cNvPr id="134" name=""/>
          <p:cNvSpPr/>
          <p:nvPr/>
        </p:nvSpPr>
        <p:spPr>
          <a:xfrm>
            <a:off x="6300720" y="5156280"/>
            <a:ext cx="358920" cy="0"/>
          </a:xfrm>
          <a:prstGeom prst="line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5013360"/>
            <a:ext cx="93492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sans N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5516640"/>
            <a:ext cx="358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537372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ush avec NIR organisme autoris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6093000"/>
            <a:ext cx="358920" cy="0"/>
          </a:xfrm>
          <a:prstGeom prst="line">
            <a:avLst/>
          </a:prstGeom>
          <a:ln w="3492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5950080"/>
            <a:ext cx="1871640" cy="2872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change de données en mod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Push  ou P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89800" y="2133720"/>
            <a:ext cx="503280" cy="21564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C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765000"/>
            <a:ext cx="3024360" cy="2232360"/>
          </a:xfrm>
          <a:prstGeom prst="ellipse">
            <a:avLst/>
          </a:prstGeom>
          <a:noFill/>
          <a:ln cap="rnd" w="349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4005360"/>
            <a:ext cx="792000" cy="71892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6948000" y="4220640"/>
            <a:ext cx="1079640" cy="360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Certif 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endCxn id="126" idx="2"/>
          </p:cNvCxnSpPr>
          <p:nvPr/>
        </p:nvCxnSpPr>
        <p:spPr>
          <a:xfrm flipH="1" flipV="1">
            <a:off x="2700360" y="2420640"/>
            <a:ext cx="2230920" cy="17294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lg" type="triangle" w="sm"/>
          </a:ln>
        </p:spPr>
      </p:cxnSp>
      <p:sp>
        <p:nvSpPr>
          <p:cNvPr id="146" name=""/>
          <p:cNvSpPr/>
          <p:nvPr/>
        </p:nvSpPr>
        <p:spPr>
          <a:xfrm>
            <a:off x="611280" y="508464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AP EMPL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10" idx="1"/>
            <a:endCxn id="146" idx="3"/>
          </p:cNvCxnSpPr>
          <p:nvPr/>
        </p:nvCxnSpPr>
        <p:spPr>
          <a:xfrm flipH="1">
            <a:off x="1761840" y="4149720"/>
            <a:ext cx="3242160" cy="1296000"/>
          </a:xfrm>
          <a:prstGeom prst="straightConnector1">
            <a:avLst/>
          </a:prstGeom>
          <a:ln w="34920">
            <a:solidFill>
              <a:srgbClr val="0000ff"/>
            </a:solidFill>
            <a:prstDash val="sysDot"/>
            <a:miter/>
            <a:tailEnd len="lg" type="triangle" w="sm"/>
          </a:ln>
        </p:spPr>
      </p:cxnSp>
      <p:sp>
        <p:nvSpPr>
          <p:cNvPr id="114" name=""/>
          <p:cNvSpPr/>
          <p:nvPr/>
        </p:nvSpPr>
        <p:spPr>
          <a:xfrm>
            <a:off x="2050920" y="4653000"/>
            <a:ext cx="115092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DDTE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0" y="981000"/>
            <a:ext cx="936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sme d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écurité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0" y="1413000"/>
            <a:ext cx="93672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  l’emplo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981000"/>
            <a:ext cx="936720" cy="3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épart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413000"/>
            <a:ext cx="9367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co-soci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26D3-EE4D-48B0-8C0A-F8CF85A1B99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br>
              <a:rPr sz="2400"/>
            </a:b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1) Flux fonctionnels entre MDPH et organismes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pic>
        <p:nvPicPr>
          <p:cNvPr id="156" name="MDPH" descr=""/>
          <p:cNvPicPr/>
          <p:nvPr/>
        </p:nvPicPr>
        <p:blipFill>
          <a:blip r:embed="rId3"/>
          <a:stretch/>
        </p:blipFill>
        <p:spPr>
          <a:xfrm>
            <a:off x="6156360" y="2708280"/>
            <a:ext cx="1582560" cy="820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195920" y="119700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)Flux de décisions d’orientation sphère é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02120" y="234936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3480" y="311616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71600" y="3429000"/>
            <a:ext cx="25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tion d’académ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ora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ablissement sc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68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47680" y="4413240"/>
            <a:ext cx="40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personnalisé de scola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441440" cy="95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DD3-C01B-4456-85DF-8D4DD204CA2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1413000" cy="140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94840" y="1197000"/>
            <a:ext cx="69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) Flux de décisions d’orientation 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8520" y="3284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5240" y="17002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ère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4076640"/>
            <a:ext cx="442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Profess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9800" y="342900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ordi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pris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PE, CAT-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6156360" y="2082960"/>
            <a:ext cx="1728720" cy="1296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99960" y="4941720"/>
            <a:ext cx="31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Milieu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T (entreprise spécialis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aide par le trav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692360" y="3644640"/>
            <a:ext cx="410364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4508640"/>
            <a:ext cx="424836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006-B10E-451A-B8D0-934A41E9B37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92320" y="119700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) Flux de d’orientations de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0400" y="314172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ision d’orientation de 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69760" y="3573360"/>
            <a:ext cx="376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 (Foyer d’accueil médicalis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 (Maison d’accueil spécialis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 (Foyer occupatio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 (Foyer d’héber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9320" y="4653000"/>
            <a:ext cx="36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ssions (flux occasionn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300720" y="1916280"/>
            <a:ext cx="2232000" cy="1635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987800" y="16477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ablissements e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9BA-1409-46C8-9229-20EA37A0E6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152360" cy="619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1412640" cy="1405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4360" y="1197000"/>
            <a:ext cx="828036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7840" y="259920"/>
            <a:ext cx="75582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800"/>
                </a:solidFill>
                <a:latin typeface="Arial"/>
              </a:rPr>
              <a:t>Protocole d’échange de données MDPH 06/11/2006</a:t>
            </a:r>
            <a:endParaRPr b="1" lang="en-US" sz="2400" spc="-1" strike="noStrike">
              <a:solidFill>
                <a:srgbClr val="66b8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9440" y="119700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4) Flux de pre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8520" y="28526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357336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280" y="3141720"/>
            <a:ext cx="38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x de prestation AAH,AEEH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92000" y="4365720"/>
            <a:ext cx="359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37480" y="443700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à jour des dro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5435640" y="3213000"/>
            <a:ext cx="1944720" cy="1462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380360" y="3191040"/>
            <a:ext cx="523800" cy="571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7380360" y="3838680"/>
            <a:ext cx="619200" cy="647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867080" y="3159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37640" y="38084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éunion  Protocole d'échan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B3C-2CE8-4A69-8612-439AED8EB76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/03/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1:55:58Z</dcterms:created>
  <dc:creator>Alain Pelc</dc:creator>
  <dc:description/>
  <dc:language>en-US</dc:language>
  <cp:lastModifiedBy>Alain Pelc</cp:lastModifiedBy>
  <dcterms:modified xsi:type="dcterms:W3CDTF">2007-03-19T19:00:33Z</dcterms:modified>
  <cp:revision>153</cp:revision>
  <dc:subject/>
  <dc:title>MDPH : Organisation du système d’information L.247-2 </dc:title>
</cp:coreProperties>
</file>