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7431-59A6-4BED-B0E9-5D14655F4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947040"/>
            <a:ext cx="8713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2641-4841-4CE3-806E-88E27B6A7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94704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6000" y="394704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A649-CF49-40C0-ABFF-3AE882360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6800" y="160020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2680" y="160020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94704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6800" y="394704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2680" y="394704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E6A3-E0F8-4762-B78B-CEB6EF2E0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19D2C-D763-44DC-BB1A-2F7666319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7138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B91F5-8DB9-4B8A-94C2-5C717E79E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90B7B-D330-494D-9C67-8F59F28AB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523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42523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AFA44-A050-4B4F-B77B-E47B699A0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D5E63-97A1-49D8-BD7B-DC9B70A59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50560" y="43920"/>
            <a:ext cx="871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D50CF-6AC7-4511-83AB-D0637D88B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42523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50560" y="394704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54FF2-E8CC-41EA-88A5-537B67EE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7138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6C3D-5C41-4124-8F8F-448E6D685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523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16000" y="394704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C8EEA-432E-4159-B4EF-06E9B9D0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947040"/>
            <a:ext cx="8713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CA5BE-14CC-4B5C-A1FD-CC945A85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50560" y="3947040"/>
            <a:ext cx="8713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56419-9DCD-470E-80E4-75CFE02DB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50560" y="394704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16000" y="394704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F25B4-78DC-4923-BBFB-5DC7BAB91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96800" y="160020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42680" y="160020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50560" y="394704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96800" y="394704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42680" y="3947040"/>
            <a:ext cx="280548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E92A5-4C7C-4CD3-AF39-8D8FC2A96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7FA7-483E-4F2A-BDBF-D631DD829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523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42523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410D-4352-40E6-9A17-5B3CC90EF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45D7-27A0-42DF-8F2B-ACDB6D525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0560" y="43920"/>
            <a:ext cx="871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DFE0-CB60-4BE4-8DD2-1BB6CFA49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42523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94704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A1FD-CAFE-4365-A61B-75ABF85E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523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6000" y="394704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9337-DBB3-488D-9885-F947CB2F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6000" y="1600200"/>
            <a:ext cx="42523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947040"/>
            <a:ext cx="8713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E90C-818C-4E7A-B4D8-A9BB3527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59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600200"/>
            <a:ext cx="8713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509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306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1539-450C-4584-A2D2-9B0588A0C0E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440" y="0"/>
            <a:ext cx="9153720" cy="6858000"/>
            <a:chOff x="1440" y="0"/>
            <a:chExt cx="9153720" cy="6858000"/>
          </a:xfrm>
        </p:grpSpPr>
        <p:sp>
          <p:nvSpPr>
            <p:cNvPr id="42" name=""/>
            <p:cNvSpPr/>
            <p:nvPr/>
          </p:nvSpPr>
          <p:spPr>
            <a:xfrm>
              <a:off x="1440" y="0"/>
              <a:ext cx="1673280" cy="6858000"/>
            </a:xfrm>
            <a:prstGeom prst="rect">
              <a:avLst/>
            </a:prstGeom>
            <a:solidFill>
              <a:srgbClr val="556cb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3" name=""/>
            <p:cNvGraphicFramePr/>
            <p:nvPr/>
          </p:nvGraphicFramePr>
          <p:xfrm>
            <a:off x="304920" y="2820960"/>
            <a:ext cx="1116000" cy="1523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04920" y="2820960"/>
                      <a:ext cx="1116000" cy="152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5" name=""/>
            <p:cNvSpPr/>
            <p:nvPr/>
          </p:nvSpPr>
          <p:spPr>
            <a:xfrm>
              <a:off x="1677960" y="3789360"/>
              <a:ext cx="7466040" cy="3068640"/>
            </a:xfrm>
            <a:prstGeom prst="rect">
              <a:avLst/>
            </a:prstGeom>
            <a:solidFill>
              <a:srgbClr val="fac46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79280" y="5661000"/>
              <a:ext cx="1225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Optima Bold"/>
                </a:rPr>
                <a:t>Direction du Système d’Inform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4"/>
            <a:stretch/>
          </p:blipFill>
          <p:spPr>
            <a:xfrm>
              <a:off x="1687680" y="3240"/>
              <a:ext cx="7467480" cy="378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7640" y="2130120"/>
            <a:ext cx="6550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80844-8867-4828-B4D7-CC3E1E0FE4B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7640" y="2130120"/>
            <a:ext cx="6550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tocole d’échang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tre les MDPH et les CAF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907640" y="4317480"/>
            <a:ext cx="655164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ncontre du 23 mars 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59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’offre de service RMI actuel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Consultation de la Base Allocatai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ffre  : CAFPRO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Transfert de données de gestion mensu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ffre  : Flux XML Mensuel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Tableau de bord sur les Droits Rm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ffre  : Tableau HTML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59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s évolutions de l’offre RMI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713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uverture de la consultation de la base allocataire à de nouveaux profils méti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Evolution du transfert de données de gestion 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601"/>
              </a:spcBef>
              <a:buClr>
                <a:srgbClr val="ffffff"/>
              </a:buClr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tégration de nouvelles donné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451"/>
              </a:spcBef>
              <a:buClr>
                <a:srgbClr val="ffffff"/>
              </a:buClr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Utilisation du format xml standard du w3c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ise en place d’un transfert de données </a:t>
            </a:r>
            <a:br>
              <a:rPr sz="2800"/>
            </a:b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fra-mensuel événementi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Création d’un tableau de bord financ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ise à disposition d’une téléprocédure : @IRM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Dématérialisation des échanges par transfert électronique réciproque d’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59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s évolutions de l’offre RMI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sues d’un travail partenarial au sein de groupes mixtes composés de représentants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Conseils générau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Caisses d’Allocation famili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la Caisse Nationale de M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s l ’égide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l’Association des Départements de F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la Caisse Nationale des Allocations Famili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59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otre proposition pour les MDPH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Création de profils de consultation de la Base Allocataires adaptés aux métiers des MDP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ise en place d’échanges de données entre les MDPH et les CAF (dans les deux se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77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Réflexion sur la dématérialisation complète du processus de traitement entre les MDPH et les CAF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9T07:47:41Z</dcterms:created>
  <dc:creator>Régis Pont</dc:creator>
  <dc:description/>
  <dc:language>en-US</dc:language>
  <cp:lastModifiedBy>caf de l'ain</cp:lastModifiedBy>
  <dcterms:modified xsi:type="dcterms:W3CDTF">2007-03-23T10:58:23Z</dcterms:modified>
  <cp:revision>10</cp:revision>
  <dc:subject/>
  <dc:title>Protocole d’échange  les MDPH et les CAF</dc:title>
</cp:coreProperties>
</file>