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C9D-9DD1-457F-8FA2-1BDCA1C6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EAD-FD76-4192-8B17-0210C934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FBD-9C26-4BA5-B501-58FDCA05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623-EDFA-4EC7-A79F-8346FCAB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B69-6299-4CB1-A868-E079170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333-1DE4-434B-86A7-938E51F8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38E-447F-435A-A85C-7BC4C383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6CA-0EB9-4DE2-9C38-4CD64162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C89-AAD2-4FF3-9B1F-9D2F16F0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F71-69A4-4424-9070-D6134F8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7AD-682E-4963-8919-4D12874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3CC-B65B-4189-988A-A3DB71C9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fr-FR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389B4EBD-3710-4CE9-A080-3DA3510F3331}" type="slidenum"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8640" y="58680"/>
          <a:ext cx="14617800" cy="1035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8680"/>
                    <a:ext cx="14617800" cy="103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ATaconnet</cp:lastModifiedBy>
  <dcterms:modified xsi:type="dcterms:W3CDTF">2007-02-23T11:13:56Z</dcterms:modified>
  <cp:revision>20</cp:revision>
  <dc:subject/>
  <dc:title>Présentation PowerPoint</dc:title>
</cp:coreProperties>
</file>