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0631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D55-F38C-4AC8-9B58-82D55AE0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D0B-3490-4CF1-8793-1EFEB40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96A-201D-43E4-B991-56E42D06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0697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401520"/>
            <a:ext cx="437940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4CD-B84B-49F3-8E3D-F573688C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24"/>
              </a:spcBef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87B-4B5D-43F9-886F-78297B99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18F-7697-4E71-BED0-CAD590C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7CA-1BA0-42E0-BEB9-3E313489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FAC-C97E-4285-A0CA-CE639F6F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944280"/>
            <a:ext cx="13601520" cy="82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24"/>
              </a:spcBef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B68-42F7-4A3E-9871-687102A1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043-0C60-4EF8-A9E8-F7B413DD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4015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DEF-2986-428B-9F7F-1AA78E7C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069720"/>
            <a:ext cx="66373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401520"/>
            <a:ext cx="13601520" cy="30423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/>
          </a:bodyPr>
          <a:p>
            <a:pPr indent="0">
              <a:spcBef>
                <a:spcPts val="1324"/>
              </a:spcBef>
              <a:buNone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CAB-C438-4659-A269-04BE8F1C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944280"/>
            <a:ext cx="13601520" cy="17715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ctr">
            <a:noAutofit/>
          </a:bodyPr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069720"/>
            <a:ext cx="13601520" cy="637884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rmAutofit fontScale="93000"/>
          </a:bodyPr>
          <a:p>
            <a:pPr marL="529920" indent="-52992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9840" indent="-44280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2" marL="1768680" indent="-352800">
              <a:spcBef>
                <a:spcPts val="1324"/>
              </a:spcBef>
              <a:buClr>
                <a:srgbClr val="000000"/>
              </a:buClr>
              <a:buFont typeface="Times New Roman"/>
              <a:buChar char="•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7752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–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4560" indent="-354240">
              <a:spcBef>
                <a:spcPts val="1324"/>
              </a:spcBef>
              <a:buClr>
                <a:srgbClr val="000000"/>
              </a:buClr>
              <a:buFont typeface="Times New Roman"/>
              <a:buChar char="»"/>
              <a:tabLst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9685440"/>
            <a:ext cx="506736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9685440"/>
            <a:ext cx="3333600" cy="707760"/>
          </a:xfrm>
          <a:prstGeom prst="rect">
            <a:avLst/>
          </a:prstGeom>
          <a:noFill/>
          <a:ln w="0">
            <a:noFill/>
          </a:ln>
        </p:spPr>
        <p:txBody>
          <a:bodyPr lIns="152280" rIns="152280" tIns="75960" bIns="75960" anchor="t">
            <a:noAutofit/>
          </a:bodyPr>
          <a:lstStyle>
            <a:lvl1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440"/>
                <a:tab algn="l" pos="3044880"/>
                <a:tab algn="l" pos="4567320"/>
                <a:tab algn="l" pos="6089760"/>
                <a:tab algn="l" pos="7612200"/>
                <a:tab algn="l" pos="9134640"/>
                <a:tab algn="l" pos="10656720"/>
              </a:tabLst>
            </a:pPr>
            <a:fld id="{73A2D38B-1BCF-4B16-B391-FB21D5F505BD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7800" y="112680"/>
          <a:ext cx="14847840" cy="104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12680"/>
                    <a:ext cx="14847840" cy="104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5:39:38Z</dcterms:created>
  <dc:creator>thierry.becco</dc:creator>
  <dc:description/>
  <dc:language>en-US</dc:language>
  <cp:lastModifiedBy>thierry.becco</cp:lastModifiedBy>
  <dcterms:modified xsi:type="dcterms:W3CDTF">2007-01-23T15:50:33Z</dcterms:modified>
  <cp:revision>14</cp:revision>
  <dc:subject/>
  <dc:title>Présentation PowerPoint</dc:title>
</cp:coreProperties>
</file>