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3.jpeg" ContentType="image/jpeg"/>
  <Override PartName="/ppt/media/image22.jpeg" ContentType="image/jpeg"/>
  <Override PartName="/ppt/media/image21.jpeg" ContentType="image/jpeg"/>
  <Override PartName="/ppt/media/image32.wmf" ContentType="image/x-wmf"/>
  <Override PartName="/ppt/media/image19.wmf" ContentType="image/x-wmf"/>
  <Override PartName="/ppt/media/image26.png" ContentType="image/png"/>
  <Override PartName="/ppt/media/image17.jpeg" ContentType="image/jpeg"/>
  <Override PartName="/ppt/media/image16.jpeg" ContentType="image/jpeg"/>
  <Override PartName="/ppt/media/image35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8.jpeg" ContentType="image/jpeg"/>
  <Override PartName="/ppt/media/image30.png" ContentType="image/png"/>
  <Override PartName="/ppt/media/image14.png" ContentType="image/png"/>
  <Override PartName="/ppt/media/image10.jpeg" ContentType="image/jpeg"/>
  <Override PartName="/ppt/media/image9.jpeg" ContentType="image/jpeg"/>
  <Override PartName="/ppt/media/image31.wmf" ContentType="image/x-wmf"/>
  <Override PartName="/ppt/media/image28.png" ContentType="image/png"/>
  <Override PartName="/ppt/media/image7.jpeg" ContentType="image/jpeg"/>
  <Override PartName="/ppt/media/image12.jpeg" ContentType="image/jpeg"/>
  <Override PartName="/ppt/media/image34.wmf" ContentType="image/x-wmf"/>
  <Override PartName="/ppt/media/image6.jpeg" ContentType="image/jpeg"/>
  <Override PartName="/ppt/media/image36.wmf" ContentType="image/x-wmf"/>
  <Override PartName="/ppt/media/image37.wmf" ContentType="image/x-wmf"/>
  <Override PartName="/ppt/media/image39.wmf" ContentType="image/x-wmf"/>
  <Override PartName="/ppt/media/image40.png" ContentType="image/png"/>
  <Override PartName="/ppt/media/image38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13.jpeg" ContentType="image/jpeg"/>
  <Override PartName="/ppt/media/image29.jpeg" ContentType="image/jpeg"/>
  <Override PartName="/ppt/media/image33.wmf" ContentType="image/x-wmf"/>
  <Override PartName="/ppt/media/image3.wmf" ContentType="image/x-wmf"/>
  <Override PartName="/ppt/media/image15.jpeg" ContentType="image/jpeg"/>
  <Override PartName="/ppt/media/image1.png" ContentType="image/png"/>
  <Override PartName="/ppt/media/image11.jpeg" ContentType="image/jpe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comments/comment2.xml" ContentType="application/vnd.openxmlformats-officedocument.presentationml.comments+xml"/>
  <Override PartName="/ppt/comments/comment3.xml" ContentType="application/vnd.openxmlformats-officedocument.presentationml.comments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arc Hallak" initials="MH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<Relationship Id="rId41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06-05-15T11:33:37.732000000" idx="1">
    <p:pos x="10" y="10"/>
    <p:text/>
  </p:cm>
</p:cmLst>
</file>

<file path=ppt/comments/comment3.xml><?xml version="1.0" encoding="utf-8"?>
<p:cmLst xmlns:p="http://schemas.openxmlformats.org/presentationml/2006/main">
  <p:cm authorId="0" dt="2006-05-15T11:33:37.732000000" idx="2">
    <p:pos x="10" y="10"/>
    <p:text/>
  </p:cm>
</p:cmLst>
</file>

<file path=ppt/comments/comment4.xml><?xml version="1.0" encoding="utf-8"?>
<p:cmLst xmlns:p="http://schemas.openxmlformats.org/presentationml/2006/main">
  <p:cm authorId="0" dt="2006-05-15T11:33:37.732000000" idx="3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7FD3-518F-4442-AEB3-481EA0051A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L’architecture technique 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d’un système décisionnel est composé des éléments suivants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u centre du système, une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base de donné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Pour l’alimenter, au moins un outil d’extraction, transformation et de chargement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(ETL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Pour restituer les informations, au moins un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outil de restitu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 choix de ces outils dépend des performances, fonctionnalités, et ergonomie attendues, de l’infrastructure nécessaire à leur bon fonctionnement et des coûts. Il faut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Coller au maximum aux fonctions stand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Rechercher les packages communica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Étudier leur intégration avec le reste du S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pprécier la capacité à évolu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Estimer les coûts directs et récurr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u niveau des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performances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, on mesure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 volume actuel / fut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effets de seui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bande passante nécessa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capacité à monter en charge selon les # lo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’utilisation des machines /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capacité à // les traite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u niveau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fonctionnel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, on évalue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connexions aux sources de données (ODBC, Connecteurs,…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capacité aux transform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fonctions de simulation et d’analy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fonctions de restitutio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fonctions de diffusion (Portail Web, Abonnements mail,…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gestion du contexte international (multi-langues, polices, dates et nombre,…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u niveau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évolutivité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, on apprécie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 dynamisme des éditeu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compatibilité de version des produ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accords crois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facilité de maintenance et de déploi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gestion des vers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gestion des méta-données (CW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 paramét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u niveau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Intégration dans le SI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, on juge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complétude des # produ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modules de communication et d’échange (API, XML, MDX…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systèmes d’exploitation accept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structures de données autorisées (bases de données, fichiers, cubes…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gestion des traitements par un ordonnanceur ti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77FD-CFA2-4DFC-94A1-AF7E1AB65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37840" y="405396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64C3-8AFC-4F18-9F00-5982BBAE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1072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89FB-331C-4D9C-BEE3-48E42E175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9348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4912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3784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9348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4912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6788-D2A3-4F80-8204-8AF780A4A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CB8D-C45A-488A-BF52-8ACB721C8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1f0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2BFD-956E-4039-BFBB-F123E12A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0FCF-77E5-4F51-A7B6-9FFCE0E1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2AFA-789A-469B-9D35-55C198B7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A6DC-CD94-43D4-8937-33886379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37840" y="574200"/>
            <a:ext cx="75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1f0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7401-6299-40E0-99BA-452164F7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2797-3281-4C7F-AFB1-9760A016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1f0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AC96-5A68-4C71-8910-2D7B6307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1072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8581-CF68-4A11-ACA7-EADE8CE6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01D1-8567-400D-80CB-A4A2703D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37840" y="405396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F577-6AE8-467F-B10A-7151B1F8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1072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EA71-D504-418B-B032-BDB368758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9348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4912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3784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9348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4912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8DBF-7D3D-40AC-A9E8-CD013D388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BA92-548E-46C8-9159-9882D356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1798-53D9-47C0-ADBA-2070A5DF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8D7A-84DA-484D-A01D-DCFE0502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37840" y="574200"/>
            <a:ext cx="75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1f0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545F-DDA1-44B6-8E3A-13D1A6E0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06DB-A3E4-4161-89EF-10356639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1072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73BE-23B0-48CE-BC8B-53A45DAD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D501-CF46-46EE-AD21-B25BBE38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18360"/>
            <a:ext cx="9140760" cy="539640"/>
          </a:xfrm>
          <a:prstGeom prst="rect">
            <a:avLst/>
          </a:prstGeom>
          <a:solidFill>
            <a:srgbClr val="66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207120"/>
            <a:ext cx="914076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0760" cy="144360"/>
          </a:xfrm>
          <a:prstGeom prst="rect">
            <a:avLst/>
          </a:prstGeom>
          <a:solidFill>
            <a:srgbClr val="bfe1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45720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SzPct val="80000"/>
              <a:buFont typeface="Webdings" charset="2"/>
              <a:buChar char="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45720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SzPct val="80000"/>
              <a:buFont typeface="Webdings" charset="2"/>
              <a:buChar char="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457200" indent="-45720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457200" indent="-457200">
              <a:lnSpc>
                <a:spcPts val="2599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457200" indent="-457200">
              <a:lnSpc>
                <a:spcPts val="2599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297480" y="6548400"/>
            <a:ext cx="144000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38200" y="6548400"/>
            <a:ext cx="46785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Événement, lieu,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16400" y="6548400"/>
            <a:ext cx="1079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2392-62F2-4308-A35E-B22073C359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517840"/>
            <a:ext cx="9140760" cy="4336920"/>
          </a:xfrm>
          <a:prstGeom prst="rect">
            <a:avLst/>
          </a:prstGeom>
          <a:solidFill>
            <a:srgbClr val="66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bfe1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0760" cy="144360"/>
          </a:xfrm>
          <a:prstGeom prst="rect">
            <a:avLst/>
          </a:prstGeom>
          <a:solidFill>
            <a:srgbClr val="bfe1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74560" y="1295280"/>
            <a:ext cx="3735360" cy="998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207120"/>
            <a:ext cx="914076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37840" y="2878200"/>
            <a:ext cx="75582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297480" y="6548400"/>
            <a:ext cx="144000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1438200" y="6548400"/>
            <a:ext cx="46785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Événement, lieu,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916400" y="6548400"/>
            <a:ext cx="1079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F8F6-3FF2-4D90-8D29-FBEDBEFC4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f091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e1f091"/>
              </a:solidFill>
              <a:latin typeface="Arial"/>
            </a:endParaRPr>
          </a:p>
          <a:p>
            <a:pPr lvl="1" marL="457200" indent="0" algn="ctr">
              <a:lnSpc>
                <a:spcPts val="2599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SzPct val="80000"/>
              <a:buFont typeface="Webdings" charset="2"/>
              <a:buChar char="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SzPct val="80000"/>
              <a:buFont typeface="Webdings" charset="2"/>
              <a:buChar char="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Font typeface="Arial"/>
              <a:buChar char="&gt;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c-rouen.fr/ecoles/aragon/conc2001/vert/ser_verte.htm" TargetMode="External"/><Relationship Id="rId2" Type="http://schemas.openxmlformats.org/officeDocument/2006/relationships/image" Target="../media/image14.png"/><Relationship Id="rId3" Type="http://schemas.openxmlformats.org/officeDocument/2006/relationships/hyperlink" Target="http://images.google.fr/imgres?imgurl=europa.eu.int/survey/feb-mar00/results/23.gif&amp;imgrefurl=http://europa.eu.int/survey/feb-mar00/results/survey_en.htm&amp;h=188&amp;w=282&amp;prev=/images%3Fq%3Dmoteur%26start%3D160%26svnum%3D10%26hl%3Dfr%26sa%3DN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images.google.fr/imgres?imgurl=europa.eu.int/survey/jun-jul99/results/8.gif&amp;imgrefurl=http://europa.eu.int/survey/jun-jul99/results/survey_en.htm&amp;h=181&amp;w=320&amp;prev=/images%3Fq%3Dmoteur%26start%3D320%26svnum%3D10%26hl%3Dfr%26sa%3DN" TargetMode="External"/><Relationship Id="rId6" Type="http://schemas.openxmlformats.org/officeDocument/2006/relationships/image" Target="../media/image16.jpeg"/><Relationship Id="rId7" Type="http://schemas.openxmlformats.org/officeDocument/2006/relationships/hyperlink" Target="http://images.google.fr/imgres?imgurl=www.apple.com/fr/webobjects/images/object_mapping.gif&amp;imgrefurl=http://www.apple.com/fr/webobjects/&amp;h=145&amp;w=160&amp;prev=/images%3Fq%3Dmoteur%26start%3D320%26svnum%3D10%26hl%3Dfr%26sa%3DN" TargetMode="External"/><Relationship Id="rId8" Type="http://schemas.openxmlformats.org/officeDocument/2006/relationships/image" Target="../media/image17.jpeg"/><Relationship Id="rId9" Type="http://schemas.openxmlformats.org/officeDocument/2006/relationships/image" Target="../media/image18.wmf"/><Relationship Id="rId10" Type="http://schemas.openxmlformats.org/officeDocument/2006/relationships/image" Target="../media/image19.wmf"/><Relationship Id="rId11" Type="http://schemas.openxmlformats.org/officeDocument/2006/relationships/image" Target="../media/image20.wmf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image" Target="../media/image30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7.wmf"/><Relationship Id="rId16" Type="http://schemas.openxmlformats.org/officeDocument/2006/relationships/image" Target="../media/image30.png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8.wmf"/><Relationship Id="rId19" Type="http://schemas.openxmlformats.org/officeDocument/2006/relationships/image" Target="../media/image30.png"/><Relationship Id="rId20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7840" y="2878200"/>
            <a:ext cx="75582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rotocole d’échange de données MDPH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23/03/2007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90880" y="119700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) Compen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63640" y="357336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34560" y="314172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financ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28000" y="4076640"/>
            <a:ext cx="25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F, MSA, CPAM,C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ons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692000" y="4365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03240" y="184464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300720" y="2421000"/>
            <a:ext cx="2160720" cy="16160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831320" y="3573360"/>
            <a:ext cx="42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’informations de fina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907640" y="400536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financ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04400" y="4437000"/>
            <a:ext cx="42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’informations de fina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8881-4E78-4CC0-83E4-0595EE3CA04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8320" y="1268280"/>
            <a:ext cx="433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6)Convention de prest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c partenaire sous trai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4920" y="5084640"/>
            <a:ext cx="25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F, MSA, CPAM,C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AS, Associations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836360" y="3357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10880" y="2852640"/>
            <a:ext cx="34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enaires sous trai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6227640" y="3429000"/>
            <a:ext cx="2160720" cy="16160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904400" y="3429000"/>
            <a:ext cx="40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’informations de formula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demande de pre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5364000" y="1341360"/>
            <a:ext cx="781200" cy="8287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012000" y="1844640"/>
            <a:ext cx="1008000" cy="1079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03240" y="1484280"/>
            <a:ext cx="194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pr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2720" y="4869000"/>
            <a:ext cx="367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23640" y="443700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financ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22560" y="4869000"/>
            <a:ext cx="33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’informations d’activ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054B-14F3-4F11-8C06-C8A12D48A06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90120" y="1268280"/>
            <a:ext cx="41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7) Convention d’éval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la personne handicap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7040" y="4365720"/>
            <a:ext cx="270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F, ANPE, AF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ablissements de soin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inets d’experts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1907640" y="4149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84720" y="2349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52720" y="4869000"/>
            <a:ext cx="367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123640" y="443700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financ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21840" y="4869000"/>
            <a:ext cx="34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’informations financiè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6084720" y="2781360"/>
            <a:ext cx="2232360" cy="15937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195640" y="3500280"/>
            <a:ext cx="367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65840" y="3068640"/>
            <a:ext cx="27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e d’é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338920" y="3716280"/>
            <a:ext cx="25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port d’é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BEE2-8FF0-4558-AFBE-66498817DC6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8560" y="549000"/>
            <a:ext cx="75200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b800"/>
                </a:solidFill>
                <a:latin typeface="Arial"/>
              </a:rPr>
              <a:t>1.8) Des groupes de travail fonctionnels</a:t>
            </a:r>
            <a:endParaRPr b="1" lang="en-US" sz="32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6920" y="126792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e proposition de groupes de travail en parallèle aux groupes techniques et visant à analyser les processus, dans la mesure du possible à les simplifier et ceci afin d’envisager leur dématérialisations doivent se mettre en place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On peut imaginer la mise ne place de grou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utour de la sphère fam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utour de la sphère maladie et médico-soc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utour de la sphère empl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879B-3727-48E4-9A97-C7F61E8E0EC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2) Trois exemples de flux d’échanges</a:t>
            </a:r>
            <a:br>
              <a:rPr sz="2800"/>
            </a:br>
            <a:endParaRPr b="1" lang="en-US" sz="28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ts val="2599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flux à vocation pilo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599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flux univoque  à vocation opér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599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flux bilatéral à vocation opér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9629-72EE-4430-B767-E6BE754B96A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4140360" y="288756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3492360" y="1197000"/>
            <a:ext cx="316728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92360" y="1320840"/>
            <a:ext cx="3167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I CN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Solution technique envisagée (partenariat CNAV)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GBD :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base de données Ora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TL :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Data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equêteur :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Business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7840" y="18864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2.1) Un flux à vocation pilotage :</a:t>
            </a:r>
            <a:br>
              <a:rPr sz="2400"/>
            </a:b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SI décisionnel CNSA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4000" y="1125360"/>
            <a:ext cx="1008000" cy="4320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"/>
          <p:cNvCxnSpPr>
            <a:stCxn id="266" idx="4"/>
            <a:endCxn id="263" idx="1"/>
          </p:cNvCxnSpPr>
          <p:nvPr/>
        </p:nvCxnSpPr>
        <p:spPr>
          <a:xfrm>
            <a:off x="1331640" y="1341000"/>
            <a:ext cx="2161080" cy="18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324000" y="1773360"/>
            <a:ext cx="1008000" cy="431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"/>
          <p:cNvCxnSpPr>
            <a:stCxn id="268" idx="4"/>
            <a:endCxn id="263" idx="1"/>
          </p:cNvCxnSpPr>
          <p:nvPr/>
        </p:nvCxnSpPr>
        <p:spPr>
          <a:xfrm>
            <a:off x="1331640" y="1989000"/>
            <a:ext cx="2161080" cy="12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"/>
          <p:cNvSpPr/>
          <p:nvPr/>
        </p:nvSpPr>
        <p:spPr>
          <a:xfrm>
            <a:off x="1692360" y="134136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332000" y="211608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2349360"/>
            <a:ext cx="1008000" cy="4320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"/>
          <p:cNvCxnSpPr>
            <a:stCxn id="272" idx="4"/>
            <a:endCxn id="263" idx="1"/>
          </p:cNvCxnSpPr>
          <p:nvPr/>
        </p:nvCxnSpPr>
        <p:spPr>
          <a:xfrm>
            <a:off x="1331640" y="2565000"/>
            <a:ext cx="216108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187280" y="2708280"/>
            <a:ext cx="109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5280" y="3357720"/>
            <a:ext cx="1008000" cy="431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75" idx="4"/>
            <a:endCxn id="263" idx="1"/>
          </p:cNvCxnSpPr>
          <p:nvPr/>
        </p:nvCxnSpPr>
        <p:spPr>
          <a:xfrm flipV="1">
            <a:off x="1402920" y="3212280"/>
            <a:ext cx="208980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7" name=""/>
          <p:cNvSpPr/>
          <p:nvPr/>
        </p:nvSpPr>
        <p:spPr>
          <a:xfrm>
            <a:off x="1535040" y="3213000"/>
            <a:ext cx="10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5280" y="4005360"/>
            <a:ext cx="1008000" cy="9363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éférenti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MS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08120" y="3860640"/>
            <a:ext cx="10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78" idx="4"/>
            <a:endCxn id="263" idx="1"/>
          </p:cNvCxnSpPr>
          <p:nvPr/>
        </p:nvCxnSpPr>
        <p:spPr>
          <a:xfrm flipV="1">
            <a:off x="1402920" y="3212640"/>
            <a:ext cx="2089800" cy="126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stCxn id="263" idx="3"/>
            <a:endCxn id="282" idx="1"/>
          </p:cNvCxnSpPr>
          <p:nvPr/>
        </p:nvCxnSpPr>
        <p:spPr>
          <a:xfrm>
            <a:off x="6659640" y="3213000"/>
            <a:ext cx="289440" cy="37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2" name=""/>
          <p:cNvSpPr/>
          <p:nvPr/>
        </p:nvSpPr>
        <p:spPr>
          <a:xfrm>
            <a:off x="6942240" y="2565360"/>
            <a:ext cx="2038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tinataires (L247.2)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N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N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4000" y="5013360"/>
            <a:ext cx="1008000" cy="9367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F, M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GC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"/>
          <p:cNvCxnSpPr>
            <a:stCxn id="283" idx="4"/>
            <a:endCxn id="263" idx="1"/>
          </p:cNvCxnSpPr>
          <p:nvPr/>
        </p:nvCxnSpPr>
        <p:spPr>
          <a:xfrm flipV="1">
            <a:off x="1331640" y="3212640"/>
            <a:ext cx="2161080" cy="226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1824120" y="4780080"/>
            <a:ext cx="10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C6F3-8227-4487-9A7A-D247888D598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8400" y="55080"/>
            <a:ext cx="7196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b800"/>
                </a:solidFill>
                <a:latin typeface="Arial"/>
              </a:rPr>
              <a:t>L’axe technique décisionnel</a:t>
            </a:r>
            <a:endParaRPr b="1" lang="en-US" sz="32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854360" y="5987880"/>
            <a:ext cx="75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REQUET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226200" y="3298680"/>
            <a:ext cx="1344600" cy="17319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2141640"/>
            <a:ext cx="7535880" cy="709200"/>
          </a:xfrm>
          <a:prstGeom prst="rect">
            <a:avLst/>
          </a:prstGeom>
          <a:solidFill>
            <a:srgbClr val="cc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YSTEM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OPERATIONN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0920" y="2492280"/>
            <a:ext cx="40500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71640" y="2492280"/>
            <a:ext cx="40320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635280" y="2492280"/>
            <a:ext cx="40320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0" y="2492280"/>
            <a:ext cx="40320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227640" y="2492280"/>
            <a:ext cx="40500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134120" y="2506680"/>
            <a:ext cx="403200" cy="36972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71520" y="2928960"/>
            <a:ext cx="7400880" cy="431640"/>
          </a:xfrm>
          <a:prstGeom prst="flowChartMerg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EXTRACTION-TRANSFORMATION-CHAR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32160" y="3400560"/>
            <a:ext cx="1413000" cy="57924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TOCK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EN SG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658960" y="4473720"/>
            <a:ext cx="538200" cy="433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332160" y="4597560"/>
            <a:ext cx="538200" cy="433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071960" y="4597560"/>
            <a:ext cx="538200" cy="433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813200" y="4473720"/>
            <a:ext cx="538200" cy="433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95560" y="4041720"/>
            <a:ext cx="2152800" cy="493920"/>
          </a:xfrm>
          <a:prstGeom prst="downArrowCallout">
            <a:avLst>
              <a:gd name="adj1" fmla="val 108975"/>
              <a:gd name="adj2" fmla="val 108965"/>
              <a:gd name="adj3" fmla="val 16667"/>
              <a:gd name="adj4" fmla="val 6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PEC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525320" y="4721400"/>
            <a:ext cx="88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DATAMAR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18440" y="3608280"/>
            <a:ext cx="136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Entrepôt de donné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203560" y="5092560"/>
            <a:ext cx="3782880" cy="432000"/>
          </a:xfrm>
          <a:prstGeom prst="downArrowCallout">
            <a:avLst>
              <a:gd name="adj1" fmla="val 218937"/>
              <a:gd name="adj2" fmla="val 218917"/>
              <a:gd name="adj3" fmla="val 16667"/>
              <a:gd name="adj4" fmla="val 6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RE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loupe.gif (3148 octet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27720" y="5462640"/>
            <a:ext cx="415800" cy="5252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663880" y="5710320"/>
            <a:ext cx="6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442400" y="5759280"/>
            <a:ext cx="77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RAPPOR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78200" y="5597640"/>
            <a:ext cx="696960" cy="4284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658960" y="5524560"/>
            <a:ext cx="1119240" cy="5857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476360" y="5380200"/>
            <a:ext cx="804960" cy="6746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2730600" y="2133720"/>
            <a:ext cx="61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MDPH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594240" y="2141640"/>
            <a:ext cx="61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MDPH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759320" y="214164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férenti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392000" y="2133720"/>
            <a:ext cx="83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Compta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94520" y="2133720"/>
            <a:ext cx="56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ESMS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115760" y="21574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Autres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Flux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7640" y="3979800"/>
            <a:ext cx="139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Verdana"/>
              </a:rPr>
              <a:t>SYSTE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Verdana"/>
              </a:rPr>
              <a:t>DECISIO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494400" y="3608280"/>
            <a:ext cx="808200" cy="433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408360" y="4103640"/>
            <a:ext cx="956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étadonné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494400" y="4349880"/>
            <a:ext cx="808200" cy="433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45160" y="3670200"/>
            <a:ext cx="1481040" cy="0"/>
          </a:xfrm>
          <a:prstGeom prst="line">
            <a:avLst/>
          </a:prstGeom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51400" y="4659480"/>
            <a:ext cx="874800" cy="0"/>
          </a:xfrm>
          <a:prstGeom prst="line">
            <a:avLst/>
          </a:prstGeom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6086160" y="5094360"/>
            <a:ext cx="538200" cy="517320"/>
            <a:chOff x="6086160" y="5094360"/>
            <a:chExt cx="538200" cy="517320"/>
          </a:xfrm>
        </p:grpSpPr>
        <p:pic>
          <p:nvPicPr>
            <p:cNvPr id="325" name="" descr=""/>
            <p:cNvPicPr/>
            <p:nvPr/>
          </p:nvPicPr>
          <p:blipFill>
            <a:blip r:embed="rId9"/>
            <a:stretch/>
          </p:blipFill>
          <p:spPr>
            <a:xfrm>
              <a:off x="6244920" y="5094360"/>
              <a:ext cx="379440" cy="32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6086160" y="5380560"/>
              <a:ext cx="476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bbe0e3"/>
                  </a:solidFill>
                  <a:latin typeface="Verdana"/>
                </a:rPr>
                <a:t>MAI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6982200" y="5106960"/>
            <a:ext cx="445320" cy="505080"/>
            <a:chOff x="6982200" y="5106960"/>
            <a:chExt cx="445320" cy="505080"/>
          </a:xfrm>
        </p:grpSpPr>
        <p:pic>
          <p:nvPicPr>
            <p:cNvPr id="328" name="" descr=""/>
            <p:cNvPicPr/>
            <p:nvPr/>
          </p:nvPicPr>
          <p:blipFill>
            <a:blip r:embed="rId10"/>
            <a:stretch/>
          </p:blipFill>
          <p:spPr>
            <a:xfrm>
              <a:off x="7035120" y="5106960"/>
              <a:ext cx="392400" cy="3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6982200" y="5380920"/>
              <a:ext cx="43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cc00"/>
                  </a:solidFill>
                  <a:latin typeface="Verdana"/>
                </a:rPr>
                <a:t>WE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527520" y="5057640"/>
            <a:ext cx="512640" cy="554040"/>
            <a:chOff x="6527520" y="5057640"/>
            <a:chExt cx="512640" cy="554040"/>
          </a:xfrm>
        </p:grpSpPr>
        <p:pic>
          <p:nvPicPr>
            <p:cNvPr id="331" name="" descr=""/>
            <p:cNvPicPr/>
            <p:nvPr/>
          </p:nvPicPr>
          <p:blipFill>
            <a:blip r:embed="rId11"/>
            <a:stretch/>
          </p:blipFill>
          <p:spPr>
            <a:xfrm>
              <a:off x="6638760" y="5057640"/>
              <a:ext cx="401400" cy="38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6527520" y="5380560"/>
              <a:ext cx="363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ff"/>
                  </a:solidFill>
                  <a:latin typeface="Verdana"/>
                </a:rPr>
                <a:t>C/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5364000" y="2492280"/>
            <a:ext cx="40356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402160" y="2133720"/>
            <a:ext cx="56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ESMS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173640" y="352440"/>
            <a:ext cx="2563920" cy="1506600"/>
            <a:chOff x="6173640" y="352440"/>
            <a:chExt cx="2563920" cy="1506600"/>
          </a:xfrm>
        </p:grpSpPr>
        <p:sp>
          <p:nvSpPr>
            <p:cNvPr id="336" name=""/>
            <p:cNvSpPr/>
            <p:nvPr/>
          </p:nvSpPr>
          <p:spPr>
            <a:xfrm>
              <a:off x="6173640" y="969840"/>
              <a:ext cx="210960" cy="2282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518680" y="832320"/>
              <a:ext cx="218880" cy="1681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6264720" y="352440"/>
              <a:ext cx="2470680" cy="1506600"/>
              <a:chOff x="6264720" y="352440"/>
              <a:chExt cx="2470680" cy="1506600"/>
            </a:xfrm>
          </p:grpSpPr>
          <p:sp>
            <p:nvSpPr>
              <p:cNvPr id="339" name=""/>
              <p:cNvSpPr/>
              <p:nvPr/>
            </p:nvSpPr>
            <p:spPr>
              <a:xfrm>
                <a:off x="6738840" y="1378080"/>
                <a:ext cx="935640" cy="220680"/>
              </a:xfrm>
              <a:prstGeom prst="rect">
                <a:avLst/>
              </a:prstGeom>
              <a:solidFill>
                <a:srgbClr val="e6e6e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735240" y="1070280"/>
                <a:ext cx="938160" cy="255960"/>
              </a:xfrm>
              <a:prstGeom prst="rect">
                <a:avLst/>
              </a:prstGeom>
              <a:solidFill>
                <a:srgbClr val="e6e6e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413040" y="478440"/>
                <a:ext cx="282240" cy="1124280"/>
              </a:xfrm>
              <a:prstGeom prst="rect">
                <a:avLst/>
              </a:prstGeom>
              <a:solidFill>
                <a:srgbClr val="e6e6e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741720" y="478440"/>
                <a:ext cx="927360" cy="243720"/>
              </a:xfrm>
              <a:prstGeom prst="rect">
                <a:avLst/>
              </a:prstGeom>
              <a:solidFill>
                <a:srgbClr val="e6e6e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738840" y="775080"/>
                <a:ext cx="932760" cy="243000"/>
              </a:xfrm>
              <a:prstGeom prst="rect">
                <a:avLst/>
              </a:prstGeom>
              <a:solidFill>
                <a:srgbClr val="e6e6e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66"/>
                    </a:solidFill>
                    <a:latin typeface="Comic Sans MS"/>
                  </a:rPr>
                  <a:t>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672240" y="571680"/>
                <a:ext cx="119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347240" y="570960"/>
                <a:ext cx="374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0800000">
                <a:off x="6458040" y="532800"/>
                <a:ext cx="214560" cy="9590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450840" y="1762200"/>
                <a:ext cx="2284560" cy="968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392880" y="1084320"/>
                <a:ext cx="63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718760" y="567000"/>
                <a:ext cx="720" cy="892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675120" y="873720"/>
                <a:ext cx="119520" cy="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381800" y="871560"/>
                <a:ext cx="334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718400" y="909000"/>
                <a:ext cx="5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280920" y="1810440"/>
                <a:ext cx="17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264720" y="352440"/>
                <a:ext cx="2372400" cy="5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8633880" y="356040"/>
                <a:ext cx="0" cy="474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280560" y="1195560"/>
                <a:ext cx="0" cy="619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7384320" y="1455480"/>
                <a:ext cx="333720" cy="3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381800" y="1180440"/>
                <a:ext cx="336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770600" y="831240"/>
                <a:ext cx="181440" cy="1652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001360" y="831240"/>
                <a:ext cx="181440" cy="1652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951680" y="909000"/>
                <a:ext cx="5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182440" y="909000"/>
                <a:ext cx="5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234640" y="831240"/>
                <a:ext cx="226800" cy="1652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770600" y="1037160"/>
                <a:ext cx="704520" cy="83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37440" bIns="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8463960" y="909000"/>
                <a:ext cx="5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718400" y="1075320"/>
                <a:ext cx="5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 flipV="1">
                <a:off x="8634240" y="1005840"/>
                <a:ext cx="2520" cy="77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483040" y="1081440"/>
                <a:ext cx="148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796440" y="783000"/>
                <a:ext cx="583200" cy="1713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264720" y="352440"/>
                <a:ext cx="0" cy="617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450840" y="1633320"/>
                <a:ext cx="2284560" cy="968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284520" y="1679040"/>
                <a:ext cx="17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798240" y="486000"/>
                <a:ext cx="583200" cy="1713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798240" y="1083960"/>
                <a:ext cx="583200" cy="1713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681600" y="1180440"/>
                <a:ext cx="119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801120" y="1378080"/>
                <a:ext cx="583200" cy="1713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677280" y="1450080"/>
                <a:ext cx="119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96C0-7273-4C38-A691-9A1545CF609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18920" y="260280"/>
            <a:ext cx="72723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2.2) Un flux univoque:</a:t>
            </a:r>
            <a:br>
              <a:rPr sz="1600"/>
            </a:b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proposition de serveur de formulaire «Projet DGME»</a:t>
            </a:r>
            <a:endParaRPr b="1" lang="en-US" sz="1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403280" y="2732040"/>
            <a:ext cx="4824360" cy="143352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916360" y="3021120"/>
            <a:ext cx="14526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Résea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serveur" descr=""/>
          <p:cNvPicPr/>
          <p:nvPr/>
        </p:nvPicPr>
        <p:blipFill>
          <a:blip r:embed="rId2"/>
          <a:stretch/>
        </p:blipFill>
        <p:spPr>
          <a:xfrm>
            <a:off x="1332000" y="1508040"/>
            <a:ext cx="852480" cy="955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 rot="17369400">
            <a:off x="945000" y="2902680"/>
            <a:ext cx="2906640" cy="981360"/>
          </a:xfrm>
          <a:custGeom>
            <a:avLst/>
            <a:gdLst>
              <a:gd name="textAreaLeft" fmla="*/ 508680 w 2906640"/>
              <a:gd name="textAreaRight" fmla="*/ 2107440 w 2906640"/>
              <a:gd name="textAreaTop" fmla="*/ 131400 h 981360"/>
              <a:gd name="textAreaBottom" fmla="*/ 849960 h 98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179280" y="4892760"/>
            <a:ext cx="863640" cy="58572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4"/>
          <a:stretch/>
        </p:blipFill>
        <p:spPr>
          <a:xfrm>
            <a:off x="1116000" y="4892760"/>
            <a:ext cx="863640" cy="5857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5"/>
          <a:stretch/>
        </p:blipFill>
        <p:spPr>
          <a:xfrm>
            <a:off x="2050920" y="4892760"/>
            <a:ext cx="863640" cy="5857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 rot="14690400">
            <a:off x="3829680" y="2730600"/>
            <a:ext cx="2950920" cy="1609560"/>
          </a:xfrm>
          <a:custGeom>
            <a:avLst/>
            <a:gdLst>
              <a:gd name="textAreaLeft" fmla="*/ 516240 w 2950920"/>
              <a:gd name="textAreaRight" fmla="*/ 2139480 w 2950920"/>
              <a:gd name="textAreaTop" fmla="*/ 215640 h 1609560"/>
              <a:gd name="textAreaBottom" fmla="*/ 1393920 h 1609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serveur3" descr=""/>
          <p:cNvPicPr/>
          <p:nvPr/>
        </p:nvPicPr>
        <p:blipFill>
          <a:blip r:embed="rId6"/>
          <a:stretch/>
        </p:blipFill>
        <p:spPr>
          <a:xfrm>
            <a:off x="4859280" y="1147680"/>
            <a:ext cx="762120" cy="10605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2124000" y="1868400"/>
            <a:ext cx="266400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448680" y="3357720"/>
            <a:ext cx="163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nex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écuris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7"/>
          <a:stretch/>
        </p:blipFill>
        <p:spPr>
          <a:xfrm>
            <a:off x="4572000" y="4076640"/>
            <a:ext cx="720720" cy="7160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8"/>
          <a:stretch/>
        </p:blipFill>
        <p:spPr>
          <a:xfrm>
            <a:off x="5076720" y="4221000"/>
            <a:ext cx="720720" cy="7160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9"/>
          <a:stretch/>
        </p:blipFill>
        <p:spPr>
          <a:xfrm>
            <a:off x="4140360" y="3860640"/>
            <a:ext cx="720720" cy="71604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10"/>
          <a:stretch/>
        </p:blipFill>
        <p:spPr>
          <a:xfrm>
            <a:off x="5580000" y="4221000"/>
            <a:ext cx="720720" cy="7160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11"/>
          <a:stretch/>
        </p:blipFill>
        <p:spPr>
          <a:xfrm>
            <a:off x="6084720" y="4221000"/>
            <a:ext cx="720720" cy="7160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183600" y="5373720"/>
            <a:ext cx="32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isie en ligne de formul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 une personne en situ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handic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120" y="4076640"/>
            <a:ext cx="302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nexion sécuris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TT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32720" y="4221000"/>
            <a:ext cx="14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DPH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284720" y="4653000"/>
            <a:ext cx="450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MDPH puisent de façon sécuris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urs formula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240" y="1940040"/>
            <a:ext cx="216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formul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655600" y="1268280"/>
            <a:ext cx="194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médi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327680" y="1076400"/>
            <a:ext cx="380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nvoi sécurisé des Formula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u serveur intermédi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148360" y="5229360"/>
            <a:ext cx="0" cy="43164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924360" y="5661000"/>
            <a:ext cx="25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928680" y="566100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iel éditeur M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588000" y="5805360"/>
            <a:ext cx="50508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164360" y="5445000"/>
            <a:ext cx="180036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11600" y="515772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238520" y="5516640"/>
            <a:ext cx="12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F,M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CPAM,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50160" y="522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59016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7654-7134-46A2-85DE-424039C04EC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5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2.3) Un flux bilatéral :Un partenaire de référence</a:t>
            </a:r>
            <a:br>
              <a:rPr sz="2400"/>
            </a:b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La CAF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1843200" y="1366920"/>
            <a:ext cx="5457600" cy="412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E0A2-90C4-4373-B046-DDF071DAF31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395280" y="1638360"/>
            <a:ext cx="78184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Principes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Chemins de fl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Véhi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5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) Technologies de transport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12C8-FC8B-4B67-BCFF-775BEC21DBF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b800"/>
                </a:solidFill>
                <a:latin typeface="Arial"/>
              </a:rPr>
              <a:t>Ordre du Jour</a:t>
            </a:r>
            <a:endParaRPr b="1" lang="en-US" sz="33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0920" y="764640"/>
            <a:ext cx="8280360" cy="53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Groupe de Travail : protocole d’é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Réunion du :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23 mars 2007 14h-16h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Lieu :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CNSA, 66 avenue du Maine, 75014 Par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Ordre du J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) Flux fonctionnels entre MDPH et organis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1)Flux de décisions d’orientation sphère é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2) Flux de décisions d’orientation sphère Trav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3) Flux d’orientations de 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4) Flux de pre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5) Compen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6)Convention de prestations avec partenaire sous trai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7) Convention d’évaluation de la personne handicap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54BF-64F5-4783-8A53-AD46FD7A731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7840" y="18864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.1) Principes techniques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79280" y="520560"/>
            <a:ext cx="8137800" cy="67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n lien avec le référentiel d’interopérabilité, la solution technique retenue devra offrir les servic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e sécurité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- D'authentification, pour prouver l'identité d'une personne ou d'une applica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- D'intégrité, pour prouver que les informations n'ont pas été manipulé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- De non-répudiation, pour garantir que les informations ne puissent être renié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e confidentialité, pour que les informations restent priv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’opérationnalité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e garantie d’acheminement et de reprise sur 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e contrôle fonctionnels des en-têtes et conten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’interopérabilité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poser sur les standards, utiliser TCP/IP,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5BFD-C297-4D6F-8981-100DD8DA4BE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5578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b800"/>
                </a:solidFill>
                <a:latin typeface="Arial"/>
              </a:rPr>
              <a:t>3.2.1) Le transport : les chemins</a:t>
            </a:r>
            <a:br>
              <a:rPr sz="3200"/>
            </a:b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Un VPN privé : Exemple le Réseau SESAM-Vitale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79280" y="1052640"/>
            <a:ext cx="11106000" cy="5139720"/>
            <a:chOff x="179280" y="1052640"/>
            <a:chExt cx="11106000" cy="5139720"/>
          </a:xfrm>
        </p:grpSpPr>
        <p:sp>
          <p:nvSpPr>
            <p:cNvPr id="423" name=""/>
            <p:cNvSpPr/>
            <p:nvPr/>
          </p:nvSpPr>
          <p:spPr>
            <a:xfrm>
              <a:off x="2242080" y="1163520"/>
              <a:ext cx="9043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26800" y="2648160"/>
              <a:ext cx="2364120" cy="1362240"/>
            </a:xfrm>
            <a:prstGeom prst="ellipse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610720" y="2995200"/>
              <a:ext cx="11224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590560" y="3618000"/>
              <a:ext cx="10141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Times New Roman"/>
                </a:rPr>
                <a:t>VP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268880" y="3730680"/>
              <a:ext cx="86976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28280" y="3780360"/>
              <a:ext cx="738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Accès 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523400" y="397008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publ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3494880" y="3433680"/>
              <a:ext cx="663840" cy="279360"/>
              <a:chOff x="3494880" y="3433680"/>
              <a:chExt cx="663840" cy="279360"/>
            </a:xfrm>
          </p:grpSpPr>
          <p:sp>
            <p:nvSpPr>
              <p:cNvPr id="431" name=""/>
              <p:cNvSpPr/>
              <p:nvPr/>
            </p:nvSpPr>
            <p:spPr>
              <a:xfrm>
                <a:off x="3527640" y="3450600"/>
                <a:ext cx="39348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3494880" y="3433680"/>
                <a:ext cx="663840" cy="267840"/>
                <a:chOff x="3494880" y="3433680"/>
                <a:chExt cx="663840" cy="26784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3494880" y="3433680"/>
                  <a:ext cx="663840" cy="267840"/>
                </a:xfrm>
                <a:custGeom>
                  <a:avLst/>
                  <a:gdLst/>
                  <a:ahLst/>
                  <a:rect l="l" t="t" r="r" b="b"/>
                  <a:pathLst>
                    <a:path w="845" h="281">
                      <a:moveTo>
                        <a:pt x="70" y="0"/>
                      </a:moveTo>
                      <a:lnTo>
                        <a:pt x="0" y="70"/>
                      </a:lnTo>
                      <a:lnTo>
                        <a:pt x="0" y="281"/>
                      </a:lnTo>
                      <a:lnTo>
                        <a:pt x="774" y="281"/>
                      </a:lnTo>
                      <a:lnTo>
                        <a:pt x="845" y="210"/>
                      </a:lnTo>
                      <a:lnTo>
                        <a:pt x="845" y="0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noFill/>
                <a:ln w="648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494880" y="3433680"/>
                  <a:ext cx="663840" cy="66600"/>
                </a:xfrm>
                <a:custGeom>
                  <a:avLst/>
                  <a:gdLst/>
                  <a:ahLst/>
                  <a:rect l="l" t="t" r="r" b="b"/>
                  <a:pathLst>
                    <a:path w="845" h="70">
                      <a:moveTo>
                        <a:pt x="0" y="70"/>
                      </a:moveTo>
                      <a:lnTo>
                        <a:pt x="774" y="70"/>
                      </a:lnTo>
                      <a:lnTo>
                        <a:pt x="845" y="0"/>
                      </a:lnTo>
                    </a:path>
                  </a:pathLst>
                </a:custGeom>
                <a:noFill/>
                <a:ln w="648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4101840" y="3500280"/>
                  <a:ext cx="1440" cy="20088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6" name=""/>
              <p:cNvSpPr/>
              <p:nvPr/>
            </p:nvSpPr>
            <p:spPr>
              <a:xfrm>
                <a:off x="3494880" y="3433680"/>
                <a:ext cx="60732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567960" y="3527280"/>
                <a:ext cx="4626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3333cc"/>
                    </a:solidFill>
                    <a:latin typeface="Times New Roman"/>
                  </a:rPr>
                  <a:t>Administratio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644640" y="3617640"/>
                <a:ext cx="243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3333cc"/>
                    </a:solidFill>
                    <a:latin typeface="Times New Roman"/>
                  </a:rPr>
                  <a:t>Suppor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5176440" y="3807360"/>
              <a:ext cx="1181880" cy="177840"/>
            </a:xfrm>
            <a:prstGeom prst="rect">
              <a:avLst/>
            </a:prstGeom>
            <a:solidFill>
              <a:srgbClr val="cc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79120" y="2790360"/>
              <a:ext cx="72000" cy="878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08120" y="4110120"/>
              <a:ext cx="42084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5136840" y="4087080"/>
              <a:ext cx="417600" cy="754200"/>
              <a:chOff x="5136840" y="4087080"/>
              <a:chExt cx="417600" cy="754200"/>
            </a:xfrm>
          </p:grpSpPr>
          <p:sp>
            <p:nvSpPr>
              <p:cNvPr id="443" name=""/>
              <p:cNvSpPr/>
              <p:nvPr/>
            </p:nvSpPr>
            <p:spPr>
              <a:xfrm>
                <a:off x="5166720" y="4087080"/>
                <a:ext cx="387720" cy="413280"/>
              </a:xfrm>
              <a:custGeom>
                <a:avLst/>
                <a:gdLst/>
                <a:ahLst/>
                <a:rect l="l" t="t" r="r" b="b"/>
                <a:pathLst>
                  <a:path w="494" h="433">
                    <a:moveTo>
                      <a:pt x="494" y="433"/>
                    </a:moveTo>
                    <a:lnTo>
                      <a:pt x="370" y="0"/>
                    </a:lnTo>
                    <a:lnTo>
                      <a:pt x="123" y="0"/>
                    </a:lnTo>
                    <a:lnTo>
                      <a:pt x="0" y="433"/>
                    </a:lnTo>
                    <a:lnTo>
                      <a:pt x="494" y="433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5136840" y="4500360"/>
                <a:ext cx="59400" cy="325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5240160" y="4512240"/>
                <a:ext cx="37080" cy="329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5362560" y="4510080"/>
                <a:ext cx="10440" cy="325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463360" y="4506480"/>
                <a:ext cx="18720" cy="309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5230080" y="4217400"/>
              <a:ext cx="2995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87320" y="4263480"/>
              <a:ext cx="18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A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02200" y="2514240"/>
              <a:ext cx="1281240" cy="342720"/>
            </a:xfrm>
            <a:prstGeom prst="ellipse">
              <a:avLst/>
            </a:prstGeom>
            <a:noFill/>
            <a:ln w="64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988160" y="2558160"/>
              <a:ext cx="69372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926960" y="2606040"/>
              <a:ext cx="131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9966"/>
                  </a:solidFill>
                  <a:latin typeface="Times New Roman"/>
                </a:rPr>
                <a:t>Messager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4210920" y="2487600"/>
              <a:ext cx="1010520" cy="574200"/>
              <a:chOff x="4210920" y="2487600"/>
              <a:chExt cx="1010520" cy="574200"/>
            </a:xfrm>
          </p:grpSpPr>
          <p:sp>
            <p:nvSpPr>
              <p:cNvPr id="454" name=""/>
              <p:cNvSpPr/>
              <p:nvPr/>
            </p:nvSpPr>
            <p:spPr>
              <a:xfrm>
                <a:off x="4256280" y="2535120"/>
                <a:ext cx="917640" cy="476640"/>
              </a:xfrm>
              <a:custGeom>
                <a:avLst/>
                <a:gdLst/>
                <a:ahLst/>
                <a:rect l="l" t="t" r="r" b="b"/>
                <a:pathLst>
                  <a:path w="1169" h="497">
                    <a:moveTo>
                      <a:pt x="0" y="468"/>
                    </a:moveTo>
                    <a:lnTo>
                      <a:pt x="11" y="497"/>
                    </a:lnTo>
                    <a:lnTo>
                      <a:pt x="1169" y="28"/>
                    </a:lnTo>
                    <a:lnTo>
                      <a:pt x="1157" y="0"/>
                    </a:lnTo>
                    <a:lnTo>
                      <a:pt x="0" y="468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210920" y="2937240"/>
                <a:ext cx="101520" cy="1245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119560" y="2487600"/>
                <a:ext cx="101880" cy="1238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5834160" y="4079160"/>
              <a:ext cx="419040" cy="754560"/>
              <a:chOff x="5834160" y="4079160"/>
              <a:chExt cx="419040" cy="754560"/>
            </a:xfrm>
          </p:grpSpPr>
          <p:sp>
            <p:nvSpPr>
              <p:cNvPr id="458" name=""/>
              <p:cNvSpPr/>
              <p:nvPr/>
            </p:nvSpPr>
            <p:spPr>
              <a:xfrm>
                <a:off x="5865840" y="4079160"/>
                <a:ext cx="387360" cy="413640"/>
              </a:xfrm>
              <a:custGeom>
                <a:avLst/>
                <a:gdLst/>
                <a:ahLst/>
                <a:rect l="l" t="t" r="r" b="b"/>
                <a:pathLst>
                  <a:path w="494" h="433">
                    <a:moveTo>
                      <a:pt x="494" y="433"/>
                    </a:moveTo>
                    <a:lnTo>
                      <a:pt x="370" y="0"/>
                    </a:lnTo>
                    <a:lnTo>
                      <a:pt x="123" y="0"/>
                    </a:lnTo>
                    <a:lnTo>
                      <a:pt x="0" y="433"/>
                    </a:lnTo>
                    <a:lnTo>
                      <a:pt x="494" y="433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5834160" y="4492800"/>
                <a:ext cx="61200" cy="325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5938920" y="4504320"/>
                <a:ext cx="35640" cy="32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6059880" y="4502520"/>
                <a:ext cx="10800" cy="327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160680" y="4498560"/>
                <a:ext cx="20160" cy="309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>
              <a:off x="5927040" y="4209480"/>
              <a:ext cx="2995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983920" y="425556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C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6042960" y="3975840"/>
              <a:ext cx="1080" cy="107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58440" y="2748240"/>
              <a:ext cx="39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Intern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639760" y="1424520"/>
              <a:ext cx="67500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3064680" y="1836360"/>
              <a:ext cx="150120" cy="880560"/>
              <a:chOff x="3064680" y="1836360"/>
              <a:chExt cx="150120" cy="880560"/>
            </a:xfrm>
          </p:grpSpPr>
          <p:sp>
            <p:nvSpPr>
              <p:cNvPr id="469" name=""/>
              <p:cNvSpPr/>
              <p:nvPr/>
            </p:nvSpPr>
            <p:spPr>
              <a:xfrm>
                <a:off x="3103560" y="1897920"/>
                <a:ext cx="72000" cy="757800"/>
              </a:xfrm>
              <a:custGeom>
                <a:avLst/>
                <a:gdLst/>
                <a:ahLst/>
                <a:rect l="l" t="t" r="r" b="b"/>
                <a:pathLst>
                  <a:path w="92" h="792">
                    <a:moveTo>
                      <a:pt x="61" y="792"/>
                    </a:moveTo>
                    <a:lnTo>
                      <a:pt x="92" y="789"/>
                    </a:lnTo>
                    <a:lnTo>
                      <a:pt x="31" y="0"/>
                    </a:lnTo>
                    <a:lnTo>
                      <a:pt x="0" y="3"/>
                    </a:lnTo>
                    <a:lnTo>
                      <a:pt x="61" y="792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112920" y="2592360"/>
                <a:ext cx="101880" cy="1245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064680" y="1836360"/>
                <a:ext cx="101520" cy="1245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2954880" y="1632960"/>
              <a:ext cx="354960" cy="193320"/>
              <a:chOff x="2954880" y="1632960"/>
              <a:chExt cx="354960" cy="193320"/>
            </a:xfrm>
          </p:grpSpPr>
          <p:sp>
            <p:nvSpPr>
              <p:cNvPr id="473" name=""/>
              <p:cNvSpPr/>
              <p:nvPr/>
            </p:nvSpPr>
            <p:spPr>
              <a:xfrm>
                <a:off x="2954880" y="1632960"/>
                <a:ext cx="354960" cy="193320"/>
              </a:xfrm>
              <a:prstGeom prst="rect">
                <a:avLst/>
              </a:prstGeom>
              <a:solidFill>
                <a:srgbClr val="ffff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034800" y="1667160"/>
                <a:ext cx="208440" cy="13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034440" y="1671120"/>
                <a:ext cx="261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MDPH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2288880" y="1502640"/>
              <a:ext cx="679680" cy="474840"/>
              <a:chOff x="2288880" y="1502640"/>
              <a:chExt cx="679680" cy="474840"/>
            </a:xfrm>
          </p:grpSpPr>
          <p:sp>
            <p:nvSpPr>
              <p:cNvPr id="477" name=""/>
              <p:cNvSpPr/>
              <p:nvPr/>
            </p:nvSpPr>
            <p:spPr>
              <a:xfrm>
                <a:off x="2288880" y="1502640"/>
                <a:ext cx="679680" cy="474840"/>
              </a:xfrm>
              <a:prstGeom prst="ellipse">
                <a:avLst/>
              </a:prstGeom>
              <a:solidFill>
                <a:srgbClr val="c0c0c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8" name=""/>
              <p:cNvGrpSpPr/>
              <p:nvPr/>
            </p:nvGrpSpPr>
            <p:grpSpPr>
              <a:xfrm>
                <a:off x="2415960" y="1548360"/>
                <a:ext cx="435960" cy="355680"/>
                <a:chOff x="2415960" y="1548360"/>
                <a:chExt cx="435960" cy="35568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2415960" y="1548360"/>
                  <a:ext cx="435960" cy="35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489400" y="1594080"/>
                  <a:ext cx="29808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Réseau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520000" y="1734120"/>
                  <a:ext cx="29484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MDP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2" name=""/>
            <p:cNvSpPr/>
            <p:nvPr/>
          </p:nvSpPr>
          <p:spPr>
            <a:xfrm>
              <a:off x="5082120" y="2462760"/>
              <a:ext cx="147600" cy="162360"/>
            </a:xfrm>
            <a:custGeom>
              <a:avLst/>
              <a:gdLst/>
              <a:ahLst/>
              <a:rect l="l" t="t" r="r" b="b"/>
              <a:pathLst>
                <a:path w="189" h="171">
                  <a:moveTo>
                    <a:pt x="50" y="0"/>
                  </a:moveTo>
                  <a:lnTo>
                    <a:pt x="0" y="50"/>
                  </a:lnTo>
                  <a:lnTo>
                    <a:pt x="0" y="121"/>
                  </a:lnTo>
                  <a:lnTo>
                    <a:pt x="50" y="171"/>
                  </a:lnTo>
                  <a:lnTo>
                    <a:pt x="139" y="171"/>
                  </a:lnTo>
                  <a:lnTo>
                    <a:pt x="189" y="121"/>
                  </a:lnTo>
                  <a:lnTo>
                    <a:pt x="189" y="50"/>
                  </a:lnTo>
                  <a:lnTo>
                    <a:pt x="139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4118400" y="1954800"/>
              <a:ext cx="354600" cy="192960"/>
              <a:chOff x="4118400" y="1954800"/>
              <a:chExt cx="354600" cy="192960"/>
            </a:xfrm>
          </p:grpSpPr>
          <p:sp>
            <p:nvSpPr>
              <p:cNvPr id="484" name=""/>
              <p:cNvSpPr/>
              <p:nvPr/>
            </p:nvSpPr>
            <p:spPr>
              <a:xfrm>
                <a:off x="4118400" y="1954800"/>
                <a:ext cx="354600" cy="192960"/>
              </a:xfrm>
              <a:prstGeom prst="rect">
                <a:avLst/>
              </a:prstGeom>
              <a:solidFill>
                <a:srgbClr val="ffff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198320" y="1987200"/>
                <a:ext cx="203760" cy="13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196880" y="1991160"/>
                <a:ext cx="252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CNS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3973680" y="1479600"/>
              <a:ext cx="678240" cy="475200"/>
            </a:xfrm>
            <a:prstGeom prst="ellipse">
              <a:avLst/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095000" y="1535040"/>
              <a:ext cx="437760" cy="35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69880" y="1579320"/>
              <a:ext cx="298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ésea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202640" y="1721160"/>
              <a:ext cx="27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NS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052160" y="2029680"/>
              <a:ext cx="101880" cy="1245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70480" y="2606040"/>
              <a:ext cx="101520" cy="1245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027320" y="1991160"/>
              <a:ext cx="149040" cy="164520"/>
            </a:xfrm>
            <a:custGeom>
              <a:avLst/>
              <a:gdLst/>
              <a:ahLst/>
              <a:rect l="l" t="t" r="r" b="b"/>
              <a:pathLst>
                <a:path w="189" h="171">
                  <a:moveTo>
                    <a:pt x="50" y="0"/>
                  </a:moveTo>
                  <a:lnTo>
                    <a:pt x="0" y="50"/>
                  </a:lnTo>
                  <a:lnTo>
                    <a:pt x="0" y="121"/>
                  </a:lnTo>
                  <a:lnTo>
                    <a:pt x="50" y="171"/>
                  </a:lnTo>
                  <a:lnTo>
                    <a:pt x="139" y="171"/>
                  </a:lnTo>
                  <a:lnTo>
                    <a:pt x="189" y="121"/>
                  </a:lnTo>
                  <a:lnTo>
                    <a:pt x="189" y="50"/>
                  </a:lnTo>
                  <a:lnTo>
                    <a:pt x="139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022560" y="1788120"/>
              <a:ext cx="149040" cy="164880"/>
            </a:xfrm>
            <a:custGeom>
              <a:avLst/>
              <a:gdLst/>
              <a:ahLst/>
              <a:rect l="l" t="t" r="r" b="b"/>
              <a:pathLst>
                <a:path w="189" h="171">
                  <a:moveTo>
                    <a:pt x="50" y="0"/>
                  </a:moveTo>
                  <a:lnTo>
                    <a:pt x="0" y="50"/>
                  </a:lnTo>
                  <a:lnTo>
                    <a:pt x="0" y="121"/>
                  </a:lnTo>
                  <a:lnTo>
                    <a:pt x="50" y="171"/>
                  </a:lnTo>
                  <a:lnTo>
                    <a:pt x="139" y="171"/>
                  </a:lnTo>
                  <a:lnTo>
                    <a:pt x="189" y="121"/>
                  </a:lnTo>
                  <a:lnTo>
                    <a:pt x="189" y="50"/>
                  </a:lnTo>
                  <a:lnTo>
                    <a:pt x="139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712040" y="2954880"/>
              <a:ext cx="117360" cy="17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337840" y="1052640"/>
              <a:ext cx="27961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393640" y="1098360"/>
              <a:ext cx="2117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accordements nominaux Assurance maladi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243520" y="1550880"/>
              <a:ext cx="45684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437080" y="5072040"/>
              <a:ext cx="89640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755680" y="5456880"/>
              <a:ext cx="704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accordeme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130800" y="5640840"/>
              <a:ext cx="11527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Professionnels de sant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Hopitaux établissement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De soi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5366160" y="3964320"/>
              <a:ext cx="1440" cy="118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3193200" y="3250080"/>
              <a:ext cx="186840" cy="339840"/>
              <a:chOff x="3193200" y="3250080"/>
              <a:chExt cx="186840" cy="339840"/>
            </a:xfrm>
          </p:grpSpPr>
          <p:grpSp>
            <p:nvGrpSpPr>
              <p:cNvPr id="504" name=""/>
              <p:cNvGrpSpPr/>
              <p:nvPr/>
            </p:nvGrpSpPr>
            <p:grpSpPr>
              <a:xfrm>
                <a:off x="3210120" y="3274920"/>
                <a:ext cx="151920" cy="315000"/>
                <a:chOff x="3210120" y="3274920"/>
                <a:chExt cx="151920" cy="31500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3304080" y="3310560"/>
                  <a:ext cx="56160" cy="27900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3211200" y="3274920"/>
                  <a:ext cx="92520" cy="315000"/>
                </a:xfrm>
                <a:custGeom>
                  <a:avLst/>
                  <a:gdLst/>
                  <a:ahLst/>
                  <a:rect l="l" t="t" r="r" b="b"/>
                  <a:pathLst>
                    <a:path w="1000" h="2800">
                      <a:moveTo>
                        <a:pt x="0" y="2130"/>
                      </a:moveTo>
                      <a:lnTo>
                        <a:pt x="1000" y="2800"/>
                      </a:lnTo>
                      <a:lnTo>
                        <a:pt x="1000" y="336"/>
                      </a:lnTo>
                      <a:lnTo>
                        <a:pt x="841" y="216"/>
                      </a:lnTo>
                      <a:lnTo>
                        <a:pt x="0" y="0"/>
                      </a:lnTo>
                      <a:lnTo>
                        <a:pt x="0" y="213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3302280" y="3310560"/>
                  <a:ext cx="56520" cy="32400"/>
                </a:xfrm>
                <a:custGeom>
                  <a:avLst/>
                  <a:gdLst/>
                  <a:ahLst/>
                  <a:rect l="l" t="t" r="r" b="b"/>
                  <a:pathLst>
                    <a:path w="614" h="283">
                      <a:moveTo>
                        <a:pt x="0" y="0"/>
                      </a:moveTo>
                      <a:lnTo>
                        <a:pt x="614" y="0"/>
                      </a:lnTo>
                      <a:lnTo>
                        <a:pt x="614" y="283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304080" y="3351240"/>
                  <a:ext cx="280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3333600" y="3351240"/>
                  <a:ext cx="284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3318120" y="3333600"/>
                  <a:ext cx="284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3348000" y="3333600"/>
                  <a:ext cx="140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3302280" y="3333600"/>
                  <a:ext cx="140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3304080" y="3314520"/>
                  <a:ext cx="2808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333600" y="3314520"/>
                  <a:ext cx="284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3304080" y="3389400"/>
                  <a:ext cx="266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3333600" y="3389400"/>
                  <a:ext cx="284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318120" y="3370320"/>
                  <a:ext cx="2844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3348000" y="3370320"/>
                  <a:ext cx="140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304080" y="337032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304080" y="3425760"/>
                  <a:ext cx="266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3333600" y="3425760"/>
                  <a:ext cx="284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318120" y="3406680"/>
                  <a:ext cx="284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3348000" y="3406680"/>
                  <a:ext cx="1404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3304080" y="340668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304080" y="3463920"/>
                  <a:ext cx="266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332160" y="3462120"/>
                  <a:ext cx="298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318120" y="3444840"/>
                  <a:ext cx="2844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348000" y="3444840"/>
                  <a:ext cx="140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304080" y="344484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304080" y="350028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333600" y="3498480"/>
                  <a:ext cx="284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318120" y="3481200"/>
                  <a:ext cx="284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3348000" y="3481200"/>
                  <a:ext cx="140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3304080" y="3536640"/>
                  <a:ext cx="2664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3333600" y="3536640"/>
                  <a:ext cx="284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3318120" y="3517560"/>
                  <a:ext cx="28440" cy="1656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3348000" y="3517560"/>
                  <a:ext cx="140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3304080" y="3517560"/>
                  <a:ext cx="122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3304080" y="3573000"/>
                  <a:ext cx="266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333600" y="3573000"/>
                  <a:ext cx="28440" cy="16560"/>
                </a:xfrm>
                <a:prstGeom prst="rect">
                  <a:avLst/>
                </a:pr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3318120" y="3553920"/>
                  <a:ext cx="28440" cy="1656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348000" y="3553920"/>
                  <a:ext cx="140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3304080" y="3553920"/>
                  <a:ext cx="122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3296520" y="3566880"/>
                  <a:ext cx="7560" cy="21240"/>
                </a:xfrm>
                <a:custGeom>
                  <a:avLst/>
                  <a:gdLst/>
                  <a:ahLst/>
                  <a:rect l="l" t="t" r="r" b="b"/>
                  <a:pathLst>
                    <a:path w="83" h="179">
                      <a:moveTo>
                        <a:pt x="83" y="47"/>
                      </a:moveTo>
                      <a:lnTo>
                        <a:pt x="83" y="179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83" y="4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3270960" y="354780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4" h="306">
                      <a:moveTo>
                        <a:pt x="254" y="172"/>
                      </a:moveTo>
                      <a:lnTo>
                        <a:pt x="254" y="30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254" y="172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247560" y="3527280"/>
                  <a:ext cx="21960" cy="34200"/>
                </a:xfrm>
                <a:custGeom>
                  <a:avLst/>
                  <a:gdLst/>
                  <a:ahLst/>
                  <a:rect l="l" t="t" r="r" b="b"/>
                  <a:pathLst>
                    <a:path w="253" h="294">
                      <a:moveTo>
                        <a:pt x="253" y="170"/>
                      </a:moveTo>
                      <a:lnTo>
                        <a:pt x="253" y="294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7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222360" y="350820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89">
                      <a:moveTo>
                        <a:pt x="254" y="166"/>
                      </a:moveTo>
                      <a:lnTo>
                        <a:pt x="254" y="289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4" y="166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3210120" y="3498480"/>
                  <a:ext cx="10800" cy="22680"/>
                </a:xfrm>
                <a:custGeom>
                  <a:avLst/>
                  <a:gdLst/>
                  <a:ahLst/>
                  <a:rect l="l" t="t" r="r" b="b"/>
                  <a:pathLst>
                    <a:path w="125" h="205">
                      <a:moveTo>
                        <a:pt x="125" y="83"/>
                      </a:moveTo>
                      <a:lnTo>
                        <a:pt x="125" y="205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3296520" y="3310560"/>
                  <a:ext cx="7560" cy="19440"/>
                </a:xfrm>
                <a:custGeom>
                  <a:avLst/>
                  <a:gdLst/>
                  <a:ahLst/>
                  <a:rect l="l" t="t" r="r" b="b"/>
                  <a:pathLst>
                    <a:path w="83" h="158">
                      <a:moveTo>
                        <a:pt x="83" y="19"/>
                      </a:moveTo>
                      <a:lnTo>
                        <a:pt x="83" y="15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83" y="1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270960" y="330120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4" h="214">
                      <a:moveTo>
                        <a:pt x="254" y="83"/>
                      </a:moveTo>
                      <a:lnTo>
                        <a:pt x="254" y="214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83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247560" y="3291480"/>
                  <a:ext cx="2196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9">
                      <a:moveTo>
                        <a:pt x="253" y="83"/>
                      </a:moveTo>
                      <a:lnTo>
                        <a:pt x="253" y="209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3222360" y="328212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4" h="206">
                      <a:moveTo>
                        <a:pt x="254" y="83"/>
                      </a:moveTo>
                      <a:lnTo>
                        <a:pt x="252" y="20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4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3210120" y="3276360"/>
                  <a:ext cx="108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59">
                      <a:moveTo>
                        <a:pt x="125" y="36"/>
                      </a:moveTo>
                      <a:lnTo>
                        <a:pt x="125" y="159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125" y="36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3270960" y="333576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30">
                      <a:moveTo>
                        <a:pt x="254" y="96"/>
                      </a:moveTo>
                      <a:lnTo>
                        <a:pt x="254" y="230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3247560" y="3326400"/>
                  <a:ext cx="2196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22">
                      <a:moveTo>
                        <a:pt x="253" y="97"/>
                      </a:moveTo>
                      <a:lnTo>
                        <a:pt x="253" y="222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9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222360" y="331452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4" h="218">
                      <a:moveTo>
                        <a:pt x="254" y="95"/>
                      </a:moveTo>
                      <a:lnTo>
                        <a:pt x="254" y="218"/>
                      </a:lnTo>
                      <a:lnTo>
                        <a:pt x="0" y="121"/>
                      </a:lnTo>
                      <a:lnTo>
                        <a:pt x="0" y="0"/>
                      </a:lnTo>
                      <a:lnTo>
                        <a:pt x="254" y="9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3210120" y="3309120"/>
                  <a:ext cx="108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65">
                      <a:moveTo>
                        <a:pt x="125" y="44"/>
                      </a:moveTo>
                      <a:lnTo>
                        <a:pt x="125" y="165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296520" y="3385440"/>
                  <a:ext cx="7560" cy="19440"/>
                </a:xfrm>
                <a:custGeom>
                  <a:avLst/>
                  <a:gdLst/>
                  <a:ahLst/>
                  <a:rect l="l" t="t" r="r" b="b"/>
                  <a:pathLst>
                    <a:path w="83" h="168">
                      <a:moveTo>
                        <a:pt x="83" y="32"/>
                      </a:moveTo>
                      <a:lnTo>
                        <a:pt x="83" y="168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3270960" y="3372480"/>
                  <a:ext cx="23400" cy="26280"/>
                </a:xfrm>
                <a:custGeom>
                  <a:avLst/>
                  <a:gdLst/>
                  <a:ahLst/>
                  <a:rect l="l" t="t" r="r" b="b"/>
                  <a:pathLst>
                    <a:path w="254" h="241">
                      <a:moveTo>
                        <a:pt x="254" y="107"/>
                      </a:moveTo>
                      <a:lnTo>
                        <a:pt x="254" y="24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10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247560" y="3358800"/>
                  <a:ext cx="21960" cy="26280"/>
                </a:xfrm>
                <a:custGeom>
                  <a:avLst/>
                  <a:gdLst/>
                  <a:ahLst/>
                  <a:rect l="l" t="t" r="r" b="b"/>
                  <a:pathLst>
                    <a:path w="253" h="236">
                      <a:moveTo>
                        <a:pt x="253" y="112"/>
                      </a:moveTo>
                      <a:lnTo>
                        <a:pt x="253" y="23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222360" y="334728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4" h="232">
                      <a:moveTo>
                        <a:pt x="254" y="110"/>
                      </a:moveTo>
                      <a:lnTo>
                        <a:pt x="254" y="23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4" y="110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3210120" y="3339720"/>
                  <a:ext cx="108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73">
                      <a:moveTo>
                        <a:pt x="125" y="50"/>
                      </a:moveTo>
                      <a:lnTo>
                        <a:pt x="125" y="173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125" y="5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296520" y="342180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0" h="173">
                      <a:moveTo>
                        <a:pt x="80" y="41"/>
                      </a:moveTo>
                      <a:lnTo>
                        <a:pt x="80" y="173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80" y="4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270960" y="34066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4" h="250">
                      <a:moveTo>
                        <a:pt x="254" y="117"/>
                      </a:moveTo>
                      <a:lnTo>
                        <a:pt x="254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54" y="11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3247560" y="339300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253" h="245">
                      <a:moveTo>
                        <a:pt x="253" y="121"/>
                      </a:moveTo>
                      <a:lnTo>
                        <a:pt x="253" y="24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3222360" y="33778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4" h="245">
                      <a:moveTo>
                        <a:pt x="254" y="121"/>
                      </a:moveTo>
                      <a:lnTo>
                        <a:pt x="254" y="24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4" y="12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210120" y="3372480"/>
                  <a:ext cx="108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8">
                      <a:moveTo>
                        <a:pt x="125" y="55"/>
                      </a:moveTo>
                      <a:lnTo>
                        <a:pt x="125" y="178"/>
                      </a:lnTo>
                      <a:lnTo>
                        <a:pt x="0" y="114"/>
                      </a:lnTo>
                      <a:lnTo>
                        <a:pt x="0" y="0"/>
                      </a:lnTo>
                      <a:lnTo>
                        <a:pt x="125" y="5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96520" y="345816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3" h="176">
                      <a:moveTo>
                        <a:pt x="83" y="46"/>
                      </a:moveTo>
                      <a:lnTo>
                        <a:pt x="83" y="17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4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270960" y="34408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4" h="260">
                      <a:moveTo>
                        <a:pt x="254" y="128"/>
                      </a:moveTo>
                      <a:lnTo>
                        <a:pt x="254" y="260"/>
                      </a:lnTo>
                      <a:lnTo>
                        <a:pt x="0" y="132"/>
                      </a:lnTo>
                      <a:lnTo>
                        <a:pt x="0" y="0"/>
                      </a:lnTo>
                      <a:lnTo>
                        <a:pt x="254" y="12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3247560" y="3427560"/>
                  <a:ext cx="21960" cy="28800"/>
                </a:xfrm>
                <a:custGeom>
                  <a:avLst/>
                  <a:gdLst/>
                  <a:ahLst/>
                  <a:rect l="l" t="t" r="r" b="b"/>
                  <a:pathLst>
                    <a:path w="253" h="257">
                      <a:moveTo>
                        <a:pt x="253" y="133"/>
                      </a:moveTo>
                      <a:lnTo>
                        <a:pt x="253" y="257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3222360" y="341064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4" h="255">
                      <a:moveTo>
                        <a:pt x="254" y="131"/>
                      </a:moveTo>
                      <a:lnTo>
                        <a:pt x="254" y="25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4" y="13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3210120" y="3402720"/>
                  <a:ext cx="10800" cy="21240"/>
                </a:xfrm>
                <a:custGeom>
                  <a:avLst/>
                  <a:gdLst/>
                  <a:ahLst/>
                  <a:rect l="l" t="t" r="r" b="b"/>
                  <a:pathLst>
                    <a:path w="125" h="183">
                      <a:moveTo>
                        <a:pt x="125" y="61"/>
                      </a:moveTo>
                      <a:lnTo>
                        <a:pt x="125" y="183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61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3296520" y="349452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3" h="168">
                      <a:moveTo>
                        <a:pt x="83" y="36"/>
                      </a:moveTo>
                      <a:lnTo>
                        <a:pt x="83" y="168"/>
                      </a:lnTo>
                      <a:lnTo>
                        <a:pt x="0" y="116"/>
                      </a:lnTo>
                      <a:lnTo>
                        <a:pt x="0" y="0"/>
                      </a:lnTo>
                      <a:lnTo>
                        <a:pt x="83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3270960" y="347724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4" h="277">
                      <a:moveTo>
                        <a:pt x="254" y="144"/>
                      </a:moveTo>
                      <a:lnTo>
                        <a:pt x="254" y="277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3247560" y="345996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253" h="271">
                      <a:moveTo>
                        <a:pt x="253" y="144"/>
                      </a:moveTo>
                      <a:lnTo>
                        <a:pt x="253" y="271"/>
                      </a:lnTo>
                      <a:lnTo>
                        <a:pt x="0" y="123"/>
                      </a:lnTo>
                      <a:lnTo>
                        <a:pt x="0" y="0"/>
                      </a:lnTo>
                      <a:lnTo>
                        <a:pt x="253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3222360" y="344304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7" h="271">
                      <a:moveTo>
                        <a:pt x="257" y="149"/>
                      </a:moveTo>
                      <a:lnTo>
                        <a:pt x="257" y="271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7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3210120" y="3435120"/>
                  <a:ext cx="10800" cy="21240"/>
                </a:xfrm>
                <a:custGeom>
                  <a:avLst/>
                  <a:gdLst/>
                  <a:ahLst/>
                  <a:rect l="l" t="t" r="r" b="b"/>
                  <a:pathLst>
                    <a:path w="125" h="187">
                      <a:moveTo>
                        <a:pt x="125" y="64"/>
                      </a:moveTo>
                      <a:lnTo>
                        <a:pt x="125" y="187"/>
                      </a:lnTo>
                      <a:lnTo>
                        <a:pt x="0" y="113"/>
                      </a:lnTo>
                      <a:lnTo>
                        <a:pt x="0" y="0"/>
                      </a:lnTo>
                      <a:lnTo>
                        <a:pt x="125" y="6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3296520" y="3530880"/>
                  <a:ext cx="7560" cy="20520"/>
                </a:xfrm>
                <a:custGeom>
                  <a:avLst/>
                  <a:gdLst/>
                  <a:ahLst/>
                  <a:rect l="l" t="t" r="r" b="b"/>
                  <a:pathLst>
                    <a:path w="80" h="193">
                      <a:moveTo>
                        <a:pt x="80" y="52"/>
                      </a:moveTo>
                      <a:lnTo>
                        <a:pt x="80" y="193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80" y="5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3270960" y="35114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89">
                      <a:moveTo>
                        <a:pt x="254" y="155"/>
                      </a:moveTo>
                      <a:lnTo>
                        <a:pt x="254" y="289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5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3247560" y="3494520"/>
                  <a:ext cx="2196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83">
                      <a:moveTo>
                        <a:pt x="253" y="158"/>
                      </a:moveTo>
                      <a:lnTo>
                        <a:pt x="253" y="283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222360" y="34754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76">
                      <a:moveTo>
                        <a:pt x="254" y="153"/>
                      </a:moveTo>
                      <a:lnTo>
                        <a:pt x="254" y="27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4" y="153"/>
                      </a:lnTo>
                      <a:close/>
                    </a:path>
                  </a:pathLst>
                </a:custGeom>
                <a:solidFill>
                  <a:srgbClr val="2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3210120" y="3467880"/>
                  <a:ext cx="10800" cy="21240"/>
                </a:xfrm>
                <a:custGeom>
                  <a:avLst/>
                  <a:gdLst/>
                  <a:ahLst/>
                  <a:rect l="l" t="t" r="r" b="b"/>
                  <a:pathLst>
                    <a:path w="125" h="194">
                      <a:moveTo>
                        <a:pt x="125" y="71"/>
                      </a:moveTo>
                      <a:lnTo>
                        <a:pt x="125" y="194"/>
                      </a:lnTo>
                      <a:lnTo>
                        <a:pt x="0" y="108"/>
                      </a:lnTo>
                      <a:lnTo>
                        <a:pt x="0" y="0"/>
                      </a:lnTo>
                      <a:lnTo>
                        <a:pt x="125" y="7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210120" y="3483000"/>
                  <a:ext cx="18720" cy="26640"/>
                </a:xfrm>
                <a:custGeom>
                  <a:avLst/>
                  <a:gdLst/>
                  <a:ahLst/>
                  <a:rect l="l" t="t" r="r" b="b"/>
                  <a:pathLst>
                    <a:path w="208" h="242">
                      <a:moveTo>
                        <a:pt x="208" y="132"/>
                      </a:moveTo>
                      <a:lnTo>
                        <a:pt x="208" y="24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8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277440" y="3534480"/>
                  <a:ext cx="26640" cy="34560"/>
                </a:xfrm>
                <a:custGeom>
                  <a:avLst/>
                  <a:gdLst/>
                  <a:ahLst/>
                  <a:rect l="l" t="t" r="r" b="b"/>
                  <a:pathLst>
                    <a:path w="285" h="313">
                      <a:moveTo>
                        <a:pt x="285" y="186"/>
                      </a:moveTo>
                      <a:lnTo>
                        <a:pt x="285" y="313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285" y="18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255480" y="3517560"/>
                  <a:ext cx="20160" cy="30240"/>
                </a:xfrm>
                <a:custGeom>
                  <a:avLst/>
                  <a:gdLst/>
                  <a:ahLst/>
                  <a:rect l="l" t="t" r="r" b="b"/>
                  <a:pathLst>
                    <a:path w="236" h="279">
                      <a:moveTo>
                        <a:pt x="236" y="148"/>
                      </a:moveTo>
                      <a:lnTo>
                        <a:pt x="236" y="279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4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30280" y="349848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48" h="275">
                      <a:moveTo>
                        <a:pt x="248" y="152"/>
                      </a:moveTo>
                      <a:lnTo>
                        <a:pt x="248" y="275"/>
                      </a:lnTo>
                      <a:lnTo>
                        <a:pt x="0" y="113"/>
                      </a:lnTo>
                      <a:lnTo>
                        <a:pt x="0" y="0"/>
                      </a:lnTo>
                      <a:lnTo>
                        <a:pt x="248" y="15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210120" y="3294000"/>
                  <a:ext cx="20160" cy="20520"/>
                </a:xfrm>
                <a:custGeom>
                  <a:avLst/>
                  <a:gdLst/>
                  <a:ahLst/>
                  <a:rect l="l" t="t" r="r" b="b"/>
                  <a:pathLst>
                    <a:path w="219" h="196">
                      <a:moveTo>
                        <a:pt x="219" y="77"/>
                      </a:moveTo>
                      <a:lnTo>
                        <a:pt x="219" y="196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19" y="7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3255480" y="3313080"/>
                  <a:ext cx="21960" cy="22680"/>
                </a:xfrm>
                <a:custGeom>
                  <a:avLst/>
                  <a:gdLst/>
                  <a:ahLst/>
                  <a:rect l="l" t="t" r="r" b="b"/>
                  <a:pathLst>
                    <a:path w="238" h="219">
                      <a:moveTo>
                        <a:pt x="238" y="85"/>
                      </a:moveTo>
                      <a:lnTo>
                        <a:pt x="238" y="219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238" y="8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3232080" y="3301200"/>
                  <a:ext cx="21600" cy="24840"/>
                </a:xfrm>
                <a:custGeom>
                  <a:avLst/>
                  <a:gdLst/>
                  <a:ahLst/>
                  <a:rect l="l" t="t" r="r" b="b"/>
                  <a:pathLst>
                    <a:path w="250" h="212">
                      <a:moveTo>
                        <a:pt x="250" y="89"/>
                      </a:moveTo>
                      <a:lnTo>
                        <a:pt x="250" y="21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0" y="8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3210120" y="3324240"/>
                  <a:ext cx="20160" cy="22680"/>
                </a:xfrm>
                <a:custGeom>
                  <a:avLst/>
                  <a:gdLst/>
                  <a:ahLst/>
                  <a:rect l="l" t="t" r="r" b="b"/>
                  <a:pathLst>
                    <a:path w="219" h="208">
                      <a:moveTo>
                        <a:pt x="219" y="91"/>
                      </a:moveTo>
                      <a:lnTo>
                        <a:pt x="219" y="20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19" y="9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3278880" y="3358800"/>
                  <a:ext cx="25200" cy="26280"/>
                </a:xfrm>
                <a:custGeom>
                  <a:avLst/>
                  <a:gdLst/>
                  <a:ahLst/>
                  <a:rect l="l" t="t" r="r" b="b"/>
                  <a:pathLst>
                    <a:path w="279" h="248">
                      <a:moveTo>
                        <a:pt x="279" y="113"/>
                      </a:moveTo>
                      <a:lnTo>
                        <a:pt x="279" y="248"/>
                      </a:lnTo>
                      <a:lnTo>
                        <a:pt x="1" y="132"/>
                      </a:lnTo>
                      <a:lnTo>
                        <a:pt x="0" y="0"/>
                      </a:lnTo>
                      <a:lnTo>
                        <a:pt x="279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3255480" y="3347280"/>
                  <a:ext cx="21960" cy="24840"/>
                </a:xfrm>
                <a:custGeom>
                  <a:avLst/>
                  <a:gdLst/>
                  <a:ahLst/>
                  <a:rect l="l" t="t" r="r" b="b"/>
                  <a:pathLst>
                    <a:path w="238" h="225">
                      <a:moveTo>
                        <a:pt x="238" y="92"/>
                      </a:moveTo>
                      <a:lnTo>
                        <a:pt x="238" y="225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8" y="9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3232080" y="3335760"/>
                  <a:ext cx="21600" cy="24480"/>
                </a:xfrm>
                <a:custGeom>
                  <a:avLst/>
                  <a:gdLst/>
                  <a:ahLst/>
                  <a:rect l="l" t="t" r="r" b="b"/>
                  <a:pathLst>
                    <a:path w="250" h="224">
                      <a:moveTo>
                        <a:pt x="250" y="101"/>
                      </a:moveTo>
                      <a:lnTo>
                        <a:pt x="250" y="224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50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210120" y="3356640"/>
                  <a:ext cx="20160" cy="22680"/>
                </a:xfrm>
                <a:custGeom>
                  <a:avLst/>
                  <a:gdLst/>
                  <a:ahLst/>
                  <a:rect l="l" t="t" r="r" b="b"/>
                  <a:pathLst>
                    <a:path w="219" h="218">
                      <a:moveTo>
                        <a:pt x="219" y="101"/>
                      </a:moveTo>
                      <a:lnTo>
                        <a:pt x="219" y="218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19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255480" y="3381840"/>
                  <a:ext cx="21960" cy="24480"/>
                </a:xfrm>
                <a:custGeom>
                  <a:avLst/>
                  <a:gdLst/>
                  <a:ahLst/>
                  <a:rect l="l" t="t" r="r" b="b"/>
                  <a:pathLst>
                    <a:path w="238" h="237">
                      <a:moveTo>
                        <a:pt x="238" y="101"/>
                      </a:moveTo>
                      <a:lnTo>
                        <a:pt x="238" y="237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8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3232080" y="3368520"/>
                  <a:ext cx="21600" cy="26280"/>
                </a:xfrm>
                <a:custGeom>
                  <a:avLst/>
                  <a:gdLst/>
                  <a:ahLst/>
                  <a:rect l="l" t="t" r="r" b="b"/>
                  <a:pathLst>
                    <a:path w="250" h="235">
                      <a:moveTo>
                        <a:pt x="250" y="111"/>
                      </a:moveTo>
                      <a:lnTo>
                        <a:pt x="250" y="235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0" y="11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210120" y="3387600"/>
                  <a:ext cx="18720" cy="24480"/>
                </a:xfrm>
                <a:custGeom>
                  <a:avLst/>
                  <a:gdLst/>
                  <a:ahLst/>
                  <a:rect l="l" t="t" r="r" b="b"/>
                  <a:pathLst>
                    <a:path w="208" h="222">
                      <a:moveTo>
                        <a:pt x="208" y="103"/>
                      </a:moveTo>
                      <a:lnTo>
                        <a:pt x="208" y="22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8" y="10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3277440" y="3427560"/>
                  <a:ext cx="26640" cy="30600"/>
                </a:xfrm>
                <a:custGeom>
                  <a:avLst/>
                  <a:gdLst/>
                  <a:ahLst/>
                  <a:rect l="l" t="t" r="r" b="b"/>
                  <a:pathLst>
                    <a:path w="288" h="277">
                      <a:moveTo>
                        <a:pt x="288" y="140"/>
                      </a:moveTo>
                      <a:lnTo>
                        <a:pt x="288" y="277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288" y="140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3255480" y="3414240"/>
                  <a:ext cx="20160" cy="28440"/>
                </a:xfrm>
                <a:custGeom>
                  <a:avLst/>
                  <a:gdLst/>
                  <a:ahLst/>
                  <a:rect l="l" t="t" r="r" b="b"/>
                  <a:pathLst>
                    <a:path w="236" h="251">
                      <a:moveTo>
                        <a:pt x="236" y="114"/>
                      </a:moveTo>
                      <a:lnTo>
                        <a:pt x="236" y="25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6" y="11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230280" y="3400920"/>
                  <a:ext cx="23400" cy="26280"/>
                </a:xfrm>
                <a:custGeom>
                  <a:avLst/>
                  <a:gdLst/>
                  <a:ahLst/>
                  <a:rect l="l" t="t" r="r" b="b"/>
                  <a:pathLst>
                    <a:path w="248" h="245">
                      <a:moveTo>
                        <a:pt x="248" y="122"/>
                      </a:moveTo>
                      <a:lnTo>
                        <a:pt x="248" y="245"/>
                      </a:lnTo>
                      <a:lnTo>
                        <a:pt x="0" y="126"/>
                      </a:lnTo>
                      <a:lnTo>
                        <a:pt x="0" y="0"/>
                      </a:lnTo>
                      <a:lnTo>
                        <a:pt x="248" y="12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3210120" y="3420000"/>
                  <a:ext cx="18720" cy="24480"/>
                </a:xfrm>
                <a:custGeom>
                  <a:avLst/>
                  <a:gdLst/>
                  <a:ahLst/>
                  <a:rect l="l" t="t" r="r" b="b"/>
                  <a:pathLst>
                    <a:path w="208" h="228">
                      <a:moveTo>
                        <a:pt x="208" y="108"/>
                      </a:moveTo>
                      <a:lnTo>
                        <a:pt x="208" y="228"/>
                      </a:lnTo>
                      <a:lnTo>
                        <a:pt x="0" y="116"/>
                      </a:lnTo>
                      <a:lnTo>
                        <a:pt x="0" y="0"/>
                      </a:lnTo>
                      <a:lnTo>
                        <a:pt x="208" y="10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3277440" y="3463920"/>
                  <a:ext cx="26640" cy="30600"/>
                </a:xfrm>
                <a:custGeom>
                  <a:avLst/>
                  <a:gdLst/>
                  <a:ahLst/>
                  <a:rect l="l" t="t" r="r" b="b"/>
                  <a:pathLst>
                    <a:path w="288" h="286">
                      <a:moveTo>
                        <a:pt x="288" y="158"/>
                      </a:moveTo>
                      <a:lnTo>
                        <a:pt x="288" y="286"/>
                      </a:lnTo>
                      <a:lnTo>
                        <a:pt x="0" y="134"/>
                      </a:lnTo>
                      <a:lnTo>
                        <a:pt x="0" y="0"/>
                      </a:lnTo>
                      <a:lnTo>
                        <a:pt x="288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255480" y="3448800"/>
                  <a:ext cx="20160" cy="28440"/>
                </a:xfrm>
                <a:custGeom>
                  <a:avLst/>
                  <a:gdLst/>
                  <a:ahLst/>
                  <a:rect l="l" t="t" r="r" b="b"/>
                  <a:pathLst>
                    <a:path w="236" h="263">
                      <a:moveTo>
                        <a:pt x="236" y="129"/>
                      </a:moveTo>
                      <a:lnTo>
                        <a:pt x="236" y="263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6" y="129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230280" y="34333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60">
                      <a:moveTo>
                        <a:pt x="248" y="134"/>
                      </a:moveTo>
                      <a:lnTo>
                        <a:pt x="248" y="260"/>
                      </a:lnTo>
                      <a:lnTo>
                        <a:pt x="0" y="123"/>
                      </a:lnTo>
                      <a:lnTo>
                        <a:pt x="0" y="0"/>
                      </a:lnTo>
                      <a:lnTo>
                        <a:pt x="248" y="13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3210120" y="3450240"/>
                  <a:ext cx="18720" cy="28800"/>
                </a:xfrm>
                <a:custGeom>
                  <a:avLst/>
                  <a:gdLst/>
                  <a:ahLst/>
                  <a:rect l="l" t="t" r="r" b="b"/>
                  <a:pathLst>
                    <a:path w="208" h="251">
                      <a:moveTo>
                        <a:pt x="208" y="133"/>
                      </a:moveTo>
                      <a:lnTo>
                        <a:pt x="208" y="251"/>
                      </a:lnTo>
                      <a:lnTo>
                        <a:pt x="0" y="127"/>
                      </a:lnTo>
                      <a:lnTo>
                        <a:pt x="0" y="0"/>
                      </a:lnTo>
                      <a:lnTo>
                        <a:pt x="208" y="13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3277440" y="3498480"/>
                  <a:ext cx="26640" cy="34200"/>
                </a:xfrm>
                <a:custGeom>
                  <a:avLst/>
                  <a:gdLst/>
                  <a:ahLst/>
                  <a:rect l="l" t="t" r="r" b="b"/>
                  <a:pathLst>
                    <a:path w="288" h="305">
                      <a:moveTo>
                        <a:pt x="288" y="169"/>
                      </a:moveTo>
                      <a:lnTo>
                        <a:pt x="288" y="305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88" y="16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3255480" y="3483000"/>
                  <a:ext cx="20160" cy="30600"/>
                </a:xfrm>
                <a:custGeom>
                  <a:avLst/>
                  <a:gdLst/>
                  <a:ahLst/>
                  <a:rect l="l" t="t" r="r" b="b"/>
                  <a:pathLst>
                    <a:path w="236" h="271">
                      <a:moveTo>
                        <a:pt x="236" y="136"/>
                      </a:moveTo>
                      <a:lnTo>
                        <a:pt x="236" y="27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6" y="136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3230280" y="346608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48" h="271">
                      <a:moveTo>
                        <a:pt x="248" y="149"/>
                      </a:moveTo>
                      <a:lnTo>
                        <a:pt x="248" y="271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3278880" y="3322440"/>
                  <a:ext cx="25200" cy="26640"/>
                </a:xfrm>
                <a:custGeom>
                  <a:avLst/>
                  <a:gdLst/>
                  <a:ahLst/>
                  <a:rect l="l" t="t" r="r" b="b"/>
                  <a:pathLst>
                    <a:path w="275" h="236">
                      <a:moveTo>
                        <a:pt x="275" y="96"/>
                      </a:moveTo>
                      <a:lnTo>
                        <a:pt x="275" y="23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75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3296520" y="334728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6" h="169">
                      <a:moveTo>
                        <a:pt x="86" y="36"/>
                      </a:moveTo>
                      <a:lnTo>
                        <a:pt x="86" y="169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86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3278880" y="339300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5" h="258">
                      <a:moveTo>
                        <a:pt x="275" y="119"/>
                      </a:moveTo>
                      <a:lnTo>
                        <a:pt x="275" y="258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75" y="11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3304080" y="3481200"/>
                  <a:ext cx="1224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3" name=""/>
              <p:cNvGrpSpPr/>
              <p:nvPr/>
            </p:nvGrpSpPr>
            <p:grpSpPr>
              <a:xfrm>
                <a:off x="3193200" y="3250080"/>
                <a:ext cx="186840" cy="64440"/>
                <a:chOff x="3193200" y="3250080"/>
                <a:chExt cx="186840" cy="6444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3193200" y="3250080"/>
                  <a:ext cx="186840" cy="38160"/>
                </a:xfrm>
                <a:custGeom>
                  <a:avLst/>
                  <a:gdLst/>
                  <a:ahLst/>
                  <a:rect l="l" t="t" r="r" b="b"/>
                  <a:pathLst>
                    <a:path w="2020" h="340">
                      <a:moveTo>
                        <a:pt x="0" y="0"/>
                      </a:moveTo>
                      <a:lnTo>
                        <a:pt x="869" y="25"/>
                      </a:lnTo>
                      <a:lnTo>
                        <a:pt x="2020" y="326"/>
                      </a:lnTo>
                      <a:lnTo>
                        <a:pt x="1220" y="3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3307320" y="3286080"/>
                  <a:ext cx="72360" cy="28440"/>
                </a:xfrm>
                <a:custGeom>
                  <a:avLst/>
                  <a:gdLst/>
                  <a:ahLst/>
                  <a:rect l="l" t="t" r="r" b="b"/>
                  <a:pathLst>
                    <a:path w="785" h="257">
                      <a:moveTo>
                        <a:pt x="8" y="1"/>
                      </a:moveTo>
                      <a:lnTo>
                        <a:pt x="785" y="0"/>
                      </a:lnTo>
                      <a:lnTo>
                        <a:pt x="785" y="257"/>
                      </a:lnTo>
                      <a:lnTo>
                        <a:pt x="0" y="257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3194280" y="3251880"/>
                  <a:ext cx="114480" cy="62280"/>
                </a:xfrm>
                <a:custGeom>
                  <a:avLst/>
                  <a:gdLst/>
                  <a:ahLst/>
                  <a:rect l="l" t="t" r="r" b="b"/>
                  <a:pathLst>
                    <a:path w="1248" h="574">
                      <a:moveTo>
                        <a:pt x="0" y="0"/>
                      </a:moveTo>
                      <a:lnTo>
                        <a:pt x="0" y="193"/>
                      </a:lnTo>
                      <a:lnTo>
                        <a:pt x="1248" y="574"/>
                      </a:lnTo>
                      <a:lnTo>
                        <a:pt x="1248" y="3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7" name=""/>
            <p:cNvGrpSpPr/>
            <p:nvPr/>
          </p:nvGrpSpPr>
          <p:grpSpPr>
            <a:xfrm>
              <a:off x="5605200" y="3709440"/>
              <a:ext cx="185040" cy="340200"/>
              <a:chOff x="5605200" y="3709440"/>
              <a:chExt cx="185040" cy="340200"/>
            </a:xfrm>
          </p:grpSpPr>
          <p:grpSp>
            <p:nvGrpSpPr>
              <p:cNvPr id="618" name=""/>
              <p:cNvGrpSpPr/>
              <p:nvPr/>
            </p:nvGrpSpPr>
            <p:grpSpPr>
              <a:xfrm>
                <a:off x="5620680" y="3733920"/>
                <a:ext cx="153360" cy="315720"/>
                <a:chOff x="5620680" y="3733920"/>
                <a:chExt cx="153360" cy="31572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5714640" y="3770280"/>
                  <a:ext cx="57600" cy="2793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5623560" y="3733920"/>
                  <a:ext cx="90720" cy="315720"/>
                </a:xfrm>
                <a:custGeom>
                  <a:avLst/>
                  <a:gdLst/>
                  <a:ahLst/>
                  <a:rect l="l" t="t" r="r" b="b"/>
                  <a:pathLst>
                    <a:path w="1000" h="2801">
                      <a:moveTo>
                        <a:pt x="0" y="2130"/>
                      </a:moveTo>
                      <a:lnTo>
                        <a:pt x="1000" y="2801"/>
                      </a:lnTo>
                      <a:lnTo>
                        <a:pt x="1000" y="336"/>
                      </a:lnTo>
                      <a:lnTo>
                        <a:pt x="841" y="216"/>
                      </a:lnTo>
                      <a:lnTo>
                        <a:pt x="0" y="0"/>
                      </a:lnTo>
                      <a:lnTo>
                        <a:pt x="0" y="213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714640" y="3770280"/>
                  <a:ext cx="56160" cy="32400"/>
                </a:xfrm>
                <a:custGeom>
                  <a:avLst/>
                  <a:gdLst/>
                  <a:ahLst/>
                  <a:rect l="l" t="t" r="r" b="b"/>
                  <a:pathLst>
                    <a:path w="614" h="283">
                      <a:moveTo>
                        <a:pt x="0" y="0"/>
                      </a:moveTo>
                      <a:lnTo>
                        <a:pt x="614" y="0"/>
                      </a:lnTo>
                      <a:lnTo>
                        <a:pt x="614" y="283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5714640" y="3810600"/>
                  <a:ext cx="2772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744520" y="3810600"/>
                  <a:ext cx="2952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730120" y="3793320"/>
                  <a:ext cx="2772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758200" y="379116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5713200" y="3791160"/>
                  <a:ext cx="154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5714640" y="377208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745960" y="377424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5714640" y="384876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5744520" y="384876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728680" y="3829680"/>
                  <a:ext cx="2916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5758200" y="3829680"/>
                  <a:ext cx="158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5714640" y="382968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5714640" y="388512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744520" y="388512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5728680" y="3865680"/>
                  <a:ext cx="2916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5758200" y="3865680"/>
                  <a:ext cx="158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5714640" y="3865680"/>
                  <a:ext cx="122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714640" y="392112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744520" y="392112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5728680" y="3904200"/>
                  <a:ext cx="2772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5758200" y="3902040"/>
                  <a:ext cx="140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5714640" y="390204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5714640" y="396000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5744520" y="3957840"/>
                  <a:ext cx="295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730120" y="3940200"/>
                  <a:ext cx="2772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5758200" y="3940200"/>
                  <a:ext cx="158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5714640" y="3996000"/>
                  <a:ext cx="2772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744520" y="399600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5728680" y="3976920"/>
                  <a:ext cx="2916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5758200" y="397692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5714640" y="397692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714640" y="403236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744520" y="4032360"/>
                  <a:ext cx="27720" cy="17280"/>
                </a:xfrm>
                <a:prstGeom prst="rect">
                  <a:avLst/>
                </a:pr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5728680" y="4013280"/>
                  <a:ext cx="2916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5758200" y="401328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5714640" y="401328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5708160" y="4026600"/>
                  <a:ext cx="6120" cy="20520"/>
                </a:xfrm>
                <a:custGeom>
                  <a:avLst/>
                  <a:gdLst/>
                  <a:ahLst/>
                  <a:rect l="l" t="t" r="r" b="b"/>
                  <a:pathLst>
                    <a:path w="83" h="179">
                      <a:moveTo>
                        <a:pt x="83" y="47"/>
                      </a:moveTo>
                      <a:lnTo>
                        <a:pt x="83" y="179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83" y="4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5683320" y="400536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4" h="306">
                      <a:moveTo>
                        <a:pt x="254" y="173"/>
                      </a:moveTo>
                      <a:lnTo>
                        <a:pt x="254" y="30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254" y="173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5658120" y="398628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3" h="294">
                      <a:moveTo>
                        <a:pt x="253" y="170"/>
                      </a:moveTo>
                      <a:lnTo>
                        <a:pt x="253" y="294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7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5633280" y="396720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88">
                      <a:moveTo>
                        <a:pt x="253" y="165"/>
                      </a:moveTo>
                      <a:lnTo>
                        <a:pt x="253" y="288"/>
                      </a:lnTo>
                      <a:lnTo>
                        <a:pt x="0" y="121"/>
                      </a:lnTo>
                      <a:lnTo>
                        <a:pt x="0" y="0"/>
                      </a:lnTo>
                      <a:lnTo>
                        <a:pt x="253" y="165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5620680" y="3957840"/>
                  <a:ext cx="12600" cy="22680"/>
                </a:xfrm>
                <a:custGeom>
                  <a:avLst/>
                  <a:gdLst/>
                  <a:ahLst/>
                  <a:rect l="l" t="t" r="r" b="b"/>
                  <a:pathLst>
                    <a:path w="125" h="205">
                      <a:moveTo>
                        <a:pt x="125" y="83"/>
                      </a:moveTo>
                      <a:lnTo>
                        <a:pt x="125" y="205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5708160" y="377028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58">
                      <a:moveTo>
                        <a:pt x="83" y="20"/>
                      </a:moveTo>
                      <a:lnTo>
                        <a:pt x="83" y="15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83" y="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5683320" y="376056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4" h="214">
                      <a:moveTo>
                        <a:pt x="254" y="83"/>
                      </a:moveTo>
                      <a:lnTo>
                        <a:pt x="254" y="214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83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5658120" y="375120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9">
                      <a:moveTo>
                        <a:pt x="253" y="83"/>
                      </a:moveTo>
                      <a:lnTo>
                        <a:pt x="253" y="209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5633280" y="374148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6">
                      <a:moveTo>
                        <a:pt x="253" y="83"/>
                      </a:moveTo>
                      <a:lnTo>
                        <a:pt x="252" y="20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5620680" y="373608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59">
                      <a:moveTo>
                        <a:pt x="125" y="36"/>
                      </a:moveTo>
                      <a:lnTo>
                        <a:pt x="125" y="159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125" y="36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5683320" y="379512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30">
                      <a:moveTo>
                        <a:pt x="254" y="96"/>
                      </a:moveTo>
                      <a:lnTo>
                        <a:pt x="254" y="230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658120" y="378540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3" h="222">
                      <a:moveTo>
                        <a:pt x="253" y="97"/>
                      </a:moveTo>
                      <a:lnTo>
                        <a:pt x="253" y="222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9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5633280" y="377424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18">
                      <a:moveTo>
                        <a:pt x="253" y="95"/>
                      </a:moveTo>
                      <a:lnTo>
                        <a:pt x="253" y="218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9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620680" y="376848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65">
                      <a:moveTo>
                        <a:pt x="125" y="45"/>
                      </a:moveTo>
                      <a:lnTo>
                        <a:pt x="125" y="165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125" y="4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5708160" y="384480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69">
                      <a:moveTo>
                        <a:pt x="83" y="32"/>
                      </a:moveTo>
                      <a:lnTo>
                        <a:pt x="83" y="169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683320" y="383148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41">
                      <a:moveTo>
                        <a:pt x="254" y="107"/>
                      </a:moveTo>
                      <a:lnTo>
                        <a:pt x="254" y="241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0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5658120" y="381780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3" h="236">
                      <a:moveTo>
                        <a:pt x="253" y="112"/>
                      </a:moveTo>
                      <a:lnTo>
                        <a:pt x="253" y="23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5633280" y="380664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32">
                      <a:moveTo>
                        <a:pt x="253" y="110"/>
                      </a:moveTo>
                      <a:lnTo>
                        <a:pt x="253" y="23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0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5620680" y="37987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2">
                      <a:moveTo>
                        <a:pt x="125" y="49"/>
                      </a:moveTo>
                      <a:lnTo>
                        <a:pt x="125" y="172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708160" y="387900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74">
                      <a:moveTo>
                        <a:pt x="79" y="41"/>
                      </a:moveTo>
                      <a:lnTo>
                        <a:pt x="79" y="174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79" y="4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683320" y="3865680"/>
                  <a:ext cx="23400" cy="28800"/>
                </a:xfrm>
                <a:custGeom>
                  <a:avLst/>
                  <a:gdLst/>
                  <a:ahLst/>
                  <a:rect l="l" t="t" r="r" b="b"/>
                  <a:pathLst>
                    <a:path w="254" h="250">
                      <a:moveTo>
                        <a:pt x="254" y="118"/>
                      </a:moveTo>
                      <a:lnTo>
                        <a:pt x="254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54" y="11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5658120" y="3852720"/>
                  <a:ext cx="23400" cy="26280"/>
                </a:xfrm>
                <a:custGeom>
                  <a:avLst/>
                  <a:gdLst/>
                  <a:ahLst/>
                  <a:rect l="l" t="t" r="r" b="b"/>
                  <a:pathLst>
                    <a:path w="253" h="245">
                      <a:moveTo>
                        <a:pt x="253" y="121"/>
                      </a:moveTo>
                      <a:lnTo>
                        <a:pt x="253" y="24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5633280" y="38368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46">
                      <a:moveTo>
                        <a:pt x="253" y="122"/>
                      </a:moveTo>
                      <a:lnTo>
                        <a:pt x="253" y="24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620680" y="383148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8">
                      <a:moveTo>
                        <a:pt x="125" y="55"/>
                      </a:moveTo>
                      <a:lnTo>
                        <a:pt x="125" y="178"/>
                      </a:lnTo>
                      <a:lnTo>
                        <a:pt x="0" y="114"/>
                      </a:lnTo>
                      <a:lnTo>
                        <a:pt x="0" y="0"/>
                      </a:lnTo>
                      <a:lnTo>
                        <a:pt x="125" y="5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708160" y="3917520"/>
                  <a:ext cx="6120" cy="19440"/>
                </a:xfrm>
                <a:custGeom>
                  <a:avLst/>
                  <a:gdLst/>
                  <a:ahLst/>
                  <a:rect l="l" t="t" r="r" b="b"/>
                  <a:pathLst>
                    <a:path w="83" h="176">
                      <a:moveTo>
                        <a:pt x="83" y="46"/>
                      </a:moveTo>
                      <a:lnTo>
                        <a:pt x="83" y="17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4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5683320" y="390060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60">
                      <a:moveTo>
                        <a:pt x="254" y="129"/>
                      </a:moveTo>
                      <a:lnTo>
                        <a:pt x="254" y="260"/>
                      </a:lnTo>
                      <a:lnTo>
                        <a:pt x="0" y="132"/>
                      </a:lnTo>
                      <a:lnTo>
                        <a:pt x="0" y="0"/>
                      </a:lnTo>
                      <a:lnTo>
                        <a:pt x="254" y="12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658120" y="388512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57">
                      <a:moveTo>
                        <a:pt x="253" y="133"/>
                      </a:moveTo>
                      <a:lnTo>
                        <a:pt x="253" y="257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5633280" y="386964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55">
                      <a:moveTo>
                        <a:pt x="253" y="131"/>
                      </a:moveTo>
                      <a:lnTo>
                        <a:pt x="253" y="25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5620680" y="386208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3">
                      <a:moveTo>
                        <a:pt x="125" y="62"/>
                      </a:moveTo>
                      <a:lnTo>
                        <a:pt x="125" y="183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6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5706720" y="395388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2" h="168">
                      <a:moveTo>
                        <a:pt x="82" y="36"/>
                      </a:moveTo>
                      <a:lnTo>
                        <a:pt x="82" y="16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82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5683320" y="393696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78">
                      <a:moveTo>
                        <a:pt x="254" y="144"/>
                      </a:moveTo>
                      <a:lnTo>
                        <a:pt x="254" y="278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658120" y="391968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70">
                      <a:moveTo>
                        <a:pt x="253" y="144"/>
                      </a:moveTo>
                      <a:lnTo>
                        <a:pt x="253" y="270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633280" y="390204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6" h="271">
                      <a:moveTo>
                        <a:pt x="256" y="149"/>
                      </a:moveTo>
                      <a:lnTo>
                        <a:pt x="256" y="271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6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5620680" y="389484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7">
                      <a:moveTo>
                        <a:pt x="125" y="65"/>
                      </a:moveTo>
                      <a:lnTo>
                        <a:pt x="125" y="187"/>
                      </a:lnTo>
                      <a:lnTo>
                        <a:pt x="0" y="113"/>
                      </a:lnTo>
                      <a:lnTo>
                        <a:pt x="0" y="0"/>
                      </a:lnTo>
                      <a:lnTo>
                        <a:pt x="125" y="6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708160" y="399024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92">
                      <a:moveTo>
                        <a:pt x="79" y="52"/>
                      </a:moveTo>
                      <a:lnTo>
                        <a:pt x="79" y="192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79" y="5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683320" y="397116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89">
                      <a:moveTo>
                        <a:pt x="254" y="155"/>
                      </a:moveTo>
                      <a:lnTo>
                        <a:pt x="254" y="289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5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658120" y="39538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3" h="283">
                      <a:moveTo>
                        <a:pt x="253" y="158"/>
                      </a:moveTo>
                      <a:lnTo>
                        <a:pt x="253" y="283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633280" y="393480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76">
                      <a:moveTo>
                        <a:pt x="253" y="153"/>
                      </a:moveTo>
                      <a:lnTo>
                        <a:pt x="253" y="27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53"/>
                      </a:lnTo>
                      <a:close/>
                    </a:path>
                  </a:pathLst>
                </a:custGeom>
                <a:solidFill>
                  <a:srgbClr val="2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620680" y="392724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94">
                      <a:moveTo>
                        <a:pt x="125" y="71"/>
                      </a:moveTo>
                      <a:lnTo>
                        <a:pt x="125" y="194"/>
                      </a:lnTo>
                      <a:lnTo>
                        <a:pt x="0" y="108"/>
                      </a:lnTo>
                      <a:lnTo>
                        <a:pt x="0" y="0"/>
                      </a:lnTo>
                      <a:lnTo>
                        <a:pt x="125" y="7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620680" y="3942360"/>
                  <a:ext cx="20520" cy="26640"/>
                </a:xfrm>
                <a:custGeom>
                  <a:avLst/>
                  <a:gdLst/>
                  <a:ahLst/>
                  <a:rect l="l" t="t" r="r" b="b"/>
                  <a:pathLst>
                    <a:path w="209" h="242">
                      <a:moveTo>
                        <a:pt x="209" y="132"/>
                      </a:moveTo>
                      <a:lnTo>
                        <a:pt x="209" y="24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689440" y="399420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4" h="313">
                      <a:moveTo>
                        <a:pt x="284" y="186"/>
                      </a:moveTo>
                      <a:lnTo>
                        <a:pt x="284" y="313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284" y="18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666040" y="397692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236" h="279">
                      <a:moveTo>
                        <a:pt x="236" y="148"/>
                      </a:moveTo>
                      <a:lnTo>
                        <a:pt x="236" y="279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4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641200" y="395784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4">
                      <a:moveTo>
                        <a:pt x="248" y="151"/>
                      </a:moveTo>
                      <a:lnTo>
                        <a:pt x="248" y="274"/>
                      </a:lnTo>
                      <a:lnTo>
                        <a:pt x="0" y="112"/>
                      </a:lnTo>
                      <a:lnTo>
                        <a:pt x="0" y="0"/>
                      </a:lnTo>
                      <a:lnTo>
                        <a:pt x="248" y="15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620680" y="3753000"/>
                  <a:ext cx="20520" cy="21240"/>
                </a:xfrm>
                <a:custGeom>
                  <a:avLst/>
                  <a:gdLst/>
                  <a:ahLst/>
                  <a:rect l="l" t="t" r="r" b="b"/>
                  <a:pathLst>
                    <a:path w="220" h="196">
                      <a:moveTo>
                        <a:pt x="220" y="77"/>
                      </a:moveTo>
                      <a:lnTo>
                        <a:pt x="220" y="196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20" y="7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666040" y="3772080"/>
                  <a:ext cx="21960" cy="22680"/>
                </a:xfrm>
                <a:custGeom>
                  <a:avLst/>
                  <a:gdLst/>
                  <a:ahLst/>
                  <a:rect l="l" t="t" r="r" b="b"/>
                  <a:pathLst>
                    <a:path w="237" h="218">
                      <a:moveTo>
                        <a:pt x="237" y="84"/>
                      </a:moveTo>
                      <a:lnTo>
                        <a:pt x="237" y="21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5642640" y="376056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49" h="212">
                      <a:moveTo>
                        <a:pt x="249" y="89"/>
                      </a:moveTo>
                      <a:lnTo>
                        <a:pt x="249" y="21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9" y="8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620680" y="378360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08">
                      <a:moveTo>
                        <a:pt x="220" y="91"/>
                      </a:moveTo>
                      <a:lnTo>
                        <a:pt x="220" y="20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9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5689440" y="381636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9" h="248">
                      <a:moveTo>
                        <a:pt x="279" y="113"/>
                      </a:moveTo>
                      <a:lnTo>
                        <a:pt x="279" y="248"/>
                      </a:lnTo>
                      <a:lnTo>
                        <a:pt x="1" y="132"/>
                      </a:lnTo>
                      <a:lnTo>
                        <a:pt x="0" y="0"/>
                      </a:lnTo>
                      <a:lnTo>
                        <a:pt x="279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5666040" y="3806640"/>
                  <a:ext cx="21960" cy="24480"/>
                </a:xfrm>
                <a:custGeom>
                  <a:avLst/>
                  <a:gdLst/>
                  <a:ahLst/>
                  <a:rect l="l" t="t" r="r" b="b"/>
                  <a:pathLst>
                    <a:path w="237" h="225">
                      <a:moveTo>
                        <a:pt x="237" y="92"/>
                      </a:moveTo>
                      <a:lnTo>
                        <a:pt x="237" y="225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7" y="9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5642640" y="379512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49" h="225">
                      <a:moveTo>
                        <a:pt x="249" y="101"/>
                      </a:moveTo>
                      <a:lnTo>
                        <a:pt x="249" y="225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49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5620680" y="381636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17">
                      <a:moveTo>
                        <a:pt x="220" y="100"/>
                      </a:moveTo>
                      <a:lnTo>
                        <a:pt x="220" y="217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10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5666040" y="3839400"/>
                  <a:ext cx="21960" cy="26280"/>
                </a:xfrm>
                <a:custGeom>
                  <a:avLst/>
                  <a:gdLst/>
                  <a:ahLst/>
                  <a:rect l="l" t="t" r="r" b="b"/>
                  <a:pathLst>
                    <a:path w="237" h="237">
                      <a:moveTo>
                        <a:pt x="237" y="102"/>
                      </a:moveTo>
                      <a:lnTo>
                        <a:pt x="237" y="237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10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5642640" y="382752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49" h="236">
                      <a:moveTo>
                        <a:pt x="249" y="112"/>
                      </a:moveTo>
                      <a:lnTo>
                        <a:pt x="249" y="236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49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5620680" y="384660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2">
                      <a:moveTo>
                        <a:pt x="209" y="103"/>
                      </a:moveTo>
                      <a:lnTo>
                        <a:pt x="209" y="22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0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5689440" y="388692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77">
                      <a:moveTo>
                        <a:pt x="288" y="140"/>
                      </a:moveTo>
                      <a:lnTo>
                        <a:pt x="288" y="277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288" y="140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5666040" y="3873600"/>
                  <a:ext cx="21960" cy="28440"/>
                </a:xfrm>
                <a:custGeom>
                  <a:avLst/>
                  <a:gdLst/>
                  <a:ahLst/>
                  <a:rect l="l" t="t" r="r" b="b"/>
                  <a:pathLst>
                    <a:path w="236" h="250">
                      <a:moveTo>
                        <a:pt x="236" y="113"/>
                      </a:moveTo>
                      <a:lnTo>
                        <a:pt x="236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641200" y="38584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45">
                      <a:moveTo>
                        <a:pt x="248" y="122"/>
                      </a:moveTo>
                      <a:lnTo>
                        <a:pt x="248" y="245"/>
                      </a:lnTo>
                      <a:lnTo>
                        <a:pt x="0" y="127"/>
                      </a:lnTo>
                      <a:lnTo>
                        <a:pt x="0" y="0"/>
                      </a:lnTo>
                      <a:lnTo>
                        <a:pt x="248" y="12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5620680" y="387900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8">
                      <a:moveTo>
                        <a:pt x="209" y="108"/>
                      </a:moveTo>
                      <a:lnTo>
                        <a:pt x="209" y="22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09" y="10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5689440" y="392328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86">
                      <a:moveTo>
                        <a:pt x="288" y="158"/>
                      </a:moveTo>
                      <a:lnTo>
                        <a:pt x="288" y="28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88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5666040" y="3907800"/>
                  <a:ext cx="21960" cy="28800"/>
                </a:xfrm>
                <a:custGeom>
                  <a:avLst/>
                  <a:gdLst/>
                  <a:ahLst/>
                  <a:rect l="l" t="t" r="r" b="b"/>
                  <a:pathLst>
                    <a:path w="236" h="263">
                      <a:moveTo>
                        <a:pt x="236" y="129"/>
                      </a:moveTo>
                      <a:lnTo>
                        <a:pt x="236" y="263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6" y="129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5641200" y="38926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60">
                      <a:moveTo>
                        <a:pt x="248" y="134"/>
                      </a:moveTo>
                      <a:lnTo>
                        <a:pt x="248" y="260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3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5620680" y="3909960"/>
                  <a:ext cx="20520" cy="28440"/>
                </a:xfrm>
                <a:custGeom>
                  <a:avLst/>
                  <a:gdLst/>
                  <a:ahLst/>
                  <a:rect l="l" t="t" r="r" b="b"/>
                  <a:pathLst>
                    <a:path w="209" h="250">
                      <a:moveTo>
                        <a:pt x="209" y="132"/>
                      </a:moveTo>
                      <a:lnTo>
                        <a:pt x="209" y="250"/>
                      </a:lnTo>
                      <a:lnTo>
                        <a:pt x="0" y="126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5689440" y="395784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8" h="305">
                      <a:moveTo>
                        <a:pt x="288" y="169"/>
                      </a:moveTo>
                      <a:lnTo>
                        <a:pt x="288" y="305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88" y="16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5666040" y="3942360"/>
                  <a:ext cx="21960" cy="30240"/>
                </a:xfrm>
                <a:custGeom>
                  <a:avLst/>
                  <a:gdLst/>
                  <a:ahLst/>
                  <a:rect l="l" t="t" r="r" b="b"/>
                  <a:pathLst>
                    <a:path w="236" h="271">
                      <a:moveTo>
                        <a:pt x="236" y="136"/>
                      </a:moveTo>
                      <a:lnTo>
                        <a:pt x="236" y="27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6" y="136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5641200" y="39250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2">
                      <a:moveTo>
                        <a:pt x="248" y="149"/>
                      </a:moveTo>
                      <a:lnTo>
                        <a:pt x="248" y="27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5689440" y="3781440"/>
                  <a:ext cx="25200" cy="26640"/>
                </a:xfrm>
                <a:custGeom>
                  <a:avLst/>
                  <a:gdLst/>
                  <a:ahLst/>
                  <a:rect l="l" t="t" r="r" b="b"/>
                  <a:pathLst>
                    <a:path w="274" h="236">
                      <a:moveTo>
                        <a:pt x="274" y="96"/>
                      </a:moveTo>
                      <a:lnTo>
                        <a:pt x="274" y="23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7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5706720" y="380664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6" h="169">
                      <a:moveTo>
                        <a:pt x="86" y="36"/>
                      </a:moveTo>
                      <a:lnTo>
                        <a:pt x="86" y="169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86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5689440" y="385272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4" h="258">
                      <a:moveTo>
                        <a:pt x="274" y="120"/>
                      </a:moveTo>
                      <a:lnTo>
                        <a:pt x="274" y="258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74" y="1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5714640" y="3940200"/>
                  <a:ext cx="122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5605200" y="3709440"/>
                <a:ext cx="185040" cy="64440"/>
                <a:chOff x="5605200" y="3709440"/>
                <a:chExt cx="185040" cy="6444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605200" y="3709440"/>
                  <a:ext cx="185040" cy="37800"/>
                </a:xfrm>
                <a:custGeom>
                  <a:avLst/>
                  <a:gdLst/>
                  <a:ahLst/>
                  <a:rect l="l" t="t" r="r" b="b"/>
                  <a:pathLst>
                    <a:path w="2021" h="340">
                      <a:moveTo>
                        <a:pt x="0" y="0"/>
                      </a:moveTo>
                      <a:lnTo>
                        <a:pt x="870" y="25"/>
                      </a:lnTo>
                      <a:lnTo>
                        <a:pt x="2021" y="326"/>
                      </a:lnTo>
                      <a:lnTo>
                        <a:pt x="1221" y="3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5717880" y="3745440"/>
                  <a:ext cx="72000" cy="28440"/>
                </a:xfrm>
                <a:custGeom>
                  <a:avLst/>
                  <a:gdLst/>
                  <a:ahLst/>
                  <a:rect l="l" t="t" r="r" b="b"/>
                  <a:pathLst>
                    <a:path w="785" h="257">
                      <a:moveTo>
                        <a:pt x="8" y="1"/>
                      </a:moveTo>
                      <a:lnTo>
                        <a:pt x="785" y="0"/>
                      </a:lnTo>
                      <a:lnTo>
                        <a:pt x="785" y="257"/>
                      </a:lnTo>
                      <a:lnTo>
                        <a:pt x="0" y="257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5605200" y="3709440"/>
                  <a:ext cx="115920" cy="64440"/>
                </a:xfrm>
                <a:custGeom>
                  <a:avLst/>
                  <a:gdLst/>
                  <a:ahLst/>
                  <a:rect l="l" t="t" r="r" b="b"/>
                  <a:pathLst>
                    <a:path w="1248" h="574">
                      <a:moveTo>
                        <a:pt x="0" y="0"/>
                      </a:moveTo>
                      <a:lnTo>
                        <a:pt x="0" y="193"/>
                      </a:lnTo>
                      <a:lnTo>
                        <a:pt x="1248" y="574"/>
                      </a:lnTo>
                      <a:lnTo>
                        <a:pt x="1248" y="3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1" name=""/>
            <p:cNvSpPr/>
            <p:nvPr/>
          </p:nvSpPr>
          <p:spPr>
            <a:xfrm>
              <a:off x="4969440" y="2868480"/>
              <a:ext cx="393840" cy="26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953680" y="1165320"/>
              <a:ext cx="478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344400" y="2930040"/>
              <a:ext cx="963720" cy="503280"/>
            </a:xfrm>
            <a:custGeom>
              <a:avLst/>
              <a:gdLst/>
              <a:ahLst/>
              <a:rect l="l" t="t" r="r" b="b"/>
              <a:pathLst>
                <a:path w="1169" h="497">
                  <a:moveTo>
                    <a:pt x="0" y="468"/>
                  </a:moveTo>
                  <a:lnTo>
                    <a:pt x="11" y="497"/>
                  </a:lnTo>
                  <a:lnTo>
                    <a:pt x="1169" y="28"/>
                  </a:lnTo>
                  <a:lnTo>
                    <a:pt x="1157" y="0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300120" y="2698200"/>
              <a:ext cx="345240" cy="589680"/>
            </a:xfrm>
            <a:custGeom>
              <a:avLst/>
              <a:gdLst/>
              <a:ahLst/>
              <a:rect l="l" t="t" r="r" b="b"/>
              <a:pathLst>
                <a:path w="645" h="633">
                  <a:moveTo>
                    <a:pt x="645" y="22"/>
                  </a:moveTo>
                  <a:lnTo>
                    <a:pt x="624" y="0"/>
                  </a:lnTo>
                  <a:lnTo>
                    <a:pt x="0" y="611"/>
                  </a:lnTo>
                  <a:lnTo>
                    <a:pt x="22" y="633"/>
                  </a:lnTo>
                  <a:lnTo>
                    <a:pt x="645" y="2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157560" y="2667240"/>
              <a:ext cx="72000" cy="758880"/>
            </a:xfrm>
            <a:custGeom>
              <a:avLst/>
              <a:gdLst/>
              <a:ahLst/>
              <a:rect l="l" t="t" r="r" b="b"/>
              <a:pathLst>
                <a:path w="92" h="792">
                  <a:moveTo>
                    <a:pt x="61" y="792"/>
                  </a:moveTo>
                  <a:lnTo>
                    <a:pt x="92" y="789"/>
                  </a:lnTo>
                  <a:lnTo>
                    <a:pt x="31" y="0"/>
                  </a:lnTo>
                  <a:lnTo>
                    <a:pt x="0" y="3"/>
                  </a:lnTo>
                  <a:lnTo>
                    <a:pt x="61" y="79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118320" y="2606040"/>
              <a:ext cx="101520" cy="1245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605200" y="1962720"/>
              <a:ext cx="753120" cy="551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oites aux lettres assurance Malad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5228280" y="2330280"/>
              <a:ext cx="185400" cy="340200"/>
              <a:chOff x="5228280" y="2330280"/>
              <a:chExt cx="185400" cy="340200"/>
            </a:xfrm>
          </p:grpSpPr>
          <p:grpSp>
            <p:nvGrpSpPr>
              <p:cNvPr id="739" name=""/>
              <p:cNvGrpSpPr/>
              <p:nvPr/>
            </p:nvGrpSpPr>
            <p:grpSpPr>
              <a:xfrm>
                <a:off x="5243760" y="2354760"/>
                <a:ext cx="153720" cy="315720"/>
                <a:chOff x="5243760" y="2354760"/>
                <a:chExt cx="153720" cy="3157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5337720" y="2391120"/>
                  <a:ext cx="57960" cy="2793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5246640" y="2354760"/>
                  <a:ext cx="91080" cy="315720"/>
                </a:xfrm>
                <a:custGeom>
                  <a:avLst/>
                  <a:gdLst/>
                  <a:ahLst/>
                  <a:rect l="l" t="t" r="r" b="b"/>
                  <a:pathLst>
                    <a:path w="1000" h="2801">
                      <a:moveTo>
                        <a:pt x="0" y="2130"/>
                      </a:moveTo>
                      <a:lnTo>
                        <a:pt x="1000" y="2801"/>
                      </a:lnTo>
                      <a:lnTo>
                        <a:pt x="1000" y="336"/>
                      </a:lnTo>
                      <a:lnTo>
                        <a:pt x="841" y="216"/>
                      </a:lnTo>
                      <a:lnTo>
                        <a:pt x="0" y="0"/>
                      </a:lnTo>
                      <a:lnTo>
                        <a:pt x="0" y="213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5337720" y="2391120"/>
                  <a:ext cx="56520" cy="32400"/>
                </a:xfrm>
                <a:custGeom>
                  <a:avLst/>
                  <a:gdLst/>
                  <a:ahLst/>
                  <a:rect l="l" t="t" r="r" b="b"/>
                  <a:pathLst>
                    <a:path w="614" h="283">
                      <a:moveTo>
                        <a:pt x="0" y="0"/>
                      </a:moveTo>
                      <a:lnTo>
                        <a:pt x="614" y="0"/>
                      </a:lnTo>
                      <a:lnTo>
                        <a:pt x="614" y="283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5337720" y="2431440"/>
                  <a:ext cx="2808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5367600" y="2431440"/>
                  <a:ext cx="2988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5353560" y="2414160"/>
                  <a:ext cx="2808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5381640" y="241200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5336280" y="2412000"/>
                  <a:ext cx="154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5337720" y="2392920"/>
                  <a:ext cx="280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5369040" y="2395080"/>
                  <a:ext cx="284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337720" y="246960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5367600" y="246960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5352120" y="2450520"/>
                  <a:ext cx="2952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5381640" y="2450520"/>
                  <a:ext cx="158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5337720" y="245052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5337720" y="250596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5367600" y="250596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5352120" y="2486520"/>
                  <a:ext cx="2952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5381640" y="2486520"/>
                  <a:ext cx="158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5337720" y="2486520"/>
                  <a:ext cx="122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5337720" y="2541960"/>
                  <a:ext cx="280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5367600" y="2541960"/>
                  <a:ext cx="280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5352120" y="2525040"/>
                  <a:ext cx="2808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5381640" y="2522880"/>
                  <a:ext cx="140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5337720" y="252288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5337720" y="258084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5367600" y="2578680"/>
                  <a:ext cx="298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5353560" y="2561040"/>
                  <a:ext cx="2808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381640" y="2561040"/>
                  <a:ext cx="158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5337720" y="2616840"/>
                  <a:ext cx="2808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5367600" y="2616840"/>
                  <a:ext cx="280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5352120" y="2597760"/>
                  <a:ext cx="2952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5381640" y="259776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5337720" y="259776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5337720" y="265320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5367600" y="2653200"/>
                  <a:ext cx="28080" cy="17280"/>
                </a:xfrm>
                <a:prstGeom prst="rect">
                  <a:avLst/>
                </a:pr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5352120" y="2634120"/>
                  <a:ext cx="2952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5381640" y="263412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5337720" y="263412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5331600" y="2647440"/>
                  <a:ext cx="6120" cy="20520"/>
                </a:xfrm>
                <a:custGeom>
                  <a:avLst/>
                  <a:gdLst/>
                  <a:ahLst/>
                  <a:rect l="l" t="t" r="r" b="b"/>
                  <a:pathLst>
                    <a:path w="83" h="179">
                      <a:moveTo>
                        <a:pt x="83" y="47"/>
                      </a:moveTo>
                      <a:lnTo>
                        <a:pt x="83" y="179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83" y="4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5306400" y="262620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4" h="306">
                      <a:moveTo>
                        <a:pt x="254" y="173"/>
                      </a:moveTo>
                      <a:lnTo>
                        <a:pt x="254" y="30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254" y="173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5281200" y="260712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3" h="294">
                      <a:moveTo>
                        <a:pt x="253" y="170"/>
                      </a:moveTo>
                      <a:lnTo>
                        <a:pt x="253" y="294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7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5256360" y="25880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88">
                      <a:moveTo>
                        <a:pt x="253" y="165"/>
                      </a:moveTo>
                      <a:lnTo>
                        <a:pt x="253" y="288"/>
                      </a:lnTo>
                      <a:lnTo>
                        <a:pt x="0" y="121"/>
                      </a:lnTo>
                      <a:lnTo>
                        <a:pt x="0" y="0"/>
                      </a:lnTo>
                      <a:lnTo>
                        <a:pt x="253" y="165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243760" y="2578680"/>
                  <a:ext cx="12600" cy="22680"/>
                </a:xfrm>
                <a:custGeom>
                  <a:avLst/>
                  <a:gdLst/>
                  <a:ahLst/>
                  <a:rect l="l" t="t" r="r" b="b"/>
                  <a:pathLst>
                    <a:path w="125" h="205">
                      <a:moveTo>
                        <a:pt x="125" y="83"/>
                      </a:moveTo>
                      <a:lnTo>
                        <a:pt x="125" y="205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5331600" y="239112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58">
                      <a:moveTo>
                        <a:pt x="83" y="20"/>
                      </a:moveTo>
                      <a:lnTo>
                        <a:pt x="83" y="15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83" y="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306400" y="238140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4" h="214">
                      <a:moveTo>
                        <a:pt x="254" y="83"/>
                      </a:moveTo>
                      <a:lnTo>
                        <a:pt x="254" y="214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83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281200" y="237204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9">
                      <a:moveTo>
                        <a:pt x="253" y="83"/>
                      </a:moveTo>
                      <a:lnTo>
                        <a:pt x="253" y="209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256360" y="236232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6">
                      <a:moveTo>
                        <a:pt x="253" y="83"/>
                      </a:moveTo>
                      <a:lnTo>
                        <a:pt x="252" y="20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243760" y="23569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59">
                      <a:moveTo>
                        <a:pt x="125" y="36"/>
                      </a:moveTo>
                      <a:lnTo>
                        <a:pt x="125" y="159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125" y="36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5306400" y="241596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30">
                      <a:moveTo>
                        <a:pt x="254" y="96"/>
                      </a:moveTo>
                      <a:lnTo>
                        <a:pt x="254" y="230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281200" y="240624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3" h="222">
                      <a:moveTo>
                        <a:pt x="253" y="97"/>
                      </a:moveTo>
                      <a:lnTo>
                        <a:pt x="253" y="222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9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5256360" y="239508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18">
                      <a:moveTo>
                        <a:pt x="253" y="95"/>
                      </a:moveTo>
                      <a:lnTo>
                        <a:pt x="253" y="218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9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5243760" y="23893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65">
                      <a:moveTo>
                        <a:pt x="125" y="45"/>
                      </a:moveTo>
                      <a:lnTo>
                        <a:pt x="125" y="165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125" y="4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5331600" y="246564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69">
                      <a:moveTo>
                        <a:pt x="83" y="32"/>
                      </a:moveTo>
                      <a:lnTo>
                        <a:pt x="83" y="169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5306400" y="245232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41">
                      <a:moveTo>
                        <a:pt x="254" y="107"/>
                      </a:moveTo>
                      <a:lnTo>
                        <a:pt x="254" y="241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0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5281200" y="243864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3" h="236">
                      <a:moveTo>
                        <a:pt x="253" y="112"/>
                      </a:moveTo>
                      <a:lnTo>
                        <a:pt x="253" y="23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5256360" y="242748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32">
                      <a:moveTo>
                        <a:pt x="253" y="110"/>
                      </a:moveTo>
                      <a:lnTo>
                        <a:pt x="253" y="23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0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243760" y="241956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2">
                      <a:moveTo>
                        <a:pt x="125" y="49"/>
                      </a:moveTo>
                      <a:lnTo>
                        <a:pt x="125" y="172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5331600" y="249984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74">
                      <a:moveTo>
                        <a:pt x="79" y="41"/>
                      </a:moveTo>
                      <a:lnTo>
                        <a:pt x="79" y="174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79" y="4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306400" y="2486520"/>
                  <a:ext cx="23400" cy="28800"/>
                </a:xfrm>
                <a:custGeom>
                  <a:avLst/>
                  <a:gdLst/>
                  <a:ahLst/>
                  <a:rect l="l" t="t" r="r" b="b"/>
                  <a:pathLst>
                    <a:path w="254" h="250">
                      <a:moveTo>
                        <a:pt x="254" y="118"/>
                      </a:moveTo>
                      <a:lnTo>
                        <a:pt x="254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54" y="11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281200" y="2473560"/>
                  <a:ext cx="23400" cy="26280"/>
                </a:xfrm>
                <a:custGeom>
                  <a:avLst/>
                  <a:gdLst/>
                  <a:ahLst/>
                  <a:rect l="l" t="t" r="r" b="b"/>
                  <a:pathLst>
                    <a:path w="253" h="245">
                      <a:moveTo>
                        <a:pt x="253" y="121"/>
                      </a:moveTo>
                      <a:lnTo>
                        <a:pt x="253" y="24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256360" y="24577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46">
                      <a:moveTo>
                        <a:pt x="253" y="122"/>
                      </a:moveTo>
                      <a:lnTo>
                        <a:pt x="253" y="24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243760" y="24523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8">
                      <a:moveTo>
                        <a:pt x="125" y="55"/>
                      </a:moveTo>
                      <a:lnTo>
                        <a:pt x="125" y="178"/>
                      </a:lnTo>
                      <a:lnTo>
                        <a:pt x="0" y="114"/>
                      </a:lnTo>
                      <a:lnTo>
                        <a:pt x="0" y="0"/>
                      </a:lnTo>
                      <a:lnTo>
                        <a:pt x="125" y="5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331600" y="2538360"/>
                  <a:ext cx="6120" cy="19440"/>
                </a:xfrm>
                <a:custGeom>
                  <a:avLst/>
                  <a:gdLst/>
                  <a:ahLst/>
                  <a:rect l="l" t="t" r="r" b="b"/>
                  <a:pathLst>
                    <a:path w="83" h="176">
                      <a:moveTo>
                        <a:pt x="83" y="46"/>
                      </a:moveTo>
                      <a:lnTo>
                        <a:pt x="83" y="17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4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306400" y="252144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60">
                      <a:moveTo>
                        <a:pt x="254" y="129"/>
                      </a:moveTo>
                      <a:lnTo>
                        <a:pt x="254" y="260"/>
                      </a:lnTo>
                      <a:lnTo>
                        <a:pt x="0" y="132"/>
                      </a:lnTo>
                      <a:lnTo>
                        <a:pt x="0" y="0"/>
                      </a:lnTo>
                      <a:lnTo>
                        <a:pt x="254" y="12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281200" y="250596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57">
                      <a:moveTo>
                        <a:pt x="253" y="133"/>
                      </a:moveTo>
                      <a:lnTo>
                        <a:pt x="253" y="257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5256360" y="24904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55">
                      <a:moveTo>
                        <a:pt x="253" y="131"/>
                      </a:moveTo>
                      <a:lnTo>
                        <a:pt x="253" y="25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5243760" y="248292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3">
                      <a:moveTo>
                        <a:pt x="125" y="62"/>
                      </a:moveTo>
                      <a:lnTo>
                        <a:pt x="125" y="183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6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5330160" y="257472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2" h="168">
                      <a:moveTo>
                        <a:pt x="82" y="36"/>
                      </a:moveTo>
                      <a:lnTo>
                        <a:pt x="82" y="16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82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5306400" y="255780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78">
                      <a:moveTo>
                        <a:pt x="254" y="144"/>
                      </a:moveTo>
                      <a:lnTo>
                        <a:pt x="254" y="278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5281200" y="254052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70">
                      <a:moveTo>
                        <a:pt x="253" y="144"/>
                      </a:moveTo>
                      <a:lnTo>
                        <a:pt x="253" y="270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5256360" y="25228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6" h="271">
                      <a:moveTo>
                        <a:pt x="256" y="149"/>
                      </a:moveTo>
                      <a:lnTo>
                        <a:pt x="256" y="271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6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5243760" y="251568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7">
                      <a:moveTo>
                        <a:pt x="125" y="65"/>
                      </a:moveTo>
                      <a:lnTo>
                        <a:pt x="125" y="187"/>
                      </a:lnTo>
                      <a:lnTo>
                        <a:pt x="0" y="113"/>
                      </a:lnTo>
                      <a:lnTo>
                        <a:pt x="0" y="0"/>
                      </a:lnTo>
                      <a:lnTo>
                        <a:pt x="125" y="6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5331600" y="261108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92">
                      <a:moveTo>
                        <a:pt x="79" y="52"/>
                      </a:moveTo>
                      <a:lnTo>
                        <a:pt x="79" y="192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79" y="5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5306400" y="259200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89">
                      <a:moveTo>
                        <a:pt x="254" y="155"/>
                      </a:moveTo>
                      <a:lnTo>
                        <a:pt x="254" y="289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5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5281200" y="257472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3" h="283">
                      <a:moveTo>
                        <a:pt x="253" y="158"/>
                      </a:moveTo>
                      <a:lnTo>
                        <a:pt x="253" y="283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5256360" y="25556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76">
                      <a:moveTo>
                        <a:pt x="253" y="153"/>
                      </a:moveTo>
                      <a:lnTo>
                        <a:pt x="253" y="27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53"/>
                      </a:lnTo>
                      <a:close/>
                    </a:path>
                  </a:pathLst>
                </a:custGeom>
                <a:solidFill>
                  <a:srgbClr val="2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5243760" y="254808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94">
                      <a:moveTo>
                        <a:pt x="125" y="71"/>
                      </a:moveTo>
                      <a:lnTo>
                        <a:pt x="125" y="194"/>
                      </a:lnTo>
                      <a:lnTo>
                        <a:pt x="0" y="108"/>
                      </a:lnTo>
                      <a:lnTo>
                        <a:pt x="0" y="0"/>
                      </a:lnTo>
                      <a:lnTo>
                        <a:pt x="125" y="7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5243760" y="2563200"/>
                  <a:ext cx="20520" cy="26640"/>
                </a:xfrm>
                <a:custGeom>
                  <a:avLst/>
                  <a:gdLst/>
                  <a:ahLst/>
                  <a:rect l="l" t="t" r="r" b="b"/>
                  <a:pathLst>
                    <a:path w="209" h="242">
                      <a:moveTo>
                        <a:pt x="209" y="132"/>
                      </a:moveTo>
                      <a:lnTo>
                        <a:pt x="209" y="24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5312520" y="261504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4" h="313">
                      <a:moveTo>
                        <a:pt x="284" y="186"/>
                      </a:moveTo>
                      <a:lnTo>
                        <a:pt x="284" y="313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284" y="18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5289120" y="259776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236" h="279">
                      <a:moveTo>
                        <a:pt x="236" y="148"/>
                      </a:moveTo>
                      <a:lnTo>
                        <a:pt x="236" y="279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4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5264280" y="25786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4">
                      <a:moveTo>
                        <a:pt x="248" y="151"/>
                      </a:moveTo>
                      <a:lnTo>
                        <a:pt x="248" y="274"/>
                      </a:lnTo>
                      <a:lnTo>
                        <a:pt x="0" y="112"/>
                      </a:lnTo>
                      <a:lnTo>
                        <a:pt x="0" y="0"/>
                      </a:lnTo>
                      <a:lnTo>
                        <a:pt x="248" y="15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243760" y="2373840"/>
                  <a:ext cx="20520" cy="21240"/>
                </a:xfrm>
                <a:custGeom>
                  <a:avLst/>
                  <a:gdLst/>
                  <a:ahLst/>
                  <a:rect l="l" t="t" r="r" b="b"/>
                  <a:pathLst>
                    <a:path w="220" h="196">
                      <a:moveTo>
                        <a:pt x="220" y="77"/>
                      </a:moveTo>
                      <a:lnTo>
                        <a:pt x="220" y="196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20" y="7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5289120" y="2392920"/>
                  <a:ext cx="21960" cy="22680"/>
                </a:xfrm>
                <a:custGeom>
                  <a:avLst/>
                  <a:gdLst/>
                  <a:ahLst/>
                  <a:rect l="l" t="t" r="r" b="b"/>
                  <a:pathLst>
                    <a:path w="237" h="218">
                      <a:moveTo>
                        <a:pt x="237" y="84"/>
                      </a:moveTo>
                      <a:lnTo>
                        <a:pt x="237" y="21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5265720" y="238140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49" h="212">
                      <a:moveTo>
                        <a:pt x="249" y="89"/>
                      </a:moveTo>
                      <a:lnTo>
                        <a:pt x="249" y="21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9" y="8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5243760" y="240444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08">
                      <a:moveTo>
                        <a:pt x="220" y="91"/>
                      </a:moveTo>
                      <a:lnTo>
                        <a:pt x="220" y="20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9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5312520" y="243720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9" h="248">
                      <a:moveTo>
                        <a:pt x="279" y="113"/>
                      </a:moveTo>
                      <a:lnTo>
                        <a:pt x="279" y="248"/>
                      </a:lnTo>
                      <a:lnTo>
                        <a:pt x="1" y="132"/>
                      </a:lnTo>
                      <a:lnTo>
                        <a:pt x="0" y="0"/>
                      </a:lnTo>
                      <a:lnTo>
                        <a:pt x="279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5289120" y="2427480"/>
                  <a:ext cx="21960" cy="24480"/>
                </a:xfrm>
                <a:custGeom>
                  <a:avLst/>
                  <a:gdLst/>
                  <a:ahLst/>
                  <a:rect l="l" t="t" r="r" b="b"/>
                  <a:pathLst>
                    <a:path w="237" h="225">
                      <a:moveTo>
                        <a:pt x="237" y="92"/>
                      </a:moveTo>
                      <a:lnTo>
                        <a:pt x="237" y="225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7" y="9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5265720" y="241596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49" h="225">
                      <a:moveTo>
                        <a:pt x="249" y="101"/>
                      </a:moveTo>
                      <a:lnTo>
                        <a:pt x="249" y="225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49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5243760" y="243720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17">
                      <a:moveTo>
                        <a:pt x="220" y="100"/>
                      </a:moveTo>
                      <a:lnTo>
                        <a:pt x="220" y="217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10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5289120" y="2460240"/>
                  <a:ext cx="21960" cy="26280"/>
                </a:xfrm>
                <a:custGeom>
                  <a:avLst/>
                  <a:gdLst/>
                  <a:ahLst/>
                  <a:rect l="l" t="t" r="r" b="b"/>
                  <a:pathLst>
                    <a:path w="237" h="237">
                      <a:moveTo>
                        <a:pt x="237" y="102"/>
                      </a:moveTo>
                      <a:lnTo>
                        <a:pt x="237" y="237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10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5265720" y="244836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49" h="236">
                      <a:moveTo>
                        <a:pt x="249" y="112"/>
                      </a:moveTo>
                      <a:lnTo>
                        <a:pt x="249" y="236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49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5243760" y="246744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2">
                      <a:moveTo>
                        <a:pt x="209" y="103"/>
                      </a:moveTo>
                      <a:lnTo>
                        <a:pt x="209" y="22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0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5312520" y="250776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77">
                      <a:moveTo>
                        <a:pt x="288" y="140"/>
                      </a:moveTo>
                      <a:lnTo>
                        <a:pt x="288" y="277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288" y="140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5289120" y="2494440"/>
                  <a:ext cx="21960" cy="28440"/>
                </a:xfrm>
                <a:custGeom>
                  <a:avLst/>
                  <a:gdLst/>
                  <a:ahLst/>
                  <a:rect l="l" t="t" r="r" b="b"/>
                  <a:pathLst>
                    <a:path w="236" h="250">
                      <a:moveTo>
                        <a:pt x="236" y="113"/>
                      </a:moveTo>
                      <a:lnTo>
                        <a:pt x="236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5264280" y="24793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45">
                      <a:moveTo>
                        <a:pt x="248" y="122"/>
                      </a:moveTo>
                      <a:lnTo>
                        <a:pt x="248" y="245"/>
                      </a:lnTo>
                      <a:lnTo>
                        <a:pt x="0" y="127"/>
                      </a:lnTo>
                      <a:lnTo>
                        <a:pt x="0" y="0"/>
                      </a:lnTo>
                      <a:lnTo>
                        <a:pt x="248" y="12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5243760" y="249984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8">
                      <a:moveTo>
                        <a:pt x="209" y="108"/>
                      </a:moveTo>
                      <a:lnTo>
                        <a:pt x="209" y="22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09" y="10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5312520" y="254412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86">
                      <a:moveTo>
                        <a:pt x="288" y="158"/>
                      </a:moveTo>
                      <a:lnTo>
                        <a:pt x="288" y="28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88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5289120" y="2528640"/>
                  <a:ext cx="21960" cy="28800"/>
                </a:xfrm>
                <a:custGeom>
                  <a:avLst/>
                  <a:gdLst/>
                  <a:ahLst/>
                  <a:rect l="l" t="t" r="r" b="b"/>
                  <a:pathLst>
                    <a:path w="236" h="263">
                      <a:moveTo>
                        <a:pt x="236" y="129"/>
                      </a:moveTo>
                      <a:lnTo>
                        <a:pt x="236" y="263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6" y="129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5264280" y="25135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60">
                      <a:moveTo>
                        <a:pt x="248" y="134"/>
                      </a:moveTo>
                      <a:lnTo>
                        <a:pt x="248" y="260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3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243760" y="2530800"/>
                  <a:ext cx="20520" cy="28440"/>
                </a:xfrm>
                <a:custGeom>
                  <a:avLst/>
                  <a:gdLst/>
                  <a:ahLst/>
                  <a:rect l="l" t="t" r="r" b="b"/>
                  <a:pathLst>
                    <a:path w="209" h="250">
                      <a:moveTo>
                        <a:pt x="209" y="132"/>
                      </a:moveTo>
                      <a:lnTo>
                        <a:pt x="209" y="250"/>
                      </a:lnTo>
                      <a:lnTo>
                        <a:pt x="0" y="126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5312520" y="257868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8" h="305">
                      <a:moveTo>
                        <a:pt x="288" y="169"/>
                      </a:moveTo>
                      <a:lnTo>
                        <a:pt x="288" y="305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88" y="16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5289120" y="2563200"/>
                  <a:ext cx="21960" cy="30240"/>
                </a:xfrm>
                <a:custGeom>
                  <a:avLst/>
                  <a:gdLst/>
                  <a:ahLst/>
                  <a:rect l="l" t="t" r="r" b="b"/>
                  <a:pathLst>
                    <a:path w="236" h="271">
                      <a:moveTo>
                        <a:pt x="236" y="136"/>
                      </a:moveTo>
                      <a:lnTo>
                        <a:pt x="236" y="27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6" y="136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5264280" y="254592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2">
                      <a:moveTo>
                        <a:pt x="248" y="149"/>
                      </a:moveTo>
                      <a:lnTo>
                        <a:pt x="248" y="27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5312520" y="2402280"/>
                  <a:ext cx="25200" cy="26640"/>
                </a:xfrm>
                <a:custGeom>
                  <a:avLst/>
                  <a:gdLst/>
                  <a:ahLst/>
                  <a:rect l="l" t="t" r="r" b="b"/>
                  <a:pathLst>
                    <a:path w="274" h="236">
                      <a:moveTo>
                        <a:pt x="274" y="96"/>
                      </a:moveTo>
                      <a:lnTo>
                        <a:pt x="274" y="23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7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5330160" y="242748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6" h="169">
                      <a:moveTo>
                        <a:pt x="86" y="36"/>
                      </a:moveTo>
                      <a:lnTo>
                        <a:pt x="86" y="169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86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5312520" y="247356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4" h="258">
                      <a:moveTo>
                        <a:pt x="274" y="120"/>
                      </a:moveTo>
                      <a:lnTo>
                        <a:pt x="274" y="258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74" y="1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5337720" y="2561040"/>
                  <a:ext cx="122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8" name=""/>
              <p:cNvGrpSpPr/>
              <p:nvPr/>
            </p:nvGrpSpPr>
            <p:grpSpPr>
              <a:xfrm>
                <a:off x="5228280" y="2330280"/>
                <a:ext cx="185400" cy="64440"/>
                <a:chOff x="5228280" y="2330280"/>
                <a:chExt cx="185400" cy="64440"/>
              </a:xfrm>
            </p:grpSpPr>
            <p:sp>
              <p:nvSpPr>
                <p:cNvPr id="849" name=""/>
                <p:cNvSpPr/>
                <p:nvPr/>
              </p:nvSpPr>
              <p:spPr>
                <a:xfrm>
                  <a:off x="5228280" y="2330280"/>
                  <a:ext cx="185400" cy="37800"/>
                </a:xfrm>
                <a:custGeom>
                  <a:avLst/>
                  <a:gdLst/>
                  <a:ahLst/>
                  <a:rect l="l" t="t" r="r" b="b"/>
                  <a:pathLst>
                    <a:path w="2021" h="340">
                      <a:moveTo>
                        <a:pt x="0" y="0"/>
                      </a:moveTo>
                      <a:lnTo>
                        <a:pt x="870" y="25"/>
                      </a:lnTo>
                      <a:lnTo>
                        <a:pt x="2021" y="326"/>
                      </a:lnTo>
                      <a:lnTo>
                        <a:pt x="1221" y="3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5341320" y="2366280"/>
                  <a:ext cx="72000" cy="28440"/>
                </a:xfrm>
                <a:custGeom>
                  <a:avLst/>
                  <a:gdLst/>
                  <a:ahLst/>
                  <a:rect l="l" t="t" r="r" b="b"/>
                  <a:pathLst>
                    <a:path w="785" h="257">
                      <a:moveTo>
                        <a:pt x="8" y="1"/>
                      </a:moveTo>
                      <a:lnTo>
                        <a:pt x="785" y="0"/>
                      </a:lnTo>
                      <a:lnTo>
                        <a:pt x="785" y="257"/>
                      </a:lnTo>
                      <a:lnTo>
                        <a:pt x="0" y="257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5228280" y="2330280"/>
                  <a:ext cx="116280" cy="64440"/>
                </a:xfrm>
                <a:custGeom>
                  <a:avLst/>
                  <a:gdLst/>
                  <a:ahLst/>
                  <a:rect l="l" t="t" r="r" b="b"/>
                  <a:pathLst>
                    <a:path w="1248" h="574">
                      <a:moveTo>
                        <a:pt x="0" y="0"/>
                      </a:moveTo>
                      <a:lnTo>
                        <a:pt x="0" y="193"/>
                      </a:lnTo>
                      <a:lnTo>
                        <a:pt x="1248" y="574"/>
                      </a:lnTo>
                      <a:lnTo>
                        <a:pt x="1248" y="3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"/>
            <p:cNvGrpSpPr/>
            <p:nvPr/>
          </p:nvGrpSpPr>
          <p:grpSpPr>
            <a:xfrm>
              <a:off x="1224360" y="3688560"/>
              <a:ext cx="461160" cy="399600"/>
              <a:chOff x="1224360" y="3688560"/>
              <a:chExt cx="461160" cy="399600"/>
            </a:xfrm>
          </p:grpSpPr>
          <p:sp>
            <p:nvSpPr>
              <p:cNvPr id="853" name=""/>
              <p:cNvSpPr/>
              <p:nvPr/>
            </p:nvSpPr>
            <p:spPr>
              <a:xfrm>
                <a:off x="1390680" y="3688560"/>
                <a:ext cx="294840" cy="344160"/>
              </a:xfrm>
              <a:custGeom>
                <a:avLst/>
                <a:gdLst/>
                <a:ahLst/>
                <a:rect l="l" t="t" r="r" b="b"/>
                <a:pathLst>
                  <a:path w="469" h="451">
                    <a:moveTo>
                      <a:pt x="207" y="451"/>
                    </a:moveTo>
                    <a:lnTo>
                      <a:pt x="469" y="179"/>
                    </a:lnTo>
                    <a:lnTo>
                      <a:pt x="367" y="0"/>
                    </a:lnTo>
                    <a:lnTo>
                      <a:pt x="0" y="92"/>
                    </a:lnTo>
                    <a:lnTo>
                      <a:pt x="207" y="451"/>
                    </a:lnTo>
                    <a:close/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1224360" y="3778560"/>
                <a:ext cx="176760" cy="6732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1252080" y="3839400"/>
                <a:ext cx="170280" cy="8532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1294200" y="3907440"/>
                <a:ext cx="160200" cy="10116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>
                <a:off x="1344960" y="3970080"/>
                <a:ext cx="142560" cy="11808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1668600" y="3433680"/>
              <a:ext cx="469440" cy="329040"/>
              <a:chOff x="1668600" y="3433680"/>
              <a:chExt cx="469440" cy="329040"/>
            </a:xfrm>
          </p:grpSpPr>
          <p:sp>
            <p:nvSpPr>
              <p:cNvPr id="859" name=""/>
              <p:cNvSpPr/>
              <p:nvPr/>
            </p:nvSpPr>
            <p:spPr>
              <a:xfrm>
                <a:off x="1705320" y="3477960"/>
                <a:ext cx="395280" cy="239400"/>
              </a:xfrm>
              <a:custGeom>
                <a:avLst/>
                <a:gdLst/>
                <a:ahLst/>
                <a:rect l="l" t="t" r="r" b="b"/>
                <a:pathLst>
                  <a:path w="532" h="226">
                    <a:moveTo>
                      <a:pt x="0" y="202"/>
                    </a:moveTo>
                    <a:lnTo>
                      <a:pt x="10" y="226"/>
                    </a:lnTo>
                    <a:lnTo>
                      <a:pt x="532" y="24"/>
                    </a:lnTo>
                    <a:lnTo>
                      <a:pt x="523" y="0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668600" y="3647520"/>
                <a:ext cx="81720" cy="1152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057040" y="3433680"/>
                <a:ext cx="81000" cy="1152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1610280" y="4307400"/>
              <a:ext cx="411840" cy="505440"/>
              <a:chOff x="1610280" y="4307400"/>
              <a:chExt cx="411840" cy="505440"/>
            </a:xfrm>
          </p:grpSpPr>
          <p:sp>
            <p:nvSpPr>
              <p:cNvPr id="863" name=""/>
              <p:cNvSpPr/>
              <p:nvPr/>
            </p:nvSpPr>
            <p:spPr>
              <a:xfrm>
                <a:off x="1730160" y="4307400"/>
                <a:ext cx="291960" cy="365400"/>
              </a:xfrm>
              <a:custGeom>
                <a:avLst/>
                <a:gdLst/>
                <a:ahLst/>
                <a:rect l="l" t="t" r="r" b="b"/>
                <a:pathLst>
                  <a:path w="464" h="477">
                    <a:moveTo>
                      <a:pt x="341" y="477"/>
                    </a:moveTo>
                    <a:lnTo>
                      <a:pt x="464" y="119"/>
                    </a:lnTo>
                    <a:lnTo>
                      <a:pt x="294" y="0"/>
                    </a:lnTo>
                    <a:lnTo>
                      <a:pt x="0" y="239"/>
                    </a:lnTo>
                    <a:lnTo>
                      <a:pt x="341" y="477"/>
                    </a:lnTo>
                    <a:close/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1610280" y="4502520"/>
                <a:ext cx="136440" cy="15228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>
                <a:off x="1663200" y="4546080"/>
                <a:ext cx="124920" cy="16596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1731240" y="4592160"/>
                <a:ext cx="109440" cy="17460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1804680" y="4632120"/>
                <a:ext cx="87480" cy="18072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1960920" y="3761280"/>
              <a:ext cx="424800" cy="580680"/>
              <a:chOff x="1960920" y="3761280"/>
              <a:chExt cx="424800" cy="580680"/>
            </a:xfrm>
          </p:grpSpPr>
          <p:sp>
            <p:nvSpPr>
              <p:cNvPr id="869" name=""/>
              <p:cNvSpPr/>
              <p:nvPr/>
            </p:nvSpPr>
            <p:spPr>
              <a:xfrm>
                <a:off x="1988280" y="3795840"/>
                <a:ext cx="368640" cy="510840"/>
              </a:xfrm>
              <a:custGeom>
                <a:avLst/>
                <a:gdLst/>
                <a:ahLst/>
                <a:rect l="l" t="t" r="r" b="b"/>
                <a:pathLst>
                  <a:path w="587" h="667">
                    <a:moveTo>
                      <a:pt x="0" y="649"/>
                    </a:moveTo>
                    <a:lnTo>
                      <a:pt x="19" y="667"/>
                    </a:lnTo>
                    <a:lnTo>
                      <a:pt x="587" y="18"/>
                    </a:lnTo>
                    <a:lnTo>
                      <a:pt x="568" y="0"/>
                    </a:lnTo>
                    <a:lnTo>
                      <a:pt x="0" y="649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960920" y="4258440"/>
                <a:ext cx="68400" cy="83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316960" y="3761280"/>
                <a:ext cx="68760" cy="83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1783440" y="4395600"/>
              <a:ext cx="23220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824120" y="442656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OC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530720" y="4742280"/>
              <a:ext cx="1630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613880" y="3684960"/>
              <a:ext cx="100080" cy="110880"/>
            </a:xfrm>
            <a:custGeom>
              <a:avLst/>
              <a:gdLst/>
              <a:ahLst/>
              <a:rect l="l" t="t" r="r" b="b"/>
              <a:pathLst>
                <a:path w="159" h="144">
                  <a:moveTo>
                    <a:pt x="42" y="0"/>
                  </a:moveTo>
                  <a:lnTo>
                    <a:pt x="0" y="43"/>
                  </a:lnTo>
                  <a:lnTo>
                    <a:pt x="0" y="102"/>
                  </a:lnTo>
                  <a:lnTo>
                    <a:pt x="42" y="144"/>
                  </a:lnTo>
                  <a:lnTo>
                    <a:pt x="117" y="144"/>
                  </a:lnTo>
                  <a:lnTo>
                    <a:pt x="159" y="102"/>
                  </a:lnTo>
                  <a:lnTo>
                    <a:pt x="159" y="43"/>
                  </a:lnTo>
                  <a:lnTo>
                    <a:pt x="117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333cc"/>
            </a:solidFill>
            <a:ln w="39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927800" y="4286520"/>
              <a:ext cx="100080" cy="110520"/>
            </a:xfrm>
            <a:custGeom>
              <a:avLst/>
              <a:gdLst/>
              <a:ahLst/>
              <a:rect l="l" t="t" r="r" b="b"/>
              <a:pathLst>
                <a:path w="159" h="144">
                  <a:moveTo>
                    <a:pt x="42" y="0"/>
                  </a:moveTo>
                  <a:lnTo>
                    <a:pt x="0" y="42"/>
                  </a:lnTo>
                  <a:lnTo>
                    <a:pt x="0" y="101"/>
                  </a:lnTo>
                  <a:lnTo>
                    <a:pt x="42" y="144"/>
                  </a:lnTo>
                  <a:lnTo>
                    <a:pt x="116" y="144"/>
                  </a:lnTo>
                  <a:lnTo>
                    <a:pt x="159" y="101"/>
                  </a:lnTo>
                  <a:lnTo>
                    <a:pt x="159" y="42"/>
                  </a:lnTo>
                  <a:lnTo>
                    <a:pt x="116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333cc"/>
            </a:solidFill>
            <a:ln w="39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432080" y="3759480"/>
              <a:ext cx="20052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471320" y="3790440"/>
              <a:ext cx="12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AI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158480" y="1778400"/>
              <a:ext cx="988920" cy="1304640"/>
            </a:xfrm>
            <a:custGeom>
              <a:avLst/>
              <a:gdLst/>
              <a:ahLst/>
              <a:rect l="l" t="t" r="r" b="b"/>
              <a:pathLst>
                <a:path w="1575" h="1701">
                  <a:moveTo>
                    <a:pt x="1537" y="1701"/>
                  </a:moveTo>
                  <a:lnTo>
                    <a:pt x="1575" y="1667"/>
                  </a:lnTo>
                  <a:lnTo>
                    <a:pt x="38" y="0"/>
                  </a:lnTo>
                  <a:lnTo>
                    <a:pt x="0" y="35"/>
                  </a:lnTo>
                  <a:lnTo>
                    <a:pt x="1537" y="1701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022640" y="1502640"/>
              <a:ext cx="1315440" cy="1312200"/>
            </a:xfrm>
            <a:custGeom>
              <a:avLst/>
              <a:gdLst/>
              <a:ahLst/>
              <a:rect l="l" t="t" r="r" b="b"/>
              <a:pathLst>
                <a:path w="2096" h="1714">
                  <a:moveTo>
                    <a:pt x="0" y="1674"/>
                  </a:moveTo>
                  <a:lnTo>
                    <a:pt x="33" y="1714"/>
                  </a:lnTo>
                  <a:lnTo>
                    <a:pt x="2096" y="40"/>
                  </a:lnTo>
                  <a:lnTo>
                    <a:pt x="2063" y="0"/>
                  </a:lnTo>
                  <a:lnTo>
                    <a:pt x="0" y="1674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118320" y="3985560"/>
              <a:ext cx="46800" cy="1400400"/>
            </a:xfrm>
            <a:custGeom>
              <a:avLst/>
              <a:gdLst/>
              <a:ahLst/>
              <a:rect l="l" t="t" r="r" b="b"/>
              <a:pathLst>
                <a:path w="75" h="1828">
                  <a:moveTo>
                    <a:pt x="75" y="1"/>
                  </a:moveTo>
                  <a:lnTo>
                    <a:pt x="23" y="0"/>
                  </a:lnTo>
                  <a:lnTo>
                    <a:pt x="0" y="1827"/>
                  </a:lnTo>
                  <a:lnTo>
                    <a:pt x="52" y="1828"/>
                  </a:lnTo>
                  <a:lnTo>
                    <a:pt x="75" y="1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2" name=""/>
            <p:cNvGrpSpPr/>
            <p:nvPr/>
          </p:nvGrpSpPr>
          <p:grpSpPr>
            <a:xfrm>
              <a:off x="2307960" y="2286360"/>
              <a:ext cx="258480" cy="520200"/>
              <a:chOff x="2307960" y="2286360"/>
              <a:chExt cx="258480" cy="520200"/>
            </a:xfrm>
          </p:grpSpPr>
          <p:sp>
            <p:nvSpPr>
              <p:cNvPr id="883" name=""/>
              <p:cNvSpPr/>
              <p:nvPr/>
            </p:nvSpPr>
            <p:spPr>
              <a:xfrm>
                <a:off x="2334960" y="2323080"/>
                <a:ext cx="204840" cy="446040"/>
              </a:xfrm>
              <a:custGeom>
                <a:avLst/>
                <a:gdLst/>
                <a:ahLst/>
                <a:rect l="l" t="t" r="r" b="b"/>
                <a:pathLst>
                  <a:path w="327" h="581">
                    <a:moveTo>
                      <a:pt x="23" y="0"/>
                    </a:moveTo>
                    <a:lnTo>
                      <a:pt x="0" y="12"/>
                    </a:lnTo>
                    <a:lnTo>
                      <a:pt x="304" y="581"/>
                    </a:lnTo>
                    <a:lnTo>
                      <a:pt x="327" y="56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307960" y="2286360"/>
                <a:ext cx="68400" cy="83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498400" y="2723040"/>
                <a:ext cx="68040" cy="83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"/>
            <p:cNvSpPr/>
            <p:nvPr/>
          </p:nvSpPr>
          <p:spPr>
            <a:xfrm>
              <a:off x="2001600" y="2012040"/>
              <a:ext cx="505440" cy="289080"/>
            </a:xfrm>
            <a:prstGeom prst="ellipse">
              <a:avLst/>
            </a:prstGeom>
            <a:noFill/>
            <a:ln w="39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99160" y="2023920"/>
              <a:ext cx="30744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136960" y="2054160"/>
              <a:ext cx="229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333cc"/>
                  </a:solidFill>
                  <a:latin typeface="Times New Roman"/>
                </a:rPr>
                <a:t>Servic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143080" y="216540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3333cc"/>
                  </a:solidFill>
                  <a:latin typeface="Times New Roman"/>
                </a:rPr>
                <a:t>TIERS infogéré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276640" y="2261520"/>
              <a:ext cx="100080" cy="108720"/>
            </a:xfrm>
            <a:custGeom>
              <a:avLst/>
              <a:gdLst/>
              <a:ahLst/>
              <a:rect l="l" t="t" r="r" b="b"/>
              <a:pathLst>
                <a:path w="159" h="144">
                  <a:moveTo>
                    <a:pt x="42" y="0"/>
                  </a:moveTo>
                  <a:lnTo>
                    <a:pt x="0" y="42"/>
                  </a:lnTo>
                  <a:lnTo>
                    <a:pt x="0" y="102"/>
                  </a:lnTo>
                  <a:lnTo>
                    <a:pt x="42" y="144"/>
                  </a:lnTo>
                  <a:lnTo>
                    <a:pt x="117" y="144"/>
                  </a:lnTo>
                  <a:lnTo>
                    <a:pt x="159" y="102"/>
                  </a:lnTo>
                  <a:lnTo>
                    <a:pt x="159" y="42"/>
                  </a:lnTo>
                  <a:lnTo>
                    <a:pt x="117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333cc"/>
            </a:solidFill>
            <a:ln w="39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190560" y="1389600"/>
              <a:ext cx="846000" cy="331200"/>
            </a:xfrm>
            <a:prstGeom prst="ellipse">
              <a:avLst/>
            </a:prstGeom>
            <a:noFill/>
            <a:ln w="39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245640" y="1360800"/>
              <a:ext cx="45216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283440" y="1410840"/>
              <a:ext cx="753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bbe0e3"/>
                  </a:solidFill>
                  <a:latin typeface="Times New Roman"/>
                </a:rPr>
                <a:t>Service externe habilité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32120" y="1226520"/>
              <a:ext cx="367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Services F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4097520" y="1594440"/>
              <a:ext cx="2109960" cy="12870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344400" y="2881800"/>
              <a:ext cx="753120" cy="460080"/>
            </a:xfrm>
            <a:custGeom>
              <a:avLst/>
              <a:gdLst/>
              <a:ahLst/>
              <a:rect l="l" t="t" r="r" b="b"/>
              <a:pathLst>
                <a:path w="645" h="633">
                  <a:moveTo>
                    <a:pt x="645" y="22"/>
                  </a:moveTo>
                  <a:lnTo>
                    <a:pt x="624" y="0"/>
                  </a:lnTo>
                  <a:lnTo>
                    <a:pt x="0" y="611"/>
                  </a:lnTo>
                  <a:lnTo>
                    <a:pt x="22" y="633"/>
                  </a:lnTo>
                  <a:lnTo>
                    <a:pt x="645" y="2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660000" y="1594800"/>
              <a:ext cx="678240" cy="220680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17760" y="3721320"/>
              <a:ext cx="869760" cy="4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25320" y="3797640"/>
              <a:ext cx="1182240" cy="177840"/>
            </a:xfrm>
            <a:prstGeom prst="rect">
              <a:avLst/>
            </a:prstGeom>
            <a:solidFill>
              <a:srgbClr val="cc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0" name=""/>
            <p:cNvGrpSpPr/>
            <p:nvPr/>
          </p:nvGrpSpPr>
          <p:grpSpPr>
            <a:xfrm>
              <a:off x="6885720" y="4077720"/>
              <a:ext cx="417600" cy="754200"/>
              <a:chOff x="6885720" y="4077720"/>
              <a:chExt cx="417600" cy="754200"/>
            </a:xfrm>
          </p:grpSpPr>
          <p:sp>
            <p:nvSpPr>
              <p:cNvPr id="901" name=""/>
              <p:cNvSpPr/>
              <p:nvPr/>
            </p:nvSpPr>
            <p:spPr>
              <a:xfrm>
                <a:off x="6915600" y="4077720"/>
                <a:ext cx="387720" cy="413280"/>
              </a:xfrm>
              <a:custGeom>
                <a:avLst/>
                <a:gdLst/>
                <a:ahLst/>
                <a:rect l="l" t="t" r="r" b="b"/>
                <a:pathLst>
                  <a:path w="494" h="433">
                    <a:moveTo>
                      <a:pt x="494" y="433"/>
                    </a:moveTo>
                    <a:lnTo>
                      <a:pt x="370" y="0"/>
                    </a:lnTo>
                    <a:lnTo>
                      <a:pt x="123" y="0"/>
                    </a:lnTo>
                    <a:lnTo>
                      <a:pt x="0" y="433"/>
                    </a:lnTo>
                    <a:lnTo>
                      <a:pt x="494" y="433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>
                <a:off x="6885720" y="4491000"/>
                <a:ext cx="59400" cy="325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>
                <a:off x="6989040" y="4502880"/>
                <a:ext cx="37080" cy="329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>
                <a:off x="7111440" y="4500720"/>
                <a:ext cx="10440" cy="325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212240" y="4497120"/>
                <a:ext cx="18720" cy="309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6" name=""/>
            <p:cNvSpPr/>
            <p:nvPr/>
          </p:nvSpPr>
          <p:spPr>
            <a:xfrm>
              <a:off x="6978960" y="4208040"/>
              <a:ext cx="2995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036200" y="4253760"/>
              <a:ext cx="18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A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"/>
            <p:cNvGrpSpPr/>
            <p:nvPr/>
          </p:nvGrpSpPr>
          <p:grpSpPr>
            <a:xfrm>
              <a:off x="7583040" y="4069800"/>
              <a:ext cx="419040" cy="754560"/>
              <a:chOff x="7583040" y="4069800"/>
              <a:chExt cx="419040" cy="754560"/>
            </a:xfrm>
          </p:grpSpPr>
          <p:sp>
            <p:nvSpPr>
              <p:cNvPr id="909" name=""/>
              <p:cNvSpPr/>
              <p:nvPr/>
            </p:nvSpPr>
            <p:spPr>
              <a:xfrm>
                <a:off x="7614720" y="4069800"/>
                <a:ext cx="387360" cy="413640"/>
              </a:xfrm>
              <a:custGeom>
                <a:avLst/>
                <a:gdLst/>
                <a:ahLst/>
                <a:rect l="l" t="t" r="r" b="b"/>
                <a:pathLst>
                  <a:path w="494" h="433">
                    <a:moveTo>
                      <a:pt x="494" y="433"/>
                    </a:moveTo>
                    <a:lnTo>
                      <a:pt x="370" y="0"/>
                    </a:lnTo>
                    <a:lnTo>
                      <a:pt x="123" y="0"/>
                    </a:lnTo>
                    <a:lnTo>
                      <a:pt x="0" y="433"/>
                    </a:lnTo>
                    <a:lnTo>
                      <a:pt x="494" y="433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>
                <a:off x="7583040" y="4483440"/>
                <a:ext cx="60840" cy="325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flipH="1">
                <a:off x="7688160" y="4494960"/>
                <a:ext cx="35640" cy="32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flipH="1">
                <a:off x="7809120" y="4493160"/>
                <a:ext cx="10800" cy="327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909920" y="4489200"/>
                <a:ext cx="20160" cy="309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"/>
            <p:cNvSpPr/>
            <p:nvPr/>
          </p:nvSpPr>
          <p:spPr>
            <a:xfrm>
              <a:off x="7675920" y="4200120"/>
              <a:ext cx="2995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733880" y="424620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C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7791840" y="3966480"/>
              <a:ext cx="1440" cy="107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7115400" y="3954600"/>
              <a:ext cx="1080" cy="118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8" name=""/>
            <p:cNvGrpSpPr/>
            <p:nvPr/>
          </p:nvGrpSpPr>
          <p:grpSpPr>
            <a:xfrm>
              <a:off x="7354080" y="3700080"/>
              <a:ext cx="185040" cy="340200"/>
              <a:chOff x="7354080" y="3700080"/>
              <a:chExt cx="185040" cy="340200"/>
            </a:xfrm>
          </p:grpSpPr>
          <p:grpSp>
            <p:nvGrpSpPr>
              <p:cNvPr id="919" name=""/>
              <p:cNvGrpSpPr/>
              <p:nvPr/>
            </p:nvGrpSpPr>
            <p:grpSpPr>
              <a:xfrm>
                <a:off x="7369560" y="3724560"/>
                <a:ext cx="153360" cy="315720"/>
                <a:chOff x="7369560" y="3724560"/>
                <a:chExt cx="153360" cy="3157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7463520" y="3760920"/>
                  <a:ext cx="57600" cy="2793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7372440" y="3724560"/>
                  <a:ext cx="90720" cy="315720"/>
                </a:xfrm>
                <a:custGeom>
                  <a:avLst/>
                  <a:gdLst/>
                  <a:ahLst/>
                  <a:rect l="l" t="t" r="r" b="b"/>
                  <a:pathLst>
                    <a:path w="1000" h="2801">
                      <a:moveTo>
                        <a:pt x="0" y="2130"/>
                      </a:moveTo>
                      <a:lnTo>
                        <a:pt x="1000" y="2801"/>
                      </a:lnTo>
                      <a:lnTo>
                        <a:pt x="1000" y="336"/>
                      </a:lnTo>
                      <a:lnTo>
                        <a:pt x="841" y="216"/>
                      </a:lnTo>
                      <a:lnTo>
                        <a:pt x="0" y="0"/>
                      </a:lnTo>
                      <a:lnTo>
                        <a:pt x="0" y="213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7463520" y="3760920"/>
                  <a:ext cx="56160" cy="32400"/>
                </a:xfrm>
                <a:custGeom>
                  <a:avLst/>
                  <a:gdLst/>
                  <a:ahLst/>
                  <a:rect l="l" t="t" r="r" b="b"/>
                  <a:pathLst>
                    <a:path w="614" h="283">
                      <a:moveTo>
                        <a:pt x="0" y="0"/>
                      </a:moveTo>
                      <a:lnTo>
                        <a:pt x="614" y="0"/>
                      </a:lnTo>
                      <a:lnTo>
                        <a:pt x="614" y="283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7463520" y="3801240"/>
                  <a:ext cx="2772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493400" y="3801240"/>
                  <a:ext cx="2952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7479000" y="3783960"/>
                  <a:ext cx="2772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7507080" y="378180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7462080" y="3781800"/>
                  <a:ext cx="154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7463520" y="376272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7494840" y="376488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7463520" y="383940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7493400" y="383940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7477560" y="3820320"/>
                  <a:ext cx="2916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7507080" y="3820320"/>
                  <a:ext cx="158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7463520" y="382032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7463520" y="387576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493400" y="387576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7477560" y="3856320"/>
                  <a:ext cx="2916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7507080" y="3856320"/>
                  <a:ext cx="158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7463520" y="3856320"/>
                  <a:ext cx="122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7463520" y="391176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7493400" y="391176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7477560" y="3894840"/>
                  <a:ext cx="2772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7507080" y="3892680"/>
                  <a:ext cx="140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7463520" y="389268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7463520" y="395064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7493400" y="3948480"/>
                  <a:ext cx="295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7479000" y="3930840"/>
                  <a:ext cx="2772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7507080" y="3930840"/>
                  <a:ext cx="158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7463520" y="3986640"/>
                  <a:ext cx="2772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7493400" y="398664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7477560" y="3967560"/>
                  <a:ext cx="2916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7507080" y="396756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7463520" y="396756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7463520" y="402300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7493400" y="4023000"/>
                  <a:ext cx="27720" cy="17280"/>
                </a:xfrm>
                <a:prstGeom prst="rect">
                  <a:avLst/>
                </a:pr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477560" y="4003920"/>
                  <a:ext cx="2916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7507080" y="400392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7463520" y="400392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7457040" y="4017240"/>
                  <a:ext cx="6120" cy="20520"/>
                </a:xfrm>
                <a:custGeom>
                  <a:avLst/>
                  <a:gdLst/>
                  <a:ahLst/>
                  <a:rect l="l" t="t" r="r" b="b"/>
                  <a:pathLst>
                    <a:path w="83" h="179">
                      <a:moveTo>
                        <a:pt x="83" y="47"/>
                      </a:moveTo>
                      <a:lnTo>
                        <a:pt x="83" y="179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83" y="4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7432200" y="399600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4" h="306">
                      <a:moveTo>
                        <a:pt x="254" y="173"/>
                      </a:moveTo>
                      <a:lnTo>
                        <a:pt x="254" y="30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254" y="173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7407000" y="397692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3" h="294">
                      <a:moveTo>
                        <a:pt x="253" y="170"/>
                      </a:moveTo>
                      <a:lnTo>
                        <a:pt x="253" y="294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7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7382160" y="39578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88">
                      <a:moveTo>
                        <a:pt x="253" y="165"/>
                      </a:moveTo>
                      <a:lnTo>
                        <a:pt x="253" y="288"/>
                      </a:lnTo>
                      <a:lnTo>
                        <a:pt x="0" y="121"/>
                      </a:lnTo>
                      <a:lnTo>
                        <a:pt x="0" y="0"/>
                      </a:lnTo>
                      <a:lnTo>
                        <a:pt x="253" y="165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7369560" y="3948480"/>
                  <a:ext cx="12600" cy="22680"/>
                </a:xfrm>
                <a:custGeom>
                  <a:avLst/>
                  <a:gdLst/>
                  <a:ahLst/>
                  <a:rect l="l" t="t" r="r" b="b"/>
                  <a:pathLst>
                    <a:path w="125" h="205">
                      <a:moveTo>
                        <a:pt x="125" y="83"/>
                      </a:moveTo>
                      <a:lnTo>
                        <a:pt x="125" y="205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7457040" y="376092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58">
                      <a:moveTo>
                        <a:pt x="83" y="20"/>
                      </a:moveTo>
                      <a:lnTo>
                        <a:pt x="83" y="15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83" y="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7432200" y="375120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4" h="214">
                      <a:moveTo>
                        <a:pt x="254" y="83"/>
                      </a:moveTo>
                      <a:lnTo>
                        <a:pt x="254" y="214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83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7407000" y="374184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9">
                      <a:moveTo>
                        <a:pt x="253" y="83"/>
                      </a:moveTo>
                      <a:lnTo>
                        <a:pt x="253" y="209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7382160" y="373212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6">
                      <a:moveTo>
                        <a:pt x="253" y="83"/>
                      </a:moveTo>
                      <a:lnTo>
                        <a:pt x="252" y="20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7369560" y="37267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59">
                      <a:moveTo>
                        <a:pt x="125" y="36"/>
                      </a:moveTo>
                      <a:lnTo>
                        <a:pt x="125" y="159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125" y="36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7432200" y="378576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30">
                      <a:moveTo>
                        <a:pt x="254" y="96"/>
                      </a:moveTo>
                      <a:lnTo>
                        <a:pt x="254" y="230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7407000" y="377604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3" h="222">
                      <a:moveTo>
                        <a:pt x="253" y="97"/>
                      </a:moveTo>
                      <a:lnTo>
                        <a:pt x="253" y="222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9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7382160" y="376488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18">
                      <a:moveTo>
                        <a:pt x="253" y="95"/>
                      </a:moveTo>
                      <a:lnTo>
                        <a:pt x="253" y="218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9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7369560" y="37591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65">
                      <a:moveTo>
                        <a:pt x="125" y="45"/>
                      </a:moveTo>
                      <a:lnTo>
                        <a:pt x="125" y="165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125" y="4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7457040" y="383544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69">
                      <a:moveTo>
                        <a:pt x="83" y="32"/>
                      </a:moveTo>
                      <a:lnTo>
                        <a:pt x="83" y="169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7432200" y="382212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41">
                      <a:moveTo>
                        <a:pt x="254" y="107"/>
                      </a:moveTo>
                      <a:lnTo>
                        <a:pt x="254" y="241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0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7407000" y="380844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3" h="236">
                      <a:moveTo>
                        <a:pt x="253" y="112"/>
                      </a:moveTo>
                      <a:lnTo>
                        <a:pt x="253" y="23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7382160" y="379728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32">
                      <a:moveTo>
                        <a:pt x="253" y="110"/>
                      </a:moveTo>
                      <a:lnTo>
                        <a:pt x="253" y="23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0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7369560" y="378936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2">
                      <a:moveTo>
                        <a:pt x="125" y="49"/>
                      </a:moveTo>
                      <a:lnTo>
                        <a:pt x="125" y="172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7457040" y="386964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74">
                      <a:moveTo>
                        <a:pt x="79" y="41"/>
                      </a:moveTo>
                      <a:lnTo>
                        <a:pt x="79" y="174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79" y="4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7432200" y="3856320"/>
                  <a:ext cx="23400" cy="28800"/>
                </a:xfrm>
                <a:custGeom>
                  <a:avLst/>
                  <a:gdLst/>
                  <a:ahLst/>
                  <a:rect l="l" t="t" r="r" b="b"/>
                  <a:pathLst>
                    <a:path w="254" h="250">
                      <a:moveTo>
                        <a:pt x="254" y="118"/>
                      </a:moveTo>
                      <a:lnTo>
                        <a:pt x="254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54" y="11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7407000" y="3843360"/>
                  <a:ext cx="23400" cy="26280"/>
                </a:xfrm>
                <a:custGeom>
                  <a:avLst/>
                  <a:gdLst/>
                  <a:ahLst/>
                  <a:rect l="l" t="t" r="r" b="b"/>
                  <a:pathLst>
                    <a:path w="253" h="245">
                      <a:moveTo>
                        <a:pt x="253" y="121"/>
                      </a:moveTo>
                      <a:lnTo>
                        <a:pt x="253" y="24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7382160" y="38275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46">
                      <a:moveTo>
                        <a:pt x="253" y="122"/>
                      </a:moveTo>
                      <a:lnTo>
                        <a:pt x="253" y="24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7369560" y="38221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8">
                      <a:moveTo>
                        <a:pt x="125" y="55"/>
                      </a:moveTo>
                      <a:lnTo>
                        <a:pt x="125" y="178"/>
                      </a:lnTo>
                      <a:lnTo>
                        <a:pt x="0" y="114"/>
                      </a:lnTo>
                      <a:lnTo>
                        <a:pt x="0" y="0"/>
                      </a:lnTo>
                      <a:lnTo>
                        <a:pt x="125" y="5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457040" y="3908160"/>
                  <a:ext cx="6120" cy="19440"/>
                </a:xfrm>
                <a:custGeom>
                  <a:avLst/>
                  <a:gdLst/>
                  <a:ahLst/>
                  <a:rect l="l" t="t" r="r" b="b"/>
                  <a:pathLst>
                    <a:path w="83" h="176">
                      <a:moveTo>
                        <a:pt x="83" y="46"/>
                      </a:moveTo>
                      <a:lnTo>
                        <a:pt x="83" y="17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4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7432200" y="389124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60">
                      <a:moveTo>
                        <a:pt x="254" y="129"/>
                      </a:moveTo>
                      <a:lnTo>
                        <a:pt x="254" y="260"/>
                      </a:lnTo>
                      <a:lnTo>
                        <a:pt x="0" y="132"/>
                      </a:lnTo>
                      <a:lnTo>
                        <a:pt x="0" y="0"/>
                      </a:lnTo>
                      <a:lnTo>
                        <a:pt x="254" y="12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7407000" y="387576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57">
                      <a:moveTo>
                        <a:pt x="253" y="133"/>
                      </a:moveTo>
                      <a:lnTo>
                        <a:pt x="253" y="257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7382160" y="38602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55">
                      <a:moveTo>
                        <a:pt x="253" y="131"/>
                      </a:moveTo>
                      <a:lnTo>
                        <a:pt x="253" y="25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7369560" y="385272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3">
                      <a:moveTo>
                        <a:pt x="125" y="62"/>
                      </a:moveTo>
                      <a:lnTo>
                        <a:pt x="125" y="183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6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7455600" y="394452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2" h="168">
                      <a:moveTo>
                        <a:pt x="82" y="36"/>
                      </a:moveTo>
                      <a:lnTo>
                        <a:pt x="82" y="16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82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7432200" y="392760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78">
                      <a:moveTo>
                        <a:pt x="254" y="144"/>
                      </a:moveTo>
                      <a:lnTo>
                        <a:pt x="254" y="278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7407000" y="391032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70">
                      <a:moveTo>
                        <a:pt x="253" y="144"/>
                      </a:moveTo>
                      <a:lnTo>
                        <a:pt x="253" y="270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7382160" y="38926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6" h="271">
                      <a:moveTo>
                        <a:pt x="256" y="149"/>
                      </a:moveTo>
                      <a:lnTo>
                        <a:pt x="256" y="271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6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7369560" y="388548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7">
                      <a:moveTo>
                        <a:pt x="125" y="65"/>
                      </a:moveTo>
                      <a:lnTo>
                        <a:pt x="125" y="187"/>
                      </a:lnTo>
                      <a:lnTo>
                        <a:pt x="0" y="113"/>
                      </a:lnTo>
                      <a:lnTo>
                        <a:pt x="0" y="0"/>
                      </a:lnTo>
                      <a:lnTo>
                        <a:pt x="125" y="6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7457040" y="398088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92">
                      <a:moveTo>
                        <a:pt x="79" y="52"/>
                      </a:moveTo>
                      <a:lnTo>
                        <a:pt x="79" y="192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79" y="5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7432200" y="396180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89">
                      <a:moveTo>
                        <a:pt x="254" y="155"/>
                      </a:moveTo>
                      <a:lnTo>
                        <a:pt x="254" y="289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5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7407000" y="394452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3" h="283">
                      <a:moveTo>
                        <a:pt x="253" y="158"/>
                      </a:moveTo>
                      <a:lnTo>
                        <a:pt x="253" y="283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7382160" y="39254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76">
                      <a:moveTo>
                        <a:pt x="253" y="153"/>
                      </a:moveTo>
                      <a:lnTo>
                        <a:pt x="253" y="27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53"/>
                      </a:lnTo>
                      <a:close/>
                    </a:path>
                  </a:pathLst>
                </a:custGeom>
                <a:solidFill>
                  <a:srgbClr val="2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7369560" y="391788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94">
                      <a:moveTo>
                        <a:pt x="125" y="71"/>
                      </a:moveTo>
                      <a:lnTo>
                        <a:pt x="125" y="194"/>
                      </a:lnTo>
                      <a:lnTo>
                        <a:pt x="0" y="108"/>
                      </a:lnTo>
                      <a:lnTo>
                        <a:pt x="0" y="0"/>
                      </a:lnTo>
                      <a:lnTo>
                        <a:pt x="125" y="7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7369560" y="3933000"/>
                  <a:ext cx="20520" cy="26640"/>
                </a:xfrm>
                <a:custGeom>
                  <a:avLst/>
                  <a:gdLst/>
                  <a:ahLst/>
                  <a:rect l="l" t="t" r="r" b="b"/>
                  <a:pathLst>
                    <a:path w="209" h="242">
                      <a:moveTo>
                        <a:pt x="209" y="132"/>
                      </a:moveTo>
                      <a:lnTo>
                        <a:pt x="209" y="24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7438320" y="398484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4" h="313">
                      <a:moveTo>
                        <a:pt x="284" y="186"/>
                      </a:moveTo>
                      <a:lnTo>
                        <a:pt x="284" y="313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284" y="18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7414920" y="396756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236" h="279">
                      <a:moveTo>
                        <a:pt x="236" y="148"/>
                      </a:moveTo>
                      <a:lnTo>
                        <a:pt x="236" y="279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4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390080" y="39484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4">
                      <a:moveTo>
                        <a:pt x="248" y="151"/>
                      </a:moveTo>
                      <a:lnTo>
                        <a:pt x="248" y="274"/>
                      </a:lnTo>
                      <a:lnTo>
                        <a:pt x="0" y="112"/>
                      </a:lnTo>
                      <a:lnTo>
                        <a:pt x="0" y="0"/>
                      </a:lnTo>
                      <a:lnTo>
                        <a:pt x="248" y="15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7369560" y="3743640"/>
                  <a:ext cx="20520" cy="21240"/>
                </a:xfrm>
                <a:custGeom>
                  <a:avLst/>
                  <a:gdLst/>
                  <a:ahLst/>
                  <a:rect l="l" t="t" r="r" b="b"/>
                  <a:pathLst>
                    <a:path w="220" h="196">
                      <a:moveTo>
                        <a:pt x="220" y="77"/>
                      </a:moveTo>
                      <a:lnTo>
                        <a:pt x="220" y="196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20" y="7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7414920" y="3762720"/>
                  <a:ext cx="21960" cy="22680"/>
                </a:xfrm>
                <a:custGeom>
                  <a:avLst/>
                  <a:gdLst/>
                  <a:ahLst/>
                  <a:rect l="l" t="t" r="r" b="b"/>
                  <a:pathLst>
                    <a:path w="237" h="218">
                      <a:moveTo>
                        <a:pt x="237" y="84"/>
                      </a:moveTo>
                      <a:lnTo>
                        <a:pt x="237" y="21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7391520" y="375120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49" h="212">
                      <a:moveTo>
                        <a:pt x="249" y="89"/>
                      </a:moveTo>
                      <a:lnTo>
                        <a:pt x="249" y="21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9" y="8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7369560" y="377424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08">
                      <a:moveTo>
                        <a:pt x="220" y="91"/>
                      </a:moveTo>
                      <a:lnTo>
                        <a:pt x="220" y="20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9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7438320" y="380700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9" h="248">
                      <a:moveTo>
                        <a:pt x="279" y="113"/>
                      </a:moveTo>
                      <a:lnTo>
                        <a:pt x="279" y="248"/>
                      </a:lnTo>
                      <a:lnTo>
                        <a:pt x="1" y="132"/>
                      </a:lnTo>
                      <a:lnTo>
                        <a:pt x="0" y="0"/>
                      </a:lnTo>
                      <a:lnTo>
                        <a:pt x="279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7414920" y="3797280"/>
                  <a:ext cx="21960" cy="24480"/>
                </a:xfrm>
                <a:custGeom>
                  <a:avLst/>
                  <a:gdLst/>
                  <a:ahLst/>
                  <a:rect l="l" t="t" r="r" b="b"/>
                  <a:pathLst>
                    <a:path w="237" h="225">
                      <a:moveTo>
                        <a:pt x="237" y="92"/>
                      </a:moveTo>
                      <a:lnTo>
                        <a:pt x="237" y="225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7" y="9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7391520" y="378576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49" h="225">
                      <a:moveTo>
                        <a:pt x="249" y="101"/>
                      </a:moveTo>
                      <a:lnTo>
                        <a:pt x="249" y="225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49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7369560" y="380700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17">
                      <a:moveTo>
                        <a:pt x="220" y="100"/>
                      </a:moveTo>
                      <a:lnTo>
                        <a:pt x="220" y="217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10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7414920" y="3830040"/>
                  <a:ext cx="21960" cy="26280"/>
                </a:xfrm>
                <a:custGeom>
                  <a:avLst/>
                  <a:gdLst/>
                  <a:ahLst/>
                  <a:rect l="l" t="t" r="r" b="b"/>
                  <a:pathLst>
                    <a:path w="237" h="237">
                      <a:moveTo>
                        <a:pt x="237" y="102"/>
                      </a:moveTo>
                      <a:lnTo>
                        <a:pt x="237" y="237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10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7391520" y="381816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49" h="236">
                      <a:moveTo>
                        <a:pt x="249" y="112"/>
                      </a:moveTo>
                      <a:lnTo>
                        <a:pt x="249" y="236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49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7369560" y="383724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2">
                      <a:moveTo>
                        <a:pt x="209" y="103"/>
                      </a:moveTo>
                      <a:lnTo>
                        <a:pt x="209" y="22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0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7438320" y="387756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77">
                      <a:moveTo>
                        <a:pt x="288" y="140"/>
                      </a:moveTo>
                      <a:lnTo>
                        <a:pt x="288" y="277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288" y="140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7414920" y="3864240"/>
                  <a:ext cx="21960" cy="28440"/>
                </a:xfrm>
                <a:custGeom>
                  <a:avLst/>
                  <a:gdLst/>
                  <a:ahLst/>
                  <a:rect l="l" t="t" r="r" b="b"/>
                  <a:pathLst>
                    <a:path w="236" h="250">
                      <a:moveTo>
                        <a:pt x="236" y="113"/>
                      </a:moveTo>
                      <a:lnTo>
                        <a:pt x="236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7390080" y="38491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45">
                      <a:moveTo>
                        <a:pt x="248" y="122"/>
                      </a:moveTo>
                      <a:lnTo>
                        <a:pt x="248" y="245"/>
                      </a:lnTo>
                      <a:lnTo>
                        <a:pt x="0" y="127"/>
                      </a:lnTo>
                      <a:lnTo>
                        <a:pt x="0" y="0"/>
                      </a:lnTo>
                      <a:lnTo>
                        <a:pt x="248" y="12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7369560" y="386964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8">
                      <a:moveTo>
                        <a:pt x="209" y="108"/>
                      </a:moveTo>
                      <a:lnTo>
                        <a:pt x="209" y="22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09" y="10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7438320" y="391392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86">
                      <a:moveTo>
                        <a:pt x="288" y="158"/>
                      </a:moveTo>
                      <a:lnTo>
                        <a:pt x="288" y="28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88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7414920" y="3898440"/>
                  <a:ext cx="21960" cy="28800"/>
                </a:xfrm>
                <a:custGeom>
                  <a:avLst/>
                  <a:gdLst/>
                  <a:ahLst/>
                  <a:rect l="l" t="t" r="r" b="b"/>
                  <a:pathLst>
                    <a:path w="236" h="263">
                      <a:moveTo>
                        <a:pt x="236" y="129"/>
                      </a:moveTo>
                      <a:lnTo>
                        <a:pt x="236" y="263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6" y="129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390080" y="38833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60">
                      <a:moveTo>
                        <a:pt x="248" y="134"/>
                      </a:moveTo>
                      <a:lnTo>
                        <a:pt x="248" y="260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3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7369560" y="3900600"/>
                  <a:ext cx="20520" cy="28440"/>
                </a:xfrm>
                <a:custGeom>
                  <a:avLst/>
                  <a:gdLst/>
                  <a:ahLst/>
                  <a:rect l="l" t="t" r="r" b="b"/>
                  <a:pathLst>
                    <a:path w="209" h="250">
                      <a:moveTo>
                        <a:pt x="209" y="132"/>
                      </a:moveTo>
                      <a:lnTo>
                        <a:pt x="209" y="250"/>
                      </a:lnTo>
                      <a:lnTo>
                        <a:pt x="0" y="126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7438320" y="394848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8" h="305">
                      <a:moveTo>
                        <a:pt x="288" y="169"/>
                      </a:moveTo>
                      <a:lnTo>
                        <a:pt x="288" y="305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88" y="16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7414920" y="3933000"/>
                  <a:ext cx="21960" cy="30240"/>
                </a:xfrm>
                <a:custGeom>
                  <a:avLst/>
                  <a:gdLst/>
                  <a:ahLst/>
                  <a:rect l="l" t="t" r="r" b="b"/>
                  <a:pathLst>
                    <a:path w="236" h="271">
                      <a:moveTo>
                        <a:pt x="236" y="136"/>
                      </a:moveTo>
                      <a:lnTo>
                        <a:pt x="236" y="27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6" y="136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7390080" y="391572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2">
                      <a:moveTo>
                        <a:pt x="248" y="149"/>
                      </a:moveTo>
                      <a:lnTo>
                        <a:pt x="248" y="27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7438320" y="3772080"/>
                  <a:ext cx="25200" cy="26640"/>
                </a:xfrm>
                <a:custGeom>
                  <a:avLst/>
                  <a:gdLst/>
                  <a:ahLst/>
                  <a:rect l="l" t="t" r="r" b="b"/>
                  <a:pathLst>
                    <a:path w="274" h="236">
                      <a:moveTo>
                        <a:pt x="274" y="96"/>
                      </a:moveTo>
                      <a:lnTo>
                        <a:pt x="274" y="23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7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7455600" y="379728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6" h="169">
                      <a:moveTo>
                        <a:pt x="86" y="36"/>
                      </a:moveTo>
                      <a:lnTo>
                        <a:pt x="86" y="169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86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7438320" y="384336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4" h="258">
                      <a:moveTo>
                        <a:pt x="274" y="120"/>
                      </a:moveTo>
                      <a:lnTo>
                        <a:pt x="274" y="258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74" y="1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7463520" y="3930840"/>
                  <a:ext cx="122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8" name=""/>
              <p:cNvGrpSpPr/>
              <p:nvPr/>
            </p:nvGrpSpPr>
            <p:grpSpPr>
              <a:xfrm>
                <a:off x="7354080" y="3700080"/>
                <a:ext cx="185040" cy="64440"/>
                <a:chOff x="7354080" y="3700080"/>
                <a:chExt cx="185040" cy="64440"/>
              </a:xfrm>
            </p:grpSpPr>
            <p:sp>
              <p:nvSpPr>
                <p:cNvPr id="1029" name=""/>
                <p:cNvSpPr/>
                <p:nvPr/>
              </p:nvSpPr>
              <p:spPr>
                <a:xfrm>
                  <a:off x="7354080" y="3700080"/>
                  <a:ext cx="185040" cy="37800"/>
                </a:xfrm>
                <a:custGeom>
                  <a:avLst/>
                  <a:gdLst/>
                  <a:ahLst/>
                  <a:rect l="l" t="t" r="r" b="b"/>
                  <a:pathLst>
                    <a:path w="2021" h="340">
                      <a:moveTo>
                        <a:pt x="0" y="0"/>
                      </a:moveTo>
                      <a:lnTo>
                        <a:pt x="870" y="25"/>
                      </a:lnTo>
                      <a:lnTo>
                        <a:pt x="2021" y="326"/>
                      </a:lnTo>
                      <a:lnTo>
                        <a:pt x="1221" y="3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7466760" y="3736080"/>
                  <a:ext cx="72000" cy="28440"/>
                </a:xfrm>
                <a:custGeom>
                  <a:avLst/>
                  <a:gdLst/>
                  <a:ahLst/>
                  <a:rect l="l" t="t" r="r" b="b"/>
                  <a:pathLst>
                    <a:path w="785" h="257">
                      <a:moveTo>
                        <a:pt x="8" y="1"/>
                      </a:moveTo>
                      <a:lnTo>
                        <a:pt x="785" y="0"/>
                      </a:lnTo>
                      <a:lnTo>
                        <a:pt x="785" y="257"/>
                      </a:lnTo>
                      <a:lnTo>
                        <a:pt x="0" y="257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7354080" y="3700080"/>
                  <a:ext cx="115920" cy="64440"/>
                </a:xfrm>
                <a:custGeom>
                  <a:avLst/>
                  <a:gdLst/>
                  <a:ahLst/>
                  <a:rect l="l" t="t" r="r" b="b"/>
                  <a:pathLst>
                    <a:path w="1248" h="574">
                      <a:moveTo>
                        <a:pt x="0" y="0"/>
                      </a:moveTo>
                      <a:lnTo>
                        <a:pt x="0" y="193"/>
                      </a:lnTo>
                      <a:lnTo>
                        <a:pt x="1248" y="574"/>
                      </a:lnTo>
                      <a:lnTo>
                        <a:pt x="1248" y="3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2" name=""/>
            <p:cNvSpPr/>
            <p:nvPr/>
          </p:nvSpPr>
          <p:spPr>
            <a:xfrm>
              <a:off x="3720960" y="5456880"/>
              <a:ext cx="753480" cy="73548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NS public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« rsv.fr »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55840" y="2973960"/>
              <a:ext cx="1431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Hors marché, contrat ent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restataire Réseau et FAI/OC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719160" y="4997160"/>
              <a:ext cx="59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hez Col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5" name=""/>
            <p:cNvGrpSpPr/>
            <p:nvPr/>
          </p:nvGrpSpPr>
          <p:grpSpPr>
            <a:xfrm>
              <a:off x="7564320" y="4905360"/>
              <a:ext cx="301320" cy="275400"/>
              <a:chOff x="7564320" y="4905360"/>
              <a:chExt cx="301320" cy="275400"/>
            </a:xfrm>
          </p:grpSpPr>
          <p:sp>
            <p:nvSpPr>
              <p:cNvPr id="1036" name=""/>
              <p:cNvSpPr/>
              <p:nvPr/>
            </p:nvSpPr>
            <p:spPr>
              <a:xfrm>
                <a:off x="7639560" y="490536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564320" y="508932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8" name=""/>
            <p:cNvGrpSpPr/>
            <p:nvPr/>
          </p:nvGrpSpPr>
          <p:grpSpPr>
            <a:xfrm>
              <a:off x="5077440" y="4905360"/>
              <a:ext cx="301320" cy="275400"/>
              <a:chOff x="5077440" y="4905360"/>
              <a:chExt cx="301320" cy="275400"/>
            </a:xfrm>
          </p:grpSpPr>
          <p:sp>
            <p:nvSpPr>
              <p:cNvPr id="1039" name=""/>
              <p:cNvSpPr/>
              <p:nvPr/>
            </p:nvSpPr>
            <p:spPr>
              <a:xfrm>
                <a:off x="5152680" y="490536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077440" y="508932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1" name=""/>
            <p:cNvGrpSpPr/>
            <p:nvPr/>
          </p:nvGrpSpPr>
          <p:grpSpPr>
            <a:xfrm>
              <a:off x="6886080" y="4905360"/>
              <a:ext cx="301320" cy="275400"/>
              <a:chOff x="6886080" y="4905360"/>
              <a:chExt cx="301320" cy="275400"/>
            </a:xfrm>
          </p:grpSpPr>
          <p:sp>
            <p:nvSpPr>
              <p:cNvPr id="1042" name=""/>
              <p:cNvSpPr/>
              <p:nvPr/>
            </p:nvSpPr>
            <p:spPr>
              <a:xfrm>
                <a:off x="6961320" y="490536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886080" y="508932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4" name=""/>
            <p:cNvGrpSpPr/>
            <p:nvPr/>
          </p:nvGrpSpPr>
          <p:grpSpPr>
            <a:xfrm>
              <a:off x="5831280" y="4905360"/>
              <a:ext cx="300960" cy="275400"/>
              <a:chOff x="5831280" y="4905360"/>
              <a:chExt cx="300960" cy="275400"/>
            </a:xfrm>
          </p:grpSpPr>
          <p:sp>
            <p:nvSpPr>
              <p:cNvPr id="1045" name=""/>
              <p:cNvSpPr/>
              <p:nvPr/>
            </p:nvSpPr>
            <p:spPr>
              <a:xfrm>
                <a:off x="5906520" y="4905360"/>
                <a:ext cx="22536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831280" y="5089320"/>
                <a:ext cx="300960" cy="91440"/>
              </a:xfrm>
              <a:prstGeom prst="parallelogram">
                <a:avLst>
                  <a:gd name="adj" fmla="val 82283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7" name=""/>
            <p:cNvSpPr/>
            <p:nvPr/>
          </p:nvSpPr>
          <p:spPr>
            <a:xfrm>
              <a:off x="1535760" y="1778400"/>
              <a:ext cx="17064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1535760" y="4905360"/>
              <a:ext cx="300960" cy="275400"/>
              <a:chOff x="1535760" y="4905360"/>
              <a:chExt cx="300960" cy="275400"/>
            </a:xfrm>
          </p:grpSpPr>
          <p:sp>
            <p:nvSpPr>
              <p:cNvPr id="1049" name=""/>
              <p:cNvSpPr/>
              <p:nvPr/>
            </p:nvSpPr>
            <p:spPr>
              <a:xfrm>
                <a:off x="1611000" y="4905360"/>
                <a:ext cx="22536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535760" y="5089320"/>
                <a:ext cx="300960" cy="91440"/>
              </a:xfrm>
              <a:prstGeom prst="parallelogram">
                <a:avLst>
                  <a:gd name="adj" fmla="val 82283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"/>
            <p:cNvGrpSpPr/>
            <p:nvPr/>
          </p:nvGrpSpPr>
          <p:grpSpPr>
            <a:xfrm>
              <a:off x="932400" y="4077720"/>
              <a:ext cx="301320" cy="275400"/>
              <a:chOff x="932400" y="4077720"/>
              <a:chExt cx="301320" cy="275400"/>
            </a:xfrm>
          </p:grpSpPr>
          <p:sp>
            <p:nvSpPr>
              <p:cNvPr id="1052" name=""/>
              <p:cNvSpPr/>
              <p:nvPr/>
            </p:nvSpPr>
            <p:spPr>
              <a:xfrm>
                <a:off x="1007640" y="407772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932400" y="426168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4" name=""/>
            <p:cNvGrpSpPr/>
            <p:nvPr/>
          </p:nvGrpSpPr>
          <p:grpSpPr>
            <a:xfrm>
              <a:off x="1234080" y="4629240"/>
              <a:ext cx="301320" cy="275400"/>
              <a:chOff x="1234080" y="4629240"/>
              <a:chExt cx="301320" cy="275400"/>
            </a:xfrm>
          </p:grpSpPr>
          <p:sp>
            <p:nvSpPr>
              <p:cNvPr id="1055" name=""/>
              <p:cNvSpPr/>
              <p:nvPr/>
            </p:nvSpPr>
            <p:spPr>
              <a:xfrm>
                <a:off x="1309320" y="462924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234080" y="481320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706320" y="3709440"/>
              <a:ext cx="301320" cy="275400"/>
              <a:chOff x="706320" y="3709440"/>
              <a:chExt cx="301320" cy="275400"/>
            </a:xfrm>
          </p:grpSpPr>
          <p:sp>
            <p:nvSpPr>
              <p:cNvPr id="1058" name=""/>
              <p:cNvSpPr/>
              <p:nvPr/>
            </p:nvSpPr>
            <p:spPr>
              <a:xfrm>
                <a:off x="781560" y="370944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06320" y="389340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0" name=""/>
            <p:cNvSpPr/>
            <p:nvPr/>
          </p:nvSpPr>
          <p:spPr>
            <a:xfrm>
              <a:off x="179280" y="4353480"/>
              <a:ext cx="704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accordeme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03200" y="4997160"/>
              <a:ext cx="11239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rofessionnels de sant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Hôpitaux établisseme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e soi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3645360" y="2054160"/>
              <a:ext cx="452160" cy="64368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514960" y="2790360"/>
              <a:ext cx="678240" cy="55152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2062800" y="3341880"/>
              <a:ext cx="1130400" cy="1836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2364480" y="3341880"/>
              <a:ext cx="828720" cy="4593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454360" y="2881800"/>
              <a:ext cx="0" cy="91944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7" name=""/>
          <p:cNvSpPr txBox="1"/>
          <p:nvPr/>
        </p:nvSpPr>
        <p:spPr>
          <a:xfrm>
            <a:off x="6084720" y="2708280"/>
            <a:ext cx="262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NTERNE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68" name=""/>
          <p:cNvSpPr/>
          <p:nvPr/>
        </p:nvSpPr>
        <p:spPr>
          <a:xfrm>
            <a:off x="8604360" y="907200"/>
            <a:ext cx="53964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143A-D487-4E70-A738-EF1858A7F3A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.2.2) Le transport : les chemins</a:t>
            </a:r>
            <a:br>
              <a:rPr sz="3600"/>
            </a:br>
            <a:r>
              <a:rPr b="1" lang="en-US" sz="2800" spc="-1" strike="noStrike">
                <a:solidFill>
                  <a:srgbClr val="66b800"/>
                </a:solidFill>
                <a:latin typeface="Arial"/>
              </a:rPr>
              <a:t>Un VPN sur internet</a:t>
            </a:r>
            <a:endParaRPr b="1" lang="en-US" sz="2800" spc="-1" strike="noStrike">
              <a:solidFill>
                <a:srgbClr val="66b800"/>
              </a:solidFill>
              <a:latin typeface="Arial"/>
            </a:endParaRPr>
          </a:p>
        </p:txBody>
      </p:sp>
      <p:pic>
        <p:nvPicPr>
          <p:cNvPr id="1071" name="" descr=""/>
          <p:cNvPicPr/>
          <p:nvPr/>
        </p:nvPicPr>
        <p:blipFill>
          <a:blip r:embed="rId2"/>
          <a:stretch/>
        </p:blipFill>
        <p:spPr>
          <a:xfrm>
            <a:off x="2340000" y="1309680"/>
            <a:ext cx="4464000" cy="423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7D5A-8306-4BAD-AAA8-78DA8C32CC6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VPN protège les éléments transportés contre l’écoute. (confidentialité) </a:t>
            </a:r>
            <a:r>
              <a:rPr b="0" lang="fr-FR" sz="2400" spc="-1" strike="noStrike">
                <a:solidFill>
                  <a:srgbClr val="009900"/>
                </a:solidFill>
                <a:latin typeface="Arial"/>
              </a:rPr>
              <a:t>(non écoutab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ermet tout flux TCP/IP, de plus ,</a:t>
            </a:r>
            <a:r>
              <a:rPr b="0" lang="fr-FR" sz="2400" spc="-1" strike="noStrike">
                <a:solidFill>
                  <a:srgbClr val="009900"/>
                </a:solidFill>
                <a:latin typeface="Arial"/>
              </a:rPr>
              <a:t> tout flux passe par un centre de service qui autorise selon une grille d’autorisation matricielle l’échange entre 2 points du VP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part son implémentation, Il garantit que la MDPH est le dernier dépositaire du flux avant son émission vers la CN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authentification de l’expéditeur doit être garantie par d’autres moyens (log-in, authentification par clé USB ou par carte.)  </a:t>
            </a:r>
            <a:r>
              <a:rPr b="0" lang="fr-FR" sz="2400" spc="-1" strike="noStrike">
                <a:solidFill>
                  <a:srgbClr val="cc3300"/>
                </a:solidFill>
                <a:latin typeface="Arial"/>
              </a:rPr>
              <a:t>(nécessite un moyen annexe d’authentification et/ou de signature pour les flux asynchrones « SMTP, FTP, Etc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00"/>
                </a:solidFill>
                <a:latin typeface="Arial"/>
              </a:rPr>
              <a:t>La robustesse est celle d’un réseau privé (débit garant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00"/>
                </a:solidFill>
                <a:latin typeface="Arial"/>
              </a:rPr>
              <a:t>Solution économique si l’on utilise un VPN exis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title"/>
          </p:nvPr>
        </p:nvSpPr>
        <p:spPr>
          <a:xfrm>
            <a:off x="39492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.2.2) Le transport : les chemins</a:t>
            </a:r>
            <a:br>
              <a:rPr sz="3600"/>
            </a:b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Un VPN sur internet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4DFC-B31C-40DA-8512-BF5D0F9EC2B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65116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.2.3) Le transport : les chemins</a:t>
            </a:r>
            <a:br>
              <a:rPr sz="3600"/>
            </a:b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transport sur internet sans VPN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pic>
        <p:nvPicPr>
          <p:cNvPr id="1076" name="" descr=""/>
          <p:cNvPicPr/>
          <p:nvPr/>
        </p:nvPicPr>
        <p:blipFill>
          <a:blip r:embed="rId2"/>
          <a:stretch/>
        </p:blipFill>
        <p:spPr>
          <a:xfrm>
            <a:off x="1835280" y="1916280"/>
            <a:ext cx="4752720" cy="3566880"/>
          </a:xfrm>
          <a:prstGeom prst="rect">
            <a:avLst/>
          </a:prstGeom>
          <a:ln w="0">
            <a:noFill/>
          </a:ln>
        </p:spPr>
      </p:pic>
      <p:sp>
        <p:nvSpPr>
          <p:cNvPr id="1077" name=""/>
          <p:cNvSpPr/>
          <p:nvPr/>
        </p:nvSpPr>
        <p:spPr>
          <a:xfrm>
            <a:off x="383040" y="5392800"/>
            <a:ext cx="725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’est alors les outils de scellage et d’achemin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 se chargent de la sécu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8184-D951-4048-A9C7-BC11C366735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.3) Le transport :  Les véhicules </a:t>
            </a:r>
            <a:br>
              <a:rPr sz="3600"/>
            </a:b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(les technologies d’échange)</a:t>
            </a:r>
            <a:br>
              <a:rPr sz="3600"/>
            </a:b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Presto une norme interopérable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D2EA-B4CA-4141-939E-C800088ACD5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Contexte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78920" y="3213000"/>
            <a:ext cx="807588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marL="36576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520" indent="-36576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TO est une enveloppe de transport pour l’échange de documents électroniques entre SI d’administ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79280" y="907920"/>
            <a:ext cx="2160720" cy="11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PES HEL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79280" y="1698480"/>
            <a:ext cx="216072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6f00"/>
              </a:gs>
              <a:gs pos="50000">
                <a:srgbClr val="ff9900"/>
              </a:gs>
              <a:gs pos="100000">
                <a:srgbClr val="b96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de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6948360" y="1413000"/>
            <a:ext cx="2195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tocole propriét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de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eS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u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411280" y="907920"/>
            <a:ext cx="2160720" cy="11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métier AC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2411280" y="1698480"/>
            <a:ext cx="216072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de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643280" y="909720"/>
            <a:ext cx="2160720" cy="1149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99"/>
              </a:gs>
              <a:gs pos="100000">
                <a:srgbClr val="75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mét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écif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643280" y="1700280"/>
            <a:ext cx="216072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4646"/>
              </a:gs>
              <a:gs pos="50000">
                <a:srgbClr val="ff9999"/>
              </a:gs>
              <a:gs pos="100000">
                <a:srgbClr val="75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de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écif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6804000" y="1557360"/>
            <a:ext cx="144360" cy="1366920"/>
          </a:xfrm>
          <a:custGeom>
            <a:avLst/>
            <a:gdLst>
              <a:gd name="textAreaLeft" fmla="*/ 92160 w 144360"/>
              <a:gd name="textAreaRight" fmla="*/ 144360 w 14436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539640" y="4292640"/>
            <a:ext cx="2160720" cy="11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PES HEL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771640" y="4292640"/>
            <a:ext cx="2160720" cy="11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métier AC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5003640" y="4294080"/>
            <a:ext cx="2160720" cy="11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99"/>
              </a:gs>
              <a:gs pos="100000">
                <a:srgbClr val="75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mét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écif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539640" y="5156280"/>
            <a:ext cx="662472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4" name="" descr=""/>
          <p:cNvPicPr/>
          <p:nvPr/>
        </p:nvPicPr>
        <p:blipFill>
          <a:blip r:embed="rId1"/>
          <a:stretch/>
        </p:blipFill>
        <p:spPr>
          <a:xfrm>
            <a:off x="3274920" y="5300640"/>
            <a:ext cx="1152720" cy="493560"/>
          </a:xfrm>
          <a:prstGeom prst="rect">
            <a:avLst/>
          </a:prstGeom>
          <a:ln w="0">
            <a:noFill/>
          </a:ln>
        </p:spPr>
      </p:pic>
      <p:sp>
        <p:nvSpPr>
          <p:cNvPr id="1095" name=""/>
          <p:cNvSpPr/>
          <p:nvPr/>
        </p:nvSpPr>
        <p:spPr>
          <a:xfrm>
            <a:off x="7164360" y="5229360"/>
            <a:ext cx="144360" cy="57600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000"/>
              <a:gd name="textAreaBottom" fmla="*/ 56124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236000" y="5229360"/>
            <a:ext cx="21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cole standard réutilis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D429-750B-4B5C-87D5-CD952AC2A4A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Périmètre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4313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Échanges point à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tifs d’échange suppor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-25596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voi simple (one way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voi sans attente de réponse.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voi de dossier et traitement ultéri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-25596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quête/Répons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as où l’émetteur reste en attente d’un message en ré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9" name=""/>
          <p:cNvGraphicFramePr/>
          <p:nvPr/>
        </p:nvGraphicFramePr>
        <p:xfrm>
          <a:off x="5183280" y="1628640"/>
          <a:ext cx="3960720" cy="19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3280" y="1628640"/>
                    <a:ext cx="3960720" cy="19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1" name=""/>
          <p:cNvGraphicFramePr/>
          <p:nvPr/>
        </p:nvGraphicFramePr>
        <p:xfrm>
          <a:off x="5181480" y="3645000"/>
          <a:ext cx="3962520" cy="195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3645000"/>
                    <a:ext cx="3962520" cy="19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1C32-FCE2-4D88-A602-3C30FED5993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2842920" y="18864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Périmètre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324000" y="620280"/>
            <a:ext cx="75578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et le routage des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et de décrire les capacités du destina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sation du transport de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XML, PDF, scanné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abilité de la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message transmis arrive exactement 1 f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stion des acquittements de réception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écurité au niveau du message (utilisation optionnel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égrité du message (signature par l’émetteur PRES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dentialité du message (chiffr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806C-59CA-415A-A492-86077D05FEF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2700000" y="18864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Principes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dépen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is-à-vis du protocole métier : les données transportées sont opa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is-à-vis des technologies support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ensi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sibilité de définir un canal PRESTO offrant différents niveaux d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sibilité d’ajout de nouveaux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spect des normes et standards ouverts internatio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eb Services du W3C et O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isa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ESTO s’inspire en grande partie du profil WS-RAMP développé par IBM pour l’industrie automobile américa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synchrone : WS-Addressing  / Optimisation : MTOM/X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iabilité : WS-ReliableMess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écurité du message : WS-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6E3C-95B7-477D-9586-4FECB9E4500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b800"/>
                </a:solidFill>
                <a:latin typeface="Arial"/>
              </a:rPr>
              <a:t>Ordre du Jour</a:t>
            </a:r>
            <a:endParaRPr b="1" lang="en-US" sz="33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475920"/>
            <a:ext cx="8604360" cy="53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Ordre du Jour (sui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2) Trois  exemples de flux d’é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2.1) un flux à vocation pilo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2.2) un flux univoque à vocation opér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2.3) un flux bilatéral à vocation opér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3) Technologies de trans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3.1) Principes techn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3.2.1) Le transport : les chemins un VPN privé : Exemple le Réseau SESAM-Vit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3.2.2) Le transport : les chemins Un VPN sur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3.2.3) Le transport : les chemins transport sur internet sans VP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8A7E-653A-4B28-AFFA-B4DDC9D3C46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7" name=""/>
          <p:cNvGraphicFramePr/>
          <p:nvPr/>
        </p:nvGraphicFramePr>
        <p:xfrm>
          <a:off x="2771640" y="3933720"/>
          <a:ext cx="2519640" cy="120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933720"/>
                    <a:ext cx="251964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9" name=""/>
          <p:cNvGraphicFramePr/>
          <p:nvPr/>
        </p:nvGraphicFramePr>
        <p:xfrm>
          <a:off x="6300720" y="1003320"/>
          <a:ext cx="2519280" cy="120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0720" y="1003320"/>
                    <a:ext cx="251928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1" name=""/>
          <p:cNvGraphicFramePr/>
          <p:nvPr/>
        </p:nvGraphicFramePr>
        <p:xfrm>
          <a:off x="250920" y="3460680"/>
          <a:ext cx="2351160" cy="112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3460680"/>
                    <a:ext cx="235116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3" name=""/>
          <p:cNvGraphicFramePr/>
          <p:nvPr/>
        </p:nvGraphicFramePr>
        <p:xfrm>
          <a:off x="3924360" y="795240"/>
          <a:ext cx="2351160" cy="112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4360" y="795240"/>
                    <a:ext cx="2351160" cy="11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5" name=""/>
          <p:cNvSpPr/>
          <p:nvPr/>
        </p:nvSpPr>
        <p:spPr>
          <a:xfrm>
            <a:off x="324000" y="4941720"/>
            <a:ext cx="4824360" cy="43200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Exemples de mise en œuvre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graphicFrame>
        <p:nvGraphicFramePr>
          <p:cNvPr id="1117" name=""/>
          <p:cNvGraphicFramePr/>
          <p:nvPr/>
        </p:nvGraphicFramePr>
        <p:xfrm>
          <a:off x="755640" y="1125360"/>
          <a:ext cx="1181160" cy="1036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5640" y="1125360"/>
                    <a:ext cx="118116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9" name=""/>
          <p:cNvGraphicFramePr/>
          <p:nvPr/>
        </p:nvGraphicFramePr>
        <p:xfrm>
          <a:off x="2052720" y="1125360"/>
          <a:ext cx="1198440" cy="1041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2720" y="1125360"/>
                    <a:ext cx="119844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1" name=""/>
          <p:cNvSpPr/>
          <p:nvPr/>
        </p:nvSpPr>
        <p:spPr>
          <a:xfrm>
            <a:off x="543960" y="263052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égré à des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691160" y="2630520"/>
            <a:ext cx="44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sation de plates-formes d’échange ou de messagerie inter applic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755640" y="5516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mple d’intégration avec un tiers de télé transmission utilisé par le SI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6734880" y="4292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324000" y="2062080"/>
            <a:ext cx="3743280" cy="43200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6" name="" descr=""/>
          <p:cNvPicPr/>
          <p:nvPr/>
        </p:nvPicPr>
        <p:blipFill>
          <a:blip r:embed="rId13"/>
          <a:stretch/>
        </p:blipFill>
        <p:spPr>
          <a:xfrm>
            <a:off x="1692360" y="2133720"/>
            <a:ext cx="668160" cy="28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7" name=""/>
          <p:cNvGraphicFramePr/>
          <p:nvPr/>
        </p:nvGraphicFramePr>
        <p:xfrm>
          <a:off x="5148360" y="1630440"/>
          <a:ext cx="1108080" cy="503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2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148360" y="1630440"/>
                    <a:ext cx="11080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9" name=""/>
          <p:cNvSpPr/>
          <p:nvPr/>
        </p:nvSpPr>
        <p:spPr>
          <a:xfrm>
            <a:off x="4427640" y="2060640"/>
            <a:ext cx="4465440" cy="43164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0" name="" descr=""/>
          <p:cNvPicPr/>
          <p:nvPr/>
        </p:nvPicPr>
        <p:blipFill>
          <a:blip r:embed="rId16"/>
          <a:stretch/>
        </p:blipFill>
        <p:spPr>
          <a:xfrm>
            <a:off x="6516720" y="2131920"/>
            <a:ext cx="668160" cy="28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1" name=""/>
          <p:cNvGraphicFramePr/>
          <p:nvPr/>
        </p:nvGraphicFramePr>
        <p:xfrm>
          <a:off x="828720" y="4367160"/>
          <a:ext cx="1073160" cy="811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3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28720" y="4367160"/>
                    <a:ext cx="107316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3" name="" descr=""/>
          <p:cNvPicPr/>
          <p:nvPr/>
        </p:nvPicPr>
        <p:blipFill>
          <a:blip r:embed="rId19"/>
          <a:stretch/>
        </p:blipFill>
        <p:spPr>
          <a:xfrm>
            <a:off x="2195640" y="5013360"/>
            <a:ext cx="668160" cy="28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A17B-2FE6-403B-AAC4-FF6390BEA36B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/>
          <p:nvPr/>
        </p:nvSpPr>
        <p:spPr>
          <a:xfrm>
            <a:off x="-720" y="333360"/>
            <a:ext cx="893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4) L’Etude des moyens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d’anonymisation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lorsque nécessa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des données échangées entre la CNSA et ses parten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70640" y="1125360"/>
            <a:ext cx="7677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ette étude portera en particulier sur la réutilisation et l’intég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 modules d’anonymisation développés en Assurance Malad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t dénommés «foins » ou d’autres processus d’anonym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0080" y="2133720"/>
            <a:ext cx="8710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«Art.. 40-12. – Les données issues des systèmes d’information visés 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’article L.710-6 du code de la santé publique, celles issues des doss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édicaux détenus dans le cadre de l’exercice libéral des profession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nté, ainsi que celles issues des systèmes d’information des cai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’assurance maladie, ne peuvent être communiquées à des fins statist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’évaluation ou d’analyse des pratiques et des activités de soins et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évention que sous la forme de statistiques agrégées ou de données p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tient constituées de telle sorte que les personnes concernées ne puis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être identifié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ême si il ne s’agit de données purement médicales, le même principe s’appliqu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entre la MDPH et la CN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a solution proposée : FOIN (Fonction d’Occultation d’Identifiants Nominatif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E1A9-54AD-4DDD-8D72-5729445BCC2E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4)FOIN (Fonction d’Occultation d’Identifiants Nominatifs) (suite)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pic>
        <p:nvPicPr>
          <p:cNvPr id="1138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4419720" cy="5265720"/>
          </a:xfrm>
          <a:prstGeom prst="rect">
            <a:avLst/>
          </a:prstGeom>
          <a:ln w="0">
            <a:noFill/>
          </a:ln>
        </p:spPr>
      </p:pic>
      <p:sp>
        <p:nvSpPr>
          <p:cNvPr id="1139" name=""/>
          <p:cNvSpPr/>
          <p:nvPr/>
        </p:nvSpPr>
        <p:spPr>
          <a:xfrm>
            <a:off x="5148360" y="1052640"/>
            <a:ext cx="381636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s fonctions d’anonymisation sont développées en langage C et sont livrées sous f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’obj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Elles doivent être intégrées dans un logiciel qui effectue la sélection et le contrôle des informations nominatives, directes ou indirectes, à rendre anon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Une documentation d’intégration, précisant le nom de chaque fonction nécessaire et l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aramètres d’appel, est fournie avec chaque objet livr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9A9B-F2A6-4115-982F-6FC9B17ED264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4)FOIN (Fonction d’Occultation d’Identifiants Nominatifs) (suite)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755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onction élaborée intègre les notions et propriétés suivant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8604360" y="907200"/>
            <a:ext cx="53964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3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7370640" cy="382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4B04-4B91-4861-BAE0-E07C56BD76E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5)Formats de fichiers et Entêtes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8604360" y="907200"/>
            <a:ext cx="53964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667440" y="639720"/>
            <a:ext cx="558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chiers pla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chiers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chiers XML intégrant des fichiers pl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0496-16FB-4219-99EC-D9DC41AF730F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/>
          </p:nvPr>
        </p:nvSpPr>
        <p:spPr>
          <a:xfrm>
            <a:off x="826560" y="13410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Merci de votre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946D-9804-45E8-A740-649A9B36EC8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b800"/>
                </a:solidFill>
                <a:latin typeface="Arial"/>
              </a:rPr>
              <a:t>Ordre du Jour</a:t>
            </a:r>
            <a:endParaRPr b="1" lang="en-US" sz="33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549000"/>
            <a:ext cx="8604360" cy="53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Ordre du Jour (su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3.3) Le transport :  Les véhicules (les technologies d’échange) Presto une norme interopé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4) L’Etude des moyens d’anonymisation lorsque nécessaire des données échangées entre la CNSA et ses parten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5)Formats de fichiers et Entê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F08A-3B4E-4239-A22C-932A1FDEE50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Les échanges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000" y="2492280"/>
            <a:ext cx="1081080" cy="216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20000" y="2492280"/>
            <a:ext cx="647640" cy="1081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ond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mpens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172360" y="2421000"/>
            <a:ext cx="86364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PAIERIE</a:t>
            </a:r>
            <a:br>
              <a:rPr sz="1400"/>
            </a:b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D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>
            <a:stCxn id="106" idx="3"/>
            <a:endCxn id="107" idx="1"/>
          </p:cNvCxnSpPr>
          <p:nvPr/>
        </p:nvCxnSpPr>
        <p:spPr>
          <a:xfrm flipV="1">
            <a:off x="7667640" y="2744280"/>
            <a:ext cx="505440" cy="289440"/>
          </a:xfrm>
          <a:prstGeom prst="straightConnector1">
            <a:avLst/>
          </a:prstGeom>
          <a:ln w="34920">
            <a:solidFill>
              <a:srgbClr val="0000ff"/>
            </a:solidFill>
            <a:prstDash val="sysDot"/>
            <a:miter/>
            <a:tailEnd len="lg" type="triangle" w="sm"/>
          </a:ln>
        </p:spPr>
      </p:cxnSp>
      <p:sp>
        <p:nvSpPr>
          <p:cNvPr id="109" name=""/>
          <p:cNvSpPr/>
          <p:nvPr/>
        </p:nvSpPr>
        <p:spPr>
          <a:xfrm>
            <a:off x="5003640" y="2492280"/>
            <a:ext cx="648000" cy="100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res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3645000"/>
            <a:ext cx="648000" cy="100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ri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5372280"/>
            <a:ext cx="1150920" cy="72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Inspection</a:t>
            </a:r>
            <a:br>
              <a:rPr sz="1400"/>
            </a:b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Académ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/>
          <p:nvPr/>
        </p:nvCxnSpPr>
        <p:spPr>
          <a:xfrm flipH="1">
            <a:off x="4427280" y="4653000"/>
            <a:ext cx="900720" cy="937440"/>
          </a:xfrm>
          <a:prstGeom prst="straightConnector1">
            <a:avLst/>
          </a:prstGeom>
          <a:ln w="34920">
            <a:solidFill>
              <a:srgbClr val="000080"/>
            </a:solidFill>
            <a:prstDash val="sysDot"/>
            <a:miter/>
            <a:tailEnd len="lg" type="triangle" w="sm"/>
          </a:ln>
        </p:spPr>
      </p:cxnSp>
      <p:cxnSp>
        <p:nvCxnSpPr>
          <p:cNvPr id="113" name=""/>
          <p:cNvCxnSpPr>
            <a:endCxn id="114" idx="3"/>
          </p:cNvCxnSpPr>
          <p:nvPr/>
        </p:nvCxnSpPr>
        <p:spPr>
          <a:xfrm flipH="1">
            <a:off x="3201120" y="4149360"/>
            <a:ext cx="1770840" cy="864360"/>
          </a:xfrm>
          <a:prstGeom prst="straightConnector1">
            <a:avLst/>
          </a:prstGeom>
          <a:ln w="34920">
            <a:solidFill>
              <a:srgbClr val="0000ff"/>
            </a:solidFill>
            <a:prstDash val="sysDot"/>
            <a:miter/>
            <a:tailEnd len="lg" type="triangle" w="sm"/>
          </a:ln>
        </p:spPr>
      </p:cxnSp>
      <p:sp>
        <p:nvSpPr>
          <p:cNvPr id="115" name=""/>
          <p:cNvSpPr/>
          <p:nvPr/>
        </p:nvSpPr>
        <p:spPr>
          <a:xfrm>
            <a:off x="684360" y="4076640"/>
            <a:ext cx="1150920" cy="72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AN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0" idx="1"/>
            <a:endCxn id="115" idx="3"/>
          </p:cNvCxnSpPr>
          <p:nvPr/>
        </p:nvCxnSpPr>
        <p:spPr>
          <a:xfrm flipH="1">
            <a:off x="1834560" y="4149720"/>
            <a:ext cx="3169080" cy="288000"/>
          </a:xfrm>
          <a:prstGeom prst="straightConnector1">
            <a:avLst/>
          </a:prstGeom>
          <a:ln w="34920">
            <a:solidFill>
              <a:srgbClr val="333399"/>
            </a:solidFill>
            <a:prstDash val="sysDot"/>
            <a:miter/>
            <a:tailEnd len="lg" type="triangle" w="sm"/>
          </a:ln>
        </p:spPr>
      </p:cxnSp>
      <p:sp>
        <p:nvSpPr>
          <p:cNvPr id="117" name=""/>
          <p:cNvSpPr/>
          <p:nvPr/>
        </p:nvSpPr>
        <p:spPr>
          <a:xfrm>
            <a:off x="4643280" y="5229360"/>
            <a:ext cx="936720" cy="2887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col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32000" y="4221000"/>
            <a:ext cx="1224000" cy="36216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ofessionn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84360" y="4221000"/>
            <a:ext cx="503280" cy="2160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RQ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19640" y="4797360"/>
            <a:ext cx="502920" cy="2160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RQ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3139920"/>
            <a:ext cx="1150920" cy="72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E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Medico-S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stCxn id="110" idx="1"/>
          </p:cNvCxnSpPr>
          <p:nvPr/>
        </p:nvCxnSpPr>
        <p:spPr>
          <a:xfrm flipH="1" flipV="1">
            <a:off x="1763280" y="3499920"/>
            <a:ext cx="3240720" cy="65016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</p:cxnSp>
      <p:sp>
        <p:nvSpPr>
          <p:cNvPr id="123" name=""/>
          <p:cNvSpPr/>
          <p:nvPr/>
        </p:nvSpPr>
        <p:spPr>
          <a:xfrm>
            <a:off x="684360" y="2276640"/>
            <a:ext cx="115092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CP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10" idx="1"/>
          </p:cNvCxnSpPr>
          <p:nvPr/>
        </p:nvCxnSpPr>
        <p:spPr>
          <a:xfrm flipH="1" flipV="1">
            <a:off x="1834560" y="2636640"/>
            <a:ext cx="3169080" cy="15134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</p:cxnSp>
      <p:sp>
        <p:nvSpPr>
          <p:cNvPr id="125" name=""/>
          <p:cNvSpPr/>
          <p:nvPr/>
        </p:nvSpPr>
        <p:spPr>
          <a:xfrm>
            <a:off x="2411280" y="3284640"/>
            <a:ext cx="1224000" cy="36180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Vers E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1700280"/>
            <a:ext cx="115092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M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1700280"/>
            <a:ext cx="115092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C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09" idx="1"/>
          </p:cNvCxnSpPr>
          <p:nvPr/>
        </p:nvCxnSpPr>
        <p:spPr>
          <a:xfrm flipH="1" flipV="1">
            <a:off x="2700000" y="2420280"/>
            <a:ext cx="2304000" cy="57708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</p:cxnSp>
      <p:cxnSp>
        <p:nvCxnSpPr>
          <p:cNvPr id="129" name=""/>
          <p:cNvCxnSpPr>
            <a:stCxn id="109" idx="1"/>
            <a:endCxn id="127" idx="2"/>
          </p:cNvCxnSpPr>
          <p:nvPr/>
        </p:nvCxnSpPr>
        <p:spPr>
          <a:xfrm flipH="1" flipV="1">
            <a:off x="4140000" y="2420280"/>
            <a:ext cx="864000" cy="57708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</p:cxnSp>
      <p:sp>
        <p:nvSpPr>
          <p:cNvPr id="130" name=""/>
          <p:cNvSpPr/>
          <p:nvPr/>
        </p:nvSpPr>
        <p:spPr>
          <a:xfrm>
            <a:off x="3708360" y="2492280"/>
            <a:ext cx="503280" cy="2160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2637000"/>
            <a:ext cx="503280" cy="21564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EE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48360" y="1268280"/>
            <a:ext cx="2448000" cy="72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Dépar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32" idx="2"/>
            <a:endCxn id="105" idx="0"/>
          </p:cNvCxnSpPr>
          <p:nvPr/>
        </p:nvCxnSpPr>
        <p:spPr>
          <a:xfrm flipH="1">
            <a:off x="6336720" y="1989000"/>
            <a:ext cx="35640" cy="504000"/>
          </a:xfrm>
          <a:prstGeom prst="straightConnector1">
            <a:avLst/>
          </a:prstGeom>
          <a:ln w="34920">
            <a:solidFill>
              <a:srgbClr val="800000"/>
            </a:solidFill>
            <a:miter/>
            <a:headEnd len="med" type="triangle" w="med"/>
            <a:tailEnd len="lg" type="triangle" w="sm"/>
          </a:ln>
        </p:spPr>
      </p:cxnSp>
      <p:sp>
        <p:nvSpPr>
          <p:cNvPr id="134" name=""/>
          <p:cNvSpPr/>
          <p:nvPr/>
        </p:nvSpPr>
        <p:spPr>
          <a:xfrm>
            <a:off x="6300720" y="5156280"/>
            <a:ext cx="358920" cy="0"/>
          </a:xfrm>
          <a:prstGeom prst="line">
            <a:avLst/>
          </a:prstGeom>
          <a:ln w="34920">
            <a:solidFill>
              <a:srgbClr val="0000ff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77080" y="5013360"/>
            <a:ext cx="934920" cy="28728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ush sans N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00720" y="5516640"/>
            <a:ext cx="358920" cy="0"/>
          </a:xfrm>
          <a:prstGeom prst="line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77080" y="5373720"/>
            <a:ext cx="1871640" cy="28728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ush avec NIR organisme autoris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00720" y="6093000"/>
            <a:ext cx="358920" cy="0"/>
          </a:xfrm>
          <a:prstGeom prst="line">
            <a:avLst/>
          </a:prstGeom>
          <a:ln w="3492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77080" y="5950080"/>
            <a:ext cx="1871640" cy="28728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change de données en mod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Push  ou Pu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24360" y="2133720"/>
            <a:ext cx="503280" cy="21564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89800" y="2133720"/>
            <a:ext cx="503280" cy="21564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C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59280" y="765000"/>
            <a:ext cx="3024360" cy="2232360"/>
          </a:xfrm>
          <a:prstGeom prst="ellipse">
            <a:avLst/>
          </a:prstGeom>
          <a:noFill/>
          <a:ln cap="rnd" w="349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028000" y="4005360"/>
            <a:ext cx="792000" cy="718920"/>
          </a:xfrm>
          <a:prstGeom prst="can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N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0800000">
            <a:off x="6948000" y="4220640"/>
            <a:ext cx="1079640" cy="36036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ertif N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endCxn id="126" idx="2"/>
          </p:cNvCxnSpPr>
          <p:nvPr/>
        </p:nvCxnSpPr>
        <p:spPr>
          <a:xfrm flipH="1" flipV="1">
            <a:off x="2700360" y="2420640"/>
            <a:ext cx="2230920" cy="17294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</p:cxnSp>
      <p:sp>
        <p:nvSpPr>
          <p:cNvPr id="146" name=""/>
          <p:cNvSpPr/>
          <p:nvPr/>
        </p:nvSpPr>
        <p:spPr>
          <a:xfrm>
            <a:off x="611280" y="5084640"/>
            <a:ext cx="1150920" cy="72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CAP EMPLO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10" idx="1"/>
            <a:endCxn id="146" idx="3"/>
          </p:cNvCxnSpPr>
          <p:nvPr/>
        </p:nvCxnSpPr>
        <p:spPr>
          <a:xfrm flipH="1">
            <a:off x="1761840" y="4149720"/>
            <a:ext cx="3242160" cy="1296000"/>
          </a:xfrm>
          <a:prstGeom prst="straightConnector1">
            <a:avLst/>
          </a:prstGeom>
          <a:ln w="34920">
            <a:solidFill>
              <a:srgbClr val="0000ff"/>
            </a:solidFill>
            <a:prstDash val="sysDot"/>
            <a:miter/>
            <a:tailEnd len="lg" type="triangle" w="sm"/>
          </a:ln>
        </p:spPr>
      </p:cxnSp>
      <p:sp>
        <p:nvSpPr>
          <p:cNvPr id="114" name=""/>
          <p:cNvSpPr/>
          <p:nvPr/>
        </p:nvSpPr>
        <p:spPr>
          <a:xfrm>
            <a:off x="2050920" y="4653000"/>
            <a:ext cx="1150920" cy="72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DDTEF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920" y="981000"/>
            <a:ext cx="93672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sme d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écurité soci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920" y="1413000"/>
            <a:ext cx="936720" cy="360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  l’emplo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42920" y="981000"/>
            <a:ext cx="936720" cy="36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épart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42920" y="1413000"/>
            <a:ext cx="93672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co-socia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5CA5-43E8-46B6-8607-3C80EFCC05C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br>
              <a:rPr sz="2400"/>
            </a:b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1) Flux fonctionnels entre MDPH et organismes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pic>
        <p:nvPicPr>
          <p:cNvPr id="156" name="MDPH" descr=""/>
          <p:cNvPicPr/>
          <p:nvPr/>
        </p:nvPicPr>
        <p:blipFill>
          <a:blip r:embed="rId3"/>
          <a:stretch/>
        </p:blipFill>
        <p:spPr>
          <a:xfrm>
            <a:off x="6156360" y="2708280"/>
            <a:ext cx="1582560" cy="8208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195920" y="1197000"/>
            <a:ext cx="72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)Flux de décisions d’orientation sphère é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02120" y="2349360"/>
            <a:ext cx="29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Nat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4000" y="357336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93480" y="3116160"/>
            <a:ext cx="35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cision d’orientation sco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71600" y="3429000"/>
            <a:ext cx="251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ection d’académ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ora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tablissement scol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268000" y="4365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47680" y="4413240"/>
            <a:ext cx="404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personnalisé de scolar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6443640" y="4292640"/>
            <a:ext cx="1441440" cy="95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1EDE-C691-4914-B8C4-58C1CD9FA49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95280" y="3573360"/>
            <a:ext cx="1413000" cy="1405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94840" y="1197000"/>
            <a:ext cx="69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) Flux de décisions d’orientation sphère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8520" y="3284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15240" y="170028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ère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4076640"/>
            <a:ext cx="442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cision d’orientation Professionn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9800" y="342900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Milieu ordin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epris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PE, CAT-Empl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6156360" y="2082960"/>
            <a:ext cx="1728720" cy="1296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799960" y="4941720"/>
            <a:ext cx="31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Milieu adap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AT (entreprise spécialisé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’aide par le trava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692360" y="3644640"/>
            <a:ext cx="410364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47640" y="4508640"/>
            <a:ext cx="4248360" cy="57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8703-FA34-4613-A24B-03F9BBA871B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92320" y="1197000"/>
            <a:ext cx="56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) Flux de d’orientations de 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63640" y="357336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60400" y="3141720"/>
            <a:ext cx="42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cision d’orientation de pla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69760" y="3573360"/>
            <a:ext cx="3766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 (Foyer d’accueil médicalis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 (Maison d’accueil spécialisé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 (Foyer occupation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H (Foyer d’héberg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1692000" y="4365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59320" y="4653000"/>
            <a:ext cx="36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ssions (flux occasionn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6300720" y="1916280"/>
            <a:ext cx="2232000" cy="16351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987800" y="164772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ablissements et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2DD9-9D7A-4613-8771-0C43726F3FD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89440" y="1197000"/>
            <a:ext cx="33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4) Flux de pre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357336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3280" y="3141720"/>
            <a:ext cx="38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e prestation AAH,AEEH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692000" y="4365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337480" y="443700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e à jour des dro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5435640" y="3213000"/>
            <a:ext cx="1944720" cy="14623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7380360" y="3191040"/>
            <a:ext cx="523800" cy="571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7380360" y="3838680"/>
            <a:ext cx="619200" cy="6476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7867080" y="31590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937640" y="380844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7E16-55E1-4B2E-9CD6-C8E812C1A33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11:55:58Z</dcterms:created>
  <dc:creator>Alain Pelc</dc:creator>
  <dc:description/>
  <dc:language>en-US</dc:language>
  <cp:lastModifiedBy>Alain Pelc</cp:lastModifiedBy>
  <dcterms:modified xsi:type="dcterms:W3CDTF">2007-03-19T19:00:33Z</dcterms:modified>
  <cp:revision>153</cp:revision>
  <dc:subject/>
  <dc:title>MDPH : Organisation du système d’information L.247-2 </dc:title>
</cp:coreProperties>
</file>