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77ED-82D3-4914-B586-0DA1F1545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47040"/>
            <a:ext cx="8713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8CED-61E6-4451-9EFC-2AD24224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600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549D-34A4-464F-BFC8-C6D7C2E98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6800" y="160020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2680" y="160020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4704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6800" y="394704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2680" y="394704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A924-F0A4-4C17-A8F6-031C6ACC9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2F03-A7B5-4762-B9F7-78BB7465E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4B20-BD0A-4560-8BF3-603B4FCC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A1A5-5503-4047-A392-6796ED0D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71ED-B0F8-473A-9A3D-C45F8E02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063A-CC73-483C-946B-0450C9FE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50560" y="43920"/>
            <a:ext cx="871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E97D4-6B85-4E00-AA37-B0DBD143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5056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52BE-F72B-4734-B75D-3FF15982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782E-8018-4063-B5EF-3A0C2A01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1600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A431-6493-463F-9125-5FFE1B9F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47040"/>
            <a:ext cx="8713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26C0-208D-496A-90C8-CB08F1B9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0560" y="3947040"/>
            <a:ext cx="8713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7E43-65EC-4DDD-9F7A-F378BCA0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5056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600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8FCF-3BBB-4ECD-992C-6BAEC0E69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96800" y="160020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42680" y="160020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50560" y="394704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96800" y="394704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42680" y="394704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C39F-410A-4BE7-BAEA-51E716878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534C-E7C6-4724-86D0-33F8A643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040E-D7BF-4A14-AEB8-AC5F3D73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972D-BEE8-432F-A594-9A415A48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560" y="43920"/>
            <a:ext cx="871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8ACB-31F4-47BE-8216-895CF230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9217-61AD-4BB3-A10D-DFAF627A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600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8B17-08FA-4D06-AE56-FD1B98AD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47040"/>
            <a:ext cx="8713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FF08-A61D-42C9-BA96-133932A0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59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0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306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5D25-D348-4E67-8EE8-5C135DAA2A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40" y="0"/>
            <a:ext cx="9153720" cy="6858000"/>
            <a:chOff x="1440" y="0"/>
            <a:chExt cx="9153720" cy="6858000"/>
          </a:xfrm>
        </p:grpSpPr>
        <p:sp>
          <p:nvSpPr>
            <p:cNvPr id="42" name=""/>
            <p:cNvSpPr/>
            <p:nvPr/>
          </p:nvSpPr>
          <p:spPr>
            <a:xfrm>
              <a:off x="1440" y="0"/>
              <a:ext cx="1673280" cy="6858000"/>
            </a:xfrm>
            <a:prstGeom prst="rect">
              <a:avLst/>
            </a:prstGeom>
            <a:solidFill>
              <a:srgbClr val="556cb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3" name=""/>
            <p:cNvGraphicFramePr/>
            <p:nvPr/>
          </p:nvGraphicFramePr>
          <p:xfrm>
            <a:off x="304920" y="2820960"/>
            <a:ext cx="1116000" cy="1523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4920" y="2820960"/>
                      <a:ext cx="1116000" cy="152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" name=""/>
            <p:cNvSpPr/>
            <p:nvPr/>
          </p:nvSpPr>
          <p:spPr>
            <a:xfrm>
              <a:off x="1677960" y="3789360"/>
              <a:ext cx="7466040" cy="3068640"/>
            </a:xfrm>
            <a:prstGeom prst="rect">
              <a:avLst/>
            </a:prstGeom>
            <a:solidFill>
              <a:srgbClr val="fac46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79280" y="5661000"/>
              <a:ext cx="1225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Optima Bold"/>
                </a:rPr>
                <a:t>Direction du Système d’Inform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4"/>
            <a:stretch/>
          </p:blipFill>
          <p:spPr>
            <a:xfrm>
              <a:off x="1687680" y="3240"/>
              <a:ext cx="7467480" cy="378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7640" y="2130120"/>
            <a:ext cx="6550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DF73-D551-41F0-865D-69D5990BF4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7640" y="2130120"/>
            <a:ext cx="6550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tocole d’échang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tre les MDPH et les CA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07640" y="4317480"/>
            <a:ext cx="655164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ncontre du 23 mars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59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’offre de service RMI actuel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onsultation de la Base Allocatai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ffre  : CAFPRO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Transfert de données de gestion mensu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ffre  : Flux XML Mensuel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Tableau de bord sur les Droits Rm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ffre  : Tableau HTML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59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s évolutions de l’offre RM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713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uverture de la consultation de la base allocataire à de nouveaux profils mét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volution du transfert de données de gestion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6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tégration de nouvelles donné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45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Utilisation du format xml standard du w3c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ise en place d’un transfert de données 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fra-mensuel événementi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réation d’un tableau de bord financ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ise à disposition d’une téléprocédure : @IR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Dématérialisation des échanges par transfert électronique réciproque d’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59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s évolutions de l’offre RM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sues d’un travail partenarial au sein de groupes mixtes composés de représentants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Conseils générau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Caisses d’Allocation famili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la Caisse Nationale de M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s l ’égide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l’Association des Départements de 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la Caisse Nationale des Allocations Famili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59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tre proposition pour les MDP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réation de profils de consultation de la Base Allocataires adaptés aux métiers des MDP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ise en place d’échanges de données entre les MDPH et les CAF (dans les deux se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éflexion sur la dématérialisation complète du processus de traitement entre les MDPH et les CA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07:47:41Z</dcterms:created>
  <dc:creator>Régis Pont</dc:creator>
  <dc:description/>
  <dc:language>en-US</dc:language>
  <cp:lastModifiedBy>caf de l'ain</cp:lastModifiedBy>
  <dcterms:modified xsi:type="dcterms:W3CDTF">2007-03-23T10:58:23Z</dcterms:modified>
  <cp:revision>10</cp:revision>
  <dc:subject/>
  <dc:title>Protocole d’échange  les MDPH et les CAF</dc:title>
</cp:coreProperties>
</file>