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7FF-36D2-4310-AAC0-EA8434C4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BC5-A10D-43DE-BE4D-545FAFDE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608-FCE8-4ADF-9B03-7C660061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6D9-05D3-47EC-8AE4-11CBBA55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5C4-5D45-4CF3-B930-88A979D8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A07-45D1-4553-B1EB-06E024C6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886-6154-4838-BCA6-89933120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B5B-2A5B-4B9E-B8D5-32D6FAAF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665-00CA-4FC1-8ED9-4C3FD7A4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FAB-41C5-43BB-BBA6-C0EE5240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E7E-2EAE-4DAC-BC00-B86FF72D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39E-899E-4720-98E2-2AE6541C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91592F11-A533-4C0E-A317-321A6BBB2D53}" type="slidenum"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8640" y="58680"/>
          <a:ext cx="14617800" cy="1035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8680"/>
                    <a:ext cx="14617800" cy="103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ATaconnet</cp:lastModifiedBy>
  <dcterms:modified xsi:type="dcterms:W3CDTF">2007-02-23T11:13:56Z</dcterms:modified>
  <cp:revision>20</cp:revision>
  <dc:subject/>
  <dc:title>Présentation PowerPoint</dc:title>
</cp:coreProperties>
</file>