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9EA7-0E60-4FAD-B2AE-97FDE7109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947040"/>
            <a:ext cx="8713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B261-2695-4255-91FE-4B1B03EB9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6000" y="160020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94704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6000" y="394704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DFF9-F9E5-4D4E-BB8E-CDFAB6D30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8054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6800" y="1600200"/>
            <a:ext cx="28054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42680" y="1600200"/>
            <a:ext cx="28054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947040"/>
            <a:ext cx="28054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6800" y="3947040"/>
            <a:ext cx="28054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42680" y="3947040"/>
            <a:ext cx="28054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0476-6048-473D-AECE-12D1D73DA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21C9B-5141-49DF-A3A9-F9FF1C993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71380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2EEE3-F5DF-49BF-A899-556FC17E5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F5560-936B-4775-B961-0F520D313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2523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6000" y="1600200"/>
            <a:ext cx="42523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1C510-CD83-45F2-88D6-291AC25DA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5E51E-C2BA-4F03-95C5-2982F39A2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50560" y="43920"/>
            <a:ext cx="871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9792E-DEA9-4474-B28F-5EF972649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6000" y="1600200"/>
            <a:ext cx="42523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50560" y="394704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E53FB-4DA8-47B8-A59F-BACFC374E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71380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D388-FC58-4C2E-950F-261A70A89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2523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6000" y="160020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16000" y="394704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D9147-60CE-4A2E-AB32-C3C17D105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6000" y="160020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947040"/>
            <a:ext cx="8713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C240B-E2D1-446D-9A3A-973BAD64A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50560" y="3947040"/>
            <a:ext cx="8713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ABE60-0DD7-43AD-A1FB-CFCA57727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6000" y="160020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50560" y="394704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16000" y="394704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E0FAF-E6ED-40B2-8E4C-5FD6D7A36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8054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96800" y="1600200"/>
            <a:ext cx="28054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42680" y="1600200"/>
            <a:ext cx="28054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50560" y="3947040"/>
            <a:ext cx="28054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96800" y="3947040"/>
            <a:ext cx="28054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42680" y="3947040"/>
            <a:ext cx="28054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7A7F2-0539-4BC2-9CE1-BDF7B11F5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750F-7359-4CE6-BFA8-FFCDE54D9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2523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6000" y="1600200"/>
            <a:ext cx="42523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91B5-E260-4C93-A63D-E79E79BC8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4E41-4AC2-4D85-BA69-7575F0273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0560" y="43920"/>
            <a:ext cx="871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FC47-4FFE-4D21-9D04-9FAC513B4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6000" y="1600200"/>
            <a:ext cx="42523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94704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AD34-FD5D-44CC-A250-837194856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2523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6000" y="160020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6000" y="394704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FD85-C063-4DA1-9995-FFA815B35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6000" y="160020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947040"/>
            <a:ext cx="8713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B2BC-31FF-4AFE-96F0-C00BDB9A0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59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1600200"/>
            <a:ext cx="8713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771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509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306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A2BF7-F021-4CA3-BC53-3D83E02F90B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440" y="0"/>
            <a:ext cx="9153720" cy="6858000"/>
            <a:chOff x="1440" y="0"/>
            <a:chExt cx="9153720" cy="6858000"/>
          </a:xfrm>
        </p:grpSpPr>
        <p:sp>
          <p:nvSpPr>
            <p:cNvPr id="42" name=""/>
            <p:cNvSpPr/>
            <p:nvPr/>
          </p:nvSpPr>
          <p:spPr>
            <a:xfrm>
              <a:off x="1440" y="0"/>
              <a:ext cx="1673280" cy="6858000"/>
            </a:xfrm>
            <a:prstGeom prst="rect">
              <a:avLst/>
            </a:prstGeom>
            <a:solidFill>
              <a:srgbClr val="556cb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3" name=""/>
            <p:cNvGraphicFramePr/>
            <p:nvPr/>
          </p:nvGraphicFramePr>
          <p:xfrm>
            <a:off x="304920" y="2820960"/>
            <a:ext cx="1116000" cy="15238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04920" y="2820960"/>
                      <a:ext cx="1116000" cy="152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5" name=""/>
            <p:cNvSpPr/>
            <p:nvPr/>
          </p:nvSpPr>
          <p:spPr>
            <a:xfrm>
              <a:off x="1677960" y="3789360"/>
              <a:ext cx="7466040" cy="3068640"/>
            </a:xfrm>
            <a:prstGeom prst="rect">
              <a:avLst/>
            </a:prstGeom>
            <a:solidFill>
              <a:srgbClr val="fac46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79280" y="5661000"/>
              <a:ext cx="1225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Optima Bold"/>
                </a:rPr>
                <a:t>Direction du Système d’Inform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4"/>
            <a:stretch/>
          </p:blipFill>
          <p:spPr>
            <a:xfrm>
              <a:off x="1687680" y="3240"/>
              <a:ext cx="7467480" cy="3786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07640" y="2130120"/>
            <a:ext cx="6550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CDC9A-243C-4B9C-A2AF-154D573A7EA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07640" y="2130120"/>
            <a:ext cx="6550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tocole d’échang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tre les MDPH et les CAF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907640" y="4317480"/>
            <a:ext cx="655164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ncontre du 23 mars 20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59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’offre de service RMI actuel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771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Consultation de la Base Allocatai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ffre  : CAFPRO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771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Transfert de données de gestion mensu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ffre  : Flux XML Mensuel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771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Tableau de bord sur les Droits Rm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ffre  : Tableau HTML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59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es évolutions de l’offre RMI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713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771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uverture de la consultation de la base allocataire à de nouveaux profils méti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771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Evolution du transfert de données de gestion 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spcBef>
                <a:spcPts val="601"/>
              </a:spcBef>
              <a:buClr>
                <a:srgbClr val="ffffff"/>
              </a:buClr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tégration de nouvelles donné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spcBef>
                <a:spcPts val="451"/>
              </a:spcBef>
              <a:buClr>
                <a:srgbClr val="ffffff"/>
              </a:buClr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Utilisation du format xml standard du w3c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771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ise en place d’un transfert de données </a:t>
            </a:r>
            <a:br>
              <a:rPr sz="2800"/>
            </a:b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fra-mensuel événementi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771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Création d’un tableau de bord financ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771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ise à disposition d’une téléprocédure : @IRM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771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Dématérialisation des échanges par transfert électronique réciproque d’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59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es évolutions de l’offre RMI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sues d’un travail partenarial au sein de groupes mixtes composés de représentants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Conseils générau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Caisses d’Allocation familia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la Caisse Nationale de M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us l ’égide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l’Association des Départements de Fr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la Caisse Nationale des Allocations Famili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59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otre proposition pour les MDPH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771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Création de profils de consultation de la Base Allocataires adaptés aux métiers des MDP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771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ise en place d’échanges de données entre les MDPH et les CAF (dans les deux sen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771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Réflexion sur la dématérialisation complète du processus de traitement entre les MDPH et les CAF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9T07:47:41Z</dcterms:created>
  <dc:creator>Régis Pont</dc:creator>
  <dc:description/>
  <dc:language>en-US</dc:language>
  <cp:lastModifiedBy>caf de l'ain</cp:lastModifiedBy>
  <dcterms:modified xsi:type="dcterms:W3CDTF">2007-03-23T10:58:23Z</dcterms:modified>
  <cp:revision>10</cp:revision>
  <dc:subject/>
  <dc:title>Protocole d’échange  les MDPH et les CAF</dc:title>
</cp:coreProperties>
</file>