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6BF-2DE1-4DC4-9CE1-06B067CB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2FB-D5E1-4D87-9D70-903E0A29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21E-7647-45C9-AEF9-9DE5FF73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139-6794-4C6F-8236-81322C65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94A-76EE-43D2-B6CE-B3CB30AB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2E5-EE06-47D7-8FA0-E6401AE1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C69-9D91-4B37-AA61-2A80631C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609-0A68-42DE-ABC8-F9EC983D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B89-2421-4EFE-8547-92F640D8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13F-E548-421D-B6CD-65BEE19D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0AC-EC8F-4D01-9318-3390463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1CC-C60A-4901-BE9A-5D76800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EF85795C-CAF2-4789-A46D-93DCA73168B5}" type="slidenum"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8640" y="58680"/>
          <a:ext cx="14617800" cy="1035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8680"/>
                    <a:ext cx="14617800" cy="10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ATaconnet</cp:lastModifiedBy>
  <dcterms:modified xsi:type="dcterms:W3CDTF">2007-02-23T11:13:56Z</dcterms:modified>
  <cp:revision>20</cp:revision>
  <dc:subject/>
  <dc:title>Présentation PowerPoint</dc:title>
</cp:coreProperties>
</file>