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26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8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image9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12.jpeg" ContentType="image/jpeg"/>
  <Override PartName="/ppt/media/image34.wmf" ContentType="image/x-wmf"/>
  <Override PartName="/ppt/media/image6.jpeg" ContentType="image/jpeg"/>
  <Override PartName="/ppt/media/image36.wmf" ContentType="image/x-wmf"/>
  <Override PartName="/ppt/media/image37.wmf" ContentType="image/x-wmf"/>
  <Override PartName="/ppt/media/image39.wmf" ContentType="image/x-wmf"/>
  <Override PartName="/ppt/media/image40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image1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rc Hallak" initials="MH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6-05-15T11:33:37.732000000" idx="1">
    <p:pos x="10" y="10"/>
    <p:text/>
  </p:cm>
</p:cmLst>
</file>

<file path=ppt/comments/comment3.xml><?xml version="1.0" encoding="utf-8"?>
<p:cmLst xmlns:p="http://schemas.openxmlformats.org/presentationml/2006/main">
  <p:cm authorId="0" dt="2006-05-15T11:33:37.732000000" idx="2">
    <p:pos x="10" y="10"/>
    <p:text/>
  </p:cm>
</p:cmLst>
</file>

<file path=ppt/comments/comment4.xml><?xml version="1.0" encoding="utf-8"?>
<p:cmLst xmlns:p="http://schemas.openxmlformats.org/presentationml/2006/main">
  <p:cm authorId="0" dt="2006-05-15T11:33:37.732000000" idx="3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A5B1-EF92-4756-BF09-E966F90EC8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L’architecture technique 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d’un système décisionnel est composé des éléments suivants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centre du système, une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base de donné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l’alimenter, au moins un outil d’extraction, transformation et de chargement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(ET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restituer les informations, au moins un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outil de restitu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choix de ces outils dépend des performances, fonctionnalités, et ergonomie attendues, de l’infrastructure nécessaire à leur bon fonctionnement et des coûts. Il fau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Coller au maximum aux fonctions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Rechercher les packages communic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Étudier leur intégration avec le reste du S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pprécier la capacité à évolu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Estimer les coûts directs et récurr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des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performances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mesur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volume actuel / fut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effets de seu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bande passante nécess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monter en charge selon les # lo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’utilisation des machines 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// les trait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fonctionne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évalu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connexions aux sources de données (ODBC, Connecteurs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aux transform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simulation et d’analy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restitu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diffusion (Portail Web, Abonnements mail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u contexte international (multi-langues, polices, dates et nombre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évolutivité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appréci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dynamisme des édite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atibilité de version des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accords croi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facilité de maintenance et de déploi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ver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méta-données (CW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paramét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Intégration dans le SI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jug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létude des #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modules de communication et d’échange (API, XML, MDX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ystèmes d’exploitation accept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tructures de données autorisées (bases de données, fichiers, cubes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traitements par un ordonnanceur t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AEA-F9A6-4159-8EA4-C0FAA3CD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8CC-F8C3-4EB5-8362-83A0AA9A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3A0-EA55-48DA-976E-F47193F5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3EC-C64B-418A-A50A-E1BA6C84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659B-F366-45C5-85A2-BCECD0A2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8AA4-D213-45F5-A401-8C6FFB6F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C9F8-8EB5-4070-9033-33A83C32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A7B6-04F4-4D2B-A95E-9D1B5F4F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AE61-DB4A-4786-A9F3-2938631C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9B47-6463-4937-9D77-E697FCC5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97AE-5AD1-4A2B-89D5-7F518083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947-9113-47DB-AF87-D6D3D93C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33A0-42F2-42BE-A8AF-644A5F4E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5362-229B-405E-9C6F-F5A31352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CA49-3242-4E6A-AC3E-D66CD3F2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5845-FDD0-4209-A2AA-FD572C01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1522-2711-4001-A610-BD0B714F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264-32C3-4790-A563-58E40CB7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DD4-4437-47C4-BF78-82D02AFD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77D-4E98-44CE-B5C7-879AB6A8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EAA-5864-49AC-8BD9-F7B6060B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1CB-5B3D-4827-9DBD-4BD131F3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1A6-2372-4896-B4BF-19087C7D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FC7-C818-42FA-BF17-7792F1F1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0760" cy="53964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6E22-4561-404A-AA7B-D98AF642A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17840"/>
            <a:ext cx="9140760" cy="433692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4560" y="1295280"/>
            <a:ext cx="3735360" cy="99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8D56-0151-4AEA-AA66-AEB005EB1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f09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  <a:p>
            <a:pPr lvl="1" marL="457200" indent="0" algn="ctr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-rouen.fr/ecoles/aragon/conc2001/vert/ser_verte.htm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images.google.fr/imgres?imgurl=europa.eu.int/survey/feb-mar00/results/23.gif&amp;imgrefurl=http://europa.eu.int/survey/feb-mar00/results/survey_en.htm&amp;h=188&amp;w=282&amp;prev=/images%3Fq%3Dmoteur%26start%3D160%26svnum%3D10%26hl%3Dfr%26sa%3DN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fr/imgres?imgurl=europa.eu.int/survey/jun-jul99/results/8.gif&amp;imgrefurl=http://europa.eu.int/survey/jun-jul99/results/survey_en.htm&amp;h=181&amp;w=320&amp;prev=/images%3Fq%3Dmoteur%26start%3D320%26svnum%3D10%26hl%3Dfr%26sa%3DN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fr/imgres?imgurl=www.apple.com/fr/webobjects/images/object_mapping.gif&amp;imgrefurl=http://www.apple.com/fr/webobjects/&amp;h=145&amp;w=160&amp;prev=/images%3Fq%3Dmoteur%26start%3D320%26svnum%3D10%26hl%3Dfr%26sa%3DN" TargetMode="External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.wmf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8.wmf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tocole d’échange de données MDPH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3/03/200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880" y="11970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)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4560" y="314172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8000" y="4076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3240" y="18446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300720" y="2421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31320" y="357336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7640" y="40053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4400" y="443700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6EE-5C6D-40F2-A27F-B47337AA47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8320" y="1268280"/>
            <a:ext cx="43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)Convention de prest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partenaire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4920" y="5084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AS, 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836360" y="3357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10880" y="285264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naires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04400" y="34290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demande de pr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364000" y="1341360"/>
            <a:ext cx="781200" cy="828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12000" y="1844640"/>
            <a:ext cx="100800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3240" y="14842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2560" y="486900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’acti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E52-34B3-4D47-A01F-CD0478CF48F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0120" y="1268280"/>
            <a:ext cx="41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) Convention d’é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 personne handicap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7040" y="436572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ANPE, A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blissements de soi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s d’expert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907640" y="4149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234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1840" y="48690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financ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232360" cy="1593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95640" y="350028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5840" y="306864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e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38920" y="3716280"/>
            <a:ext cx="25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9E8-389D-4874-97ED-E5B913A6BB4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520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1.8) Des groupes de travail fonctionnels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6920" y="126792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e proposition de groupes de travail en parallèle aux groupes techniques et visant à analyser les processus, dans la mesure du possible à les simplifier et ceci afin d’envisager leur dématérialisations doivent se mettre en plac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n peut imaginer la mise ne place de grou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maladie et médico-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2F8-8309-4AF4-8FCE-D0B8679410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) Trois exemples de flux d’échanges</a:t>
            </a:r>
            <a:br>
              <a:rPr sz="2800"/>
            </a:b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à vocation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univoque 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bilatéral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167-8542-48CB-9F3A-ECE643F20D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140360" y="288756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92360" y="1197000"/>
            <a:ext cx="3167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1320840"/>
            <a:ext cx="31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 CN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Solution technique envisagée (partenariat CNAV)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GBD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ase de données 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L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ata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quêteur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usiness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1) Un flux à vocation pilotage :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SI décisionnel CNSA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125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6" idx="4"/>
            <a:endCxn id="263" idx="1"/>
          </p:cNvCxnSpPr>
          <p:nvPr/>
        </p:nvCxnSpPr>
        <p:spPr>
          <a:xfrm>
            <a:off x="1331640" y="1341000"/>
            <a:ext cx="216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324000" y="177336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4"/>
            <a:endCxn id="263" idx="1"/>
          </p:cNvCxnSpPr>
          <p:nvPr/>
        </p:nvCxnSpPr>
        <p:spPr>
          <a:xfrm>
            <a:off x="1331640" y="1989000"/>
            <a:ext cx="216108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1692360" y="13413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21160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2349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4"/>
            <a:endCxn id="263" idx="1"/>
          </p:cNvCxnSpPr>
          <p:nvPr/>
        </p:nvCxnSpPr>
        <p:spPr>
          <a:xfrm>
            <a:off x="1331640" y="2565000"/>
            <a:ext cx="216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187280" y="27082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335772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5" idx="4"/>
            <a:endCxn id="263" idx="1"/>
          </p:cNvCxnSpPr>
          <p:nvPr/>
        </p:nvCxnSpPr>
        <p:spPr>
          <a:xfrm flipV="1">
            <a:off x="1402920" y="3212280"/>
            <a:ext cx="2089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535040" y="321300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4005360"/>
            <a:ext cx="1008000" cy="93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férenti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S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8120" y="38606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8" idx="4"/>
            <a:endCxn id="263" idx="1"/>
          </p:cNvCxnSpPr>
          <p:nvPr/>
        </p:nvCxnSpPr>
        <p:spPr>
          <a:xfrm flipV="1">
            <a:off x="1402920" y="3212640"/>
            <a:ext cx="208980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3" idx="3"/>
            <a:endCxn id="282" idx="1"/>
          </p:cNvCxnSpPr>
          <p:nvPr/>
        </p:nvCxnSpPr>
        <p:spPr>
          <a:xfrm>
            <a:off x="6659640" y="3213000"/>
            <a:ext cx="289440" cy="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6942240" y="2565360"/>
            <a:ext cx="2038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aires (L247.2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5013360"/>
            <a:ext cx="1008000" cy="93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F, 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G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3" idx="4"/>
            <a:endCxn id="263" idx="1"/>
          </p:cNvCxnSpPr>
          <p:nvPr/>
        </p:nvCxnSpPr>
        <p:spPr>
          <a:xfrm flipV="1">
            <a:off x="1331640" y="3212640"/>
            <a:ext cx="2161080" cy="22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824120" y="47800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006-EE3F-4494-BF89-BE8E9E0907C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8400" y="5508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L’axe technique décisionnel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54360" y="5987880"/>
            <a:ext cx="75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EQUE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6200" y="3298680"/>
            <a:ext cx="1344600" cy="1731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141640"/>
            <a:ext cx="7535880" cy="70920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YSTEM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ERATIO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34120" y="2506680"/>
            <a:ext cx="403200" cy="36972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1520" y="2928960"/>
            <a:ext cx="7400880" cy="431640"/>
          </a:xfrm>
          <a:prstGeom prst="flowChartMerg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XTRACTION-TRANSFORMATION-CHAR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32160" y="3400560"/>
            <a:ext cx="1413000" cy="57924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OCK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 SG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5896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321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719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1320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95560" y="4041720"/>
            <a:ext cx="2152800" cy="493920"/>
          </a:xfrm>
          <a:prstGeom prst="downArrowCallout">
            <a:avLst>
              <a:gd name="adj1" fmla="val 108975"/>
              <a:gd name="adj2" fmla="val 108965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PEC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5320" y="4721400"/>
            <a:ext cx="8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MA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18440" y="3608280"/>
            <a:ext cx="136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ntrepôt de 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03560" y="5092560"/>
            <a:ext cx="3782880" cy="432000"/>
          </a:xfrm>
          <a:prstGeom prst="downArrowCallout">
            <a:avLst>
              <a:gd name="adj1" fmla="val 218937"/>
              <a:gd name="adj2" fmla="val 218917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loupe.gif (3148 octet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7720" y="5462640"/>
            <a:ext cx="415800" cy="525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663880" y="571032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42400" y="575928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AP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78200" y="5597640"/>
            <a:ext cx="696960" cy="428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58960" y="5524560"/>
            <a:ext cx="111924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5380200"/>
            <a:ext cx="804960" cy="674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730600" y="21337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94240" y="214164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59320" y="214164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férenti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92000" y="213372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Compta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9452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15760" y="2157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utre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lu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7640" y="3979800"/>
            <a:ext cx="139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SYST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DECISI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94400" y="3608280"/>
            <a:ext cx="808200" cy="433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8360" y="4103640"/>
            <a:ext cx="95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éta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94400" y="4349880"/>
            <a:ext cx="808200" cy="43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45160" y="3670200"/>
            <a:ext cx="148104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1400" y="4659480"/>
            <a:ext cx="87480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086160" y="5094360"/>
            <a:ext cx="538200" cy="517320"/>
            <a:chOff x="6086160" y="5094360"/>
            <a:chExt cx="538200" cy="517320"/>
          </a:xfrm>
        </p:grpSpPr>
        <p:pic>
          <p:nvPicPr>
            <p:cNvPr id="325" name="" descr=""/>
            <p:cNvPicPr/>
            <p:nvPr/>
          </p:nvPicPr>
          <p:blipFill>
            <a:blip r:embed="rId9"/>
            <a:stretch/>
          </p:blipFill>
          <p:spPr>
            <a:xfrm>
              <a:off x="6244920" y="5094360"/>
              <a:ext cx="379440" cy="3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086160" y="538056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be0e3"/>
                  </a:solidFill>
                  <a:latin typeface="Verdana"/>
                </a:rPr>
                <a:t>M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982200" y="5106960"/>
            <a:ext cx="445320" cy="505080"/>
            <a:chOff x="6982200" y="5106960"/>
            <a:chExt cx="445320" cy="505080"/>
          </a:xfrm>
        </p:grpSpPr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7035120" y="5106960"/>
              <a:ext cx="392400" cy="3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982200" y="5380920"/>
              <a:ext cx="43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cc00"/>
                  </a:solidFill>
                  <a:latin typeface="Verdana"/>
                </a:rPr>
                <a:t>WE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527520" y="5057640"/>
            <a:ext cx="512640" cy="554040"/>
            <a:chOff x="6527520" y="5057640"/>
            <a:chExt cx="512640" cy="554040"/>
          </a:xfrm>
        </p:grpSpPr>
        <p:pic>
          <p:nvPicPr>
            <p:cNvPr id="331" name="" descr=""/>
            <p:cNvPicPr/>
            <p:nvPr/>
          </p:nvPicPr>
          <p:blipFill>
            <a:blip r:embed="rId11"/>
            <a:stretch/>
          </p:blipFill>
          <p:spPr>
            <a:xfrm>
              <a:off x="6638760" y="5057640"/>
              <a:ext cx="4014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527520" y="5380560"/>
              <a:ext cx="36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ff"/>
                  </a:solidFill>
                  <a:latin typeface="Verdana"/>
                </a:rPr>
                <a:t>C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364000" y="2492280"/>
            <a:ext cx="40356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0216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173640" y="352440"/>
            <a:ext cx="2563920" cy="1506600"/>
            <a:chOff x="6173640" y="352440"/>
            <a:chExt cx="2563920" cy="1506600"/>
          </a:xfrm>
        </p:grpSpPr>
        <p:sp>
          <p:nvSpPr>
            <p:cNvPr id="336" name=""/>
            <p:cNvSpPr/>
            <p:nvPr/>
          </p:nvSpPr>
          <p:spPr>
            <a:xfrm>
              <a:off x="6173640" y="969840"/>
              <a:ext cx="21096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518680" y="832320"/>
              <a:ext cx="218880" cy="168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264720" y="352440"/>
              <a:ext cx="2470680" cy="1506600"/>
              <a:chOff x="6264720" y="352440"/>
              <a:chExt cx="2470680" cy="1506600"/>
            </a:xfrm>
          </p:grpSpPr>
          <p:sp>
            <p:nvSpPr>
              <p:cNvPr id="339" name=""/>
              <p:cNvSpPr/>
              <p:nvPr/>
            </p:nvSpPr>
            <p:spPr>
              <a:xfrm>
                <a:off x="6738840" y="1378080"/>
                <a:ext cx="935640" cy="2206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35240" y="1070280"/>
                <a:ext cx="938160" cy="25596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13040" y="478440"/>
                <a:ext cx="282240" cy="11242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41720" y="478440"/>
                <a:ext cx="927360" cy="24372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38840" y="775080"/>
                <a:ext cx="932760" cy="24300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66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72240" y="5716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47240" y="570960"/>
                <a:ext cx="37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0800000">
                <a:off x="6458040" y="532800"/>
                <a:ext cx="214560" cy="9590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50840" y="176220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92880" y="1084320"/>
                <a:ext cx="6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18760" y="567000"/>
                <a:ext cx="720" cy="89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75120" y="873720"/>
                <a:ext cx="11952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81800" y="871560"/>
                <a:ext cx="33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840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80920" y="18104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64720" y="352440"/>
                <a:ext cx="2372400" cy="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8633880" y="356040"/>
                <a:ext cx="0" cy="47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80560" y="1195560"/>
                <a:ext cx="0" cy="61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7384320" y="1455480"/>
                <a:ext cx="333720" cy="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81800" y="1180440"/>
                <a:ext cx="336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77060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00136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95168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18244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34640" y="831240"/>
                <a:ext cx="22680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70600" y="1037160"/>
                <a:ext cx="704520" cy="83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46396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18400" y="107532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8634240" y="1005840"/>
                <a:ext cx="2520" cy="7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483040" y="1081440"/>
                <a:ext cx="148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96440" y="78300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64720" y="352440"/>
                <a:ext cx="0" cy="61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50840" y="163332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84520" y="16790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98240" y="486000"/>
                <a:ext cx="583200" cy="171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98240" y="108396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81600" y="118044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1120" y="137808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77280" y="14500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DFA-0574-4A1D-A218-17EBB75FF3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.2) Un flux univoque:</a:t>
            </a:r>
            <a:br>
              <a:rPr sz="1600"/>
            </a:b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proposition de serveur de formulaire «Projet DGME»</a:t>
            </a:r>
            <a:endParaRPr b="1" lang="en-US" sz="1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03280" y="2732040"/>
            <a:ext cx="4824360" cy="14335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6360" y="3021120"/>
            <a:ext cx="1452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Rés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serveur" descr=""/>
          <p:cNvPicPr/>
          <p:nvPr/>
        </p:nvPicPr>
        <p:blipFill>
          <a:blip r:embed="rId2"/>
          <a:stretch/>
        </p:blipFill>
        <p:spPr>
          <a:xfrm>
            <a:off x="1332000" y="1508040"/>
            <a:ext cx="852480" cy="955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rot="17369400">
            <a:off x="945000" y="2902680"/>
            <a:ext cx="2906640" cy="981360"/>
          </a:xfrm>
          <a:custGeom>
            <a:avLst/>
            <a:gdLst>
              <a:gd name="textAreaLeft" fmla="*/ 508680 w 2906640"/>
              <a:gd name="textAreaRight" fmla="*/ 2107440 w 2906640"/>
              <a:gd name="textAreaTop" fmla="*/ 131400 h 981360"/>
              <a:gd name="textAreaBottom" fmla="*/ 849960 h 98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17928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11600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2050920" y="4892760"/>
            <a:ext cx="863640" cy="585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rot="14690400">
            <a:off x="3829680" y="2730600"/>
            <a:ext cx="2950920" cy="1609560"/>
          </a:xfrm>
          <a:custGeom>
            <a:avLst/>
            <a:gdLst>
              <a:gd name="textAreaLeft" fmla="*/ 516240 w 2950920"/>
              <a:gd name="textAreaRight" fmla="*/ 2139480 w 2950920"/>
              <a:gd name="textAreaTop" fmla="*/ 215640 h 1609560"/>
              <a:gd name="textAreaBottom" fmla="*/ 1393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serveur3" descr=""/>
          <p:cNvPicPr/>
          <p:nvPr/>
        </p:nvPicPr>
        <p:blipFill>
          <a:blip r:embed="rId6"/>
          <a:stretch/>
        </p:blipFill>
        <p:spPr>
          <a:xfrm>
            <a:off x="4859280" y="1147680"/>
            <a:ext cx="762120" cy="10605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24000" y="1868400"/>
            <a:ext cx="266400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8680" y="33577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4572000" y="4076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507672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4140360" y="3860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0"/>
          <a:stretch/>
        </p:blipFill>
        <p:spPr>
          <a:xfrm>
            <a:off x="558000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1"/>
          <a:stretch/>
        </p:blipFill>
        <p:spPr>
          <a:xfrm>
            <a:off x="6084720" y="4221000"/>
            <a:ext cx="720720" cy="716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83600" y="5373720"/>
            <a:ext cx="32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e en ligne de formul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une personne en 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20" y="4076640"/>
            <a:ext cx="30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 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32720" y="42210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DP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4653000"/>
            <a:ext cx="450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MDPH puisent de façon sécur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ur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" y="194004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rm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0" y="1268280"/>
            <a:ext cx="19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édi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27680" y="1076400"/>
            <a:ext cx="380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voi sécurisé de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 serveur interméd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8360" y="522936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5661000"/>
            <a:ext cx="25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28680" y="5661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iel éditeur M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88000" y="5805360"/>
            <a:ext cx="5050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64360" y="5445000"/>
            <a:ext cx="1800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1600" y="5157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520" y="5516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M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CPAM,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5016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90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F3A-E688-43AE-BA09-6CD5512561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3) Un flux bilatéral :Un partenaire de référence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La CAF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843200" y="1366920"/>
            <a:ext cx="5457600" cy="41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0C7-3DB0-4366-A1E2-A0094570BD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5280" y="1638360"/>
            <a:ext cx="7818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incipes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hemins de 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Véhi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) Technologies de transpor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FB4-AD03-488B-9940-E10DCFD2B57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764640"/>
            <a:ext cx="8280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Groupe de Travail : protocole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éunion d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3 mars 2007 14h-16h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Lie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NSA, 66 avenue du Maine, 75014 P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rdre du J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) Flux fonctionnels entre MDPH et organis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1)Flux de décisions d’orientation sphère é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2) Flux de décisions d’orientation sphère Trav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3) Flux d’orientations de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4) Flux de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5) 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6)Convention de prestations avec partenaire sous trai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7) Convention d’évaluation de la personne handicap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ACB-11C7-4236-A8F9-1CBD46F7EF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1) Principes techniqu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520560"/>
            <a:ext cx="813780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n lien avec le référentiel d’interopérabilité, la solution technique retenue devra offrir les servic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sécur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authentification, pour prouver l'identité d'une personne ou d'une appl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intégrité, pour prouver que les informations n'ont pas été manipul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e non-répudiation, pour garantir que les informations ne puissent être reni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fidentialité, pour que les informations restent priv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opérationna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garantie d’acheminement et de reprise sur 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trôle fonctionnels des en-têtes et cont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interopérabi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poser sur les standards, utiliser TCP/IP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A4C-18C1-413E-9943-6486499714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3.2.1) Le transport : les chemins</a:t>
            </a:r>
            <a:br>
              <a:rPr sz="32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Un VPN privé : Exemple le Réseau SESAM-Vitale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79280" y="1052640"/>
            <a:ext cx="11106000" cy="5139720"/>
            <a:chOff x="179280" y="1052640"/>
            <a:chExt cx="11106000" cy="5139720"/>
          </a:xfrm>
        </p:grpSpPr>
        <p:sp>
          <p:nvSpPr>
            <p:cNvPr id="423" name=""/>
            <p:cNvSpPr/>
            <p:nvPr/>
          </p:nvSpPr>
          <p:spPr>
            <a:xfrm>
              <a:off x="2242080" y="1163520"/>
              <a:ext cx="904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6800" y="2648160"/>
              <a:ext cx="2364120" cy="136224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10720" y="2995200"/>
              <a:ext cx="1122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90560" y="3618000"/>
              <a:ext cx="101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VP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68880" y="3730680"/>
              <a:ext cx="8697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8280" y="378036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Accès 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23400" y="39700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publ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494880" y="3433680"/>
              <a:ext cx="663840" cy="279360"/>
              <a:chOff x="3494880" y="3433680"/>
              <a:chExt cx="663840" cy="279360"/>
            </a:xfrm>
          </p:grpSpPr>
          <p:sp>
            <p:nvSpPr>
              <p:cNvPr id="431" name=""/>
              <p:cNvSpPr/>
              <p:nvPr/>
            </p:nvSpPr>
            <p:spPr>
              <a:xfrm>
                <a:off x="3527640" y="3450600"/>
                <a:ext cx="39348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3494880" y="3433680"/>
                <a:ext cx="663840" cy="267840"/>
                <a:chOff x="3494880" y="3433680"/>
                <a:chExt cx="663840" cy="2678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494880" y="3433680"/>
                  <a:ext cx="663840" cy="267840"/>
                </a:xfrm>
                <a:custGeom>
                  <a:avLst/>
                  <a:gdLst/>
                  <a:ahLst/>
                  <a:rect l="l" t="t" r="r" b="b"/>
                  <a:pathLst>
                    <a:path w="845" h="281">
                      <a:moveTo>
                        <a:pt x="70" y="0"/>
                      </a:moveTo>
                      <a:lnTo>
                        <a:pt x="0" y="70"/>
                      </a:lnTo>
                      <a:lnTo>
                        <a:pt x="0" y="281"/>
                      </a:lnTo>
                      <a:lnTo>
                        <a:pt x="774" y="281"/>
                      </a:lnTo>
                      <a:lnTo>
                        <a:pt x="845" y="210"/>
                      </a:lnTo>
                      <a:lnTo>
                        <a:pt x="845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94880" y="3433680"/>
                  <a:ext cx="663840" cy="66600"/>
                </a:xfrm>
                <a:custGeom>
                  <a:avLst/>
                  <a:gdLst/>
                  <a:ahLst/>
                  <a:rect l="l" t="t" r="r" b="b"/>
                  <a:pathLst>
                    <a:path w="845" h="70">
                      <a:moveTo>
                        <a:pt x="0" y="70"/>
                      </a:moveTo>
                      <a:lnTo>
                        <a:pt x="774" y="70"/>
                      </a:lnTo>
                      <a:lnTo>
                        <a:pt x="845" y="0"/>
                      </a:lnTo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101840" y="3500280"/>
                  <a:ext cx="1440" cy="20088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494880" y="3433680"/>
                <a:ext cx="60732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67960" y="3527280"/>
                <a:ext cx="46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Administr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44640" y="3617640"/>
                <a:ext cx="243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Suppor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176440" y="3807360"/>
              <a:ext cx="118188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9120" y="2790360"/>
              <a:ext cx="72000" cy="878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8120" y="4110120"/>
              <a:ext cx="420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5136840" y="4087080"/>
              <a:ext cx="417600" cy="754200"/>
              <a:chOff x="5136840" y="4087080"/>
              <a:chExt cx="417600" cy="754200"/>
            </a:xfrm>
          </p:grpSpPr>
          <p:sp>
            <p:nvSpPr>
              <p:cNvPr id="443" name=""/>
              <p:cNvSpPr/>
              <p:nvPr/>
            </p:nvSpPr>
            <p:spPr>
              <a:xfrm>
                <a:off x="5166720" y="408708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136840" y="450036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240160" y="451224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362560" y="451008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463360" y="450648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5230080" y="421740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7320" y="426348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02200" y="2514240"/>
              <a:ext cx="1281240" cy="342720"/>
            </a:xfrm>
            <a:prstGeom prst="ellipse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88160" y="2558160"/>
              <a:ext cx="6937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26960" y="2606040"/>
              <a:ext cx="131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66"/>
                  </a:solidFill>
                  <a:latin typeface="Times New Roman"/>
                </a:rPr>
                <a:t>Message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210920" y="2487600"/>
              <a:ext cx="1010520" cy="574200"/>
              <a:chOff x="4210920" y="2487600"/>
              <a:chExt cx="1010520" cy="57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4256280" y="2535120"/>
                <a:ext cx="917640" cy="476640"/>
              </a:xfrm>
              <a:custGeom>
                <a:avLst/>
                <a:gdLst/>
                <a:ahLst/>
                <a:rect l="l" t="t" r="r" b="b"/>
                <a:pathLst>
                  <a:path w="1169" h="497">
                    <a:moveTo>
                      <a:pt x="0" y="468"/>
                    </a:moveTo>
                    <a:lnTo>
                      <a:pt x="11" y="497"/>
                    </a:lnTo>
                    <a:lnTo>
                      <a:pt x="1169" y="28"/>
                    </a:lnTo>
                    <a:lnTo>
                      <a:pt x="1157" y="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10920" y="293724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19560" y="2487600"/>
                <a:ext cx="101880" cy="1238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834160" y="4079160"/>
              <a:ext cx="419040" cy="754560"/>
              <a:chOff x="5834160" y="4079160"/>
              <a:chExt cx="419040" cy="754560"/>
            </a:xfrm>
          </p:grpSpPr>
          <p:sp>
            <p:nvSpPr>
              <p:cNvPr id="458" name=""/>
              <p:cNvSpPr/>
              <p:nvPr/>
            </p:nvSpPr>
            <p:spPr>
              <a:xfrm>
                <a:off x="5865840" y="407916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5834160" y="4492800"/>
                <a:ext cx="6120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5938920" y="450432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059880" y="450252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60680" y="449856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5927040" y="420948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83920" y="425556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042960" y="3975840"/>
              <a:ext cx="108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58440" y="2748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39760" y="1424520"/>
              <a:ext cx="67500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064680" y="1836360"/>
              <a:ext cx="150120" cy="880560"/>
              <a:chOff x="3064680" y="1836360"/>
              <a:chExt cx="150120" cy="880560"/>
            </a:xfrm>
          </p:grpSpPr>
          <p:sp>
            <p:nvSpPr>
              <p:cNvPr id="469" name=""/>
              <p:cNvSpPr/>
              <p:nvPr/>
            </p:nvSpPr>
            <p:spPr>
              <a:xfrm>
                <a:off x="3103560" y="1897920"/>
                <a:ext cx="72000" cy="757800"/>
              </a:xfrm>
              <a:custGeom>
                <a:avLst/>
                <a:gdLst/>
                <a:ahLst/>
                <a:rect l="l" t="t" r="r" b="b"/>
                <a:pathLst>
                  <a:path w="92" h="792">
                    <a:moveTo>
                      <a:pt x="61" y="792"/>
                    </a:moveTo>
                    <a:lnTo>
                      <a:pt x="92" y="789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61" y="79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2592360"/>
                <a:ext cx="10188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4680" y="183636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954880" y="1632960"/>
              <a:ext cx="354960" cy="193320"/>
              <a:chOff x="2954880" y="1632960"/>
              <a:chExt cx="354960" cy="193320"/>
            </a:xfrm>
          </p:grpSpPr>
          <p:sp>
            <p:nvSpPr>
              <p:cNvPr id="473" name=""/>
              <p:cNvSpPr/>
              <p:nvPr/>
            </p:nvSpPr>
            <p:spPr>
              <a:xfrm>
                <a:off x="2954880" y="1632960"/>
                <a:ext cx="354960" cy="19332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034800" y="1667160"/>
                <a:ext cx="20844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34440" y="1671120"/>
                <a:ext cx="26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DPH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288880" y="1502640"/>
              <a:ext cx="679680" cy="474840"/>
              <a:chOff x="2288880" y="1502640"/>
              <a:chExt cx="679680" cy="474840"/>
            </a:xfrm>
          </p:grpSpPr>
          <p:sp>
            <p:nvSpPr>
              <p:cNvPr id="477" name=""/>
              <p:cNvSpPr/>
              <p:nvPr/>
            </p:nvSpPr>
            <p:spPr>
              <a:xfrm>
                <a:off x="2288880" y="1502640"/>
                <a:ext cx="679680" cy="474840"/>
              </a:xfrm>
              <a:prstGeom prst="ellipse">
                <a:avLst/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2415960" y="1548360"/>
                <a:ext cx="435960" cy="355680"/>
                <a:chOff x="2415960" y="1548360"/>
                <a:chExt cx="435960" cy="3556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415960" y="1548360"/>
                  <a:ext cx="43596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89400" y="1594080"/>
                  <a:ext cx="29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Résea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20000" y="1734120"/>
                  <a:ext cx="294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MDP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5082120" y="2462760"/>
              <a:ext cx="147600" cy="16236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4118400" y="1954800"/>
              <a:ext cx="354600" cy="192960"/>
              <a:chOff x="4118400" y="1954800"/>
              <a:chExt cx="354600" cy="192960"/>
            </a:xfrm>
          </p:grpSpPr>
          <p:sp>
            <p:nvSpPr>
              <p:cNvPr id="484" name=""/>
              <p:cNvSpPr/>
              <p:nvPr/>
            </p:nvSpPr>
            <p:spPr>
              <a:xfrm>
                <a:off x="4118400" y="1954800"/>
                <a:ext cx="354600" cy="19296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98320" y="1987200"/>
                <a:ext cx="20376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196880" y="1991160"/>
                <a:ext cx="25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CN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973680" y="1479600"/>
              <a:ext cx="678240" cy="47520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000" y="1535040"/>
              <a:ext cx="43776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9880" y="1579320"/>
              <a:ext cx="29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ése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02640" y="172116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N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52160" y="2029680"/>
              <a:ext cx="10188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048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7320" y="1991160"/>
              <a:ext cx="149040" cy="16452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2560" y="1788120"/>
              <a:ext cx="149040" cy="16488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12040" y="2954880"/>
              <a:ext cx="117360" cy="1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37840" y="1052640"/>
              <a:ext cx="27961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93640" y="1098360"/>
              <a:ext cx="211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 nominaux Assurance maladi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43520" y="1550880"/>
              <a:ext cx="456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37080" y="5072040"/>
              <a:ext cx="896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5680" y="54568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30800" y="5640840"/>
              <a:ext cx="1152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Hopitaux établissemen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366160" y="3964320"/>
              <a:ext cx="144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93200" y="3250080"/>
              <a:ext cx="186840" cy="339840"/>
              <a:chOff x="3193200" y="3250080"/>
              <a:chExt cx="186840" cy="33984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3210120" y="3274920"/>
                <a:ext cx="151920" cy="315000"/>
                <a:chOff x="3210120" y="3274920"/>
                <a:chExt cx="151920" cy="3150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304080" y="3310560"/>
                  <a:ext cx="56160" cy="2790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211200" y="3274920"/>
                  <a:ext cx="92520" cy="315000"/>
                </a:xfrm>
                <a:custGeom>
                  <a:avLst/>
                  <a:gdLst/>
                  <a:ahLst/>
                  <a:rect l="l" t="t" r="r" b="b"/>
                  <a:pathLst>
                    <a:path w="1000" h="2800">
                      <a:moveTo>
                        <a:pt x="0" y="2130"/>
                      </a:moveTo>
                      <a:lnTo>
                        <a:pt x="1000" y="2800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302280" y="331056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304080" y="33512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333600" y="33512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318120" y="3333600"/>
                  <a:ext cx="284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34800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30228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304080" y="331452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333600" y="331452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04080" y="338940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333600" y="338940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18120" y="337032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348000" y="337032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304080" y="337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304080" y="3425760"/>
                  <a:ext cx="266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333600" y="342576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18120" y="34066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348000" y="3406680"/>
                  <a:ext cx="140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304080" y="3406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304080" y="346392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332160" y="346212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18120" y="344484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348000" y="344484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4080" y="344484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304080" y="35002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333600" y="3498480"/>
                  <a:ext cx="284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318120" y="348120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348000" y="348120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304080" y="3536640"/>
                  <a:ext cx="2664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333600" y="35366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18120" y="351756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348000" y="351756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04080" y="351756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04080" y="3573000"/>
                  <a:ext cx="266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33600" y="3573000"/>
                  <a:ext cx="28440" cy="1656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318120" y="355392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348000" y="355392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304080" y="355392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296520" y="3566880"/>
                  <a:ext cx="7560" cy="2124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270960" y="35478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2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2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247560" y="3527280"/>
                  <a:ext cx="21960" cy="3420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222360" y="3508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66"/>
                      </a:moveTo>
                      <a:lnTo>
                        <a:pt x="254" y="289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4" y="16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210120" y="3498480"/>
                  <a:ext cx="108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296520" y="331056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19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0960" y="33012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247560" y="32914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222360" y="328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4" h="206">
                      <a:moveTo>
                        <a:pt x="254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210120" y="327636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70960" y="333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247560" y="332640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22360" y="33145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8">
                      <a:moveTo>
                        <a:pt x="254" y="95"/>
                      </a:moveTo>
                      <a:lnTo>
                        <a:pt x="254" y="21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4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210120" y="330912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4"/>
                      </a:moveTo>
                      <a:lnTo>
                        <a:pt x="125" y="16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296520" y="338544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2"/>
                      </a:moveTo>
                      <a:lnTo>
                        <a:pt x="83" y="168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270960" y="337248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247560" y="33588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22360" y="334728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32">
                      <a:moveTo>
                        <a:pt x="254" y="110"/>
                      </a:moveTo>
                      <a:lnTo>
                        <a:pt x="254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210120" y="3339720"/>
                  <a:ext cx="108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73">
                      <a:moveTo>
                        <a:pt x="125" y="50"/>
                      </a:moveTo>
                      <a:lnTo>
                        <a:pt x="125" y="173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5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96520" y="342180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0" h="173">
                      <a:moveTo>
                        <a:pt x="80" y="41"/>
                      </a:moveTo>
                      <a:lnTo>
                        <a:pt x="80" y="17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270960" y="3406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7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47560" y="339300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222360" y="3377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45">
                      <a:moveTo>
                        <a:pt x="254" y="121"/>
                      </a:moveTo>
                      <a:lnTo>
                        <a:pt x="254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210120" y="337248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96520" y="345816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70960" y="3440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8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47560" y="342756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22360" y="3410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5">
                      <a:moveTo>
                        <a:pt x="254" y="131"/>
                      </a:moveTo>
                      <a:lnTo>
                        <a:pt x="254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10120" y="34027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1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1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96520" y="349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6"/>
                      </a:moveTo>
                      <a:lnTo>
                        <a:pt x="83" y="16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83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0960" y="34772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77">
                      <a:moveTo>
                        <a:pt x="254" y="144"/>
                      </a:moveTo>
                      <a:lnTo>
                        <a:pt x="254" y="277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47560" y="34599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71">
                      <a:moveTo>
                        <a:pt x="253" y="144"/>
                      </a:moveTo>
                      <a:lnTo>
                        <a:pt x="253" y="271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22360" y="34430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7" h="271">
                      <a:moveTo>
                        <a:pt x="257" y="149"/>
                      </a:moveTo>
                      <a:lnTo>
                        <a:pt x="257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7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210120" y="34351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4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296520" y="3530880"/>
                  <a:ext cx="7560" cy="20520"/>
                </a:xfrm>
                <a:custGeom>
                  <a:avLst/>
                  <a:gdLst/>
                  <a:ahLst/>
                  <a:rect l="l" t="t" r="r" b="b"/>
                  <a:pathLst>
                    <a:path w="80" h="193">
                      <a:moveTo>
                        <a:pt x="80" y="52"/>
                      </a:moveTo>
                      <a:lnTo>
                        <a:pt x="80" y="19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270960" y="3511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247560" y="349452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22360" y="347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76">
                      <a:moveTo>
                        <a:pt x="254" y="153"/>
                      </a:moveTo>
                      <a:lnTo>
                        <a:pt x="254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10120" y="346788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10120" y="3483000"/>
                  <a:ext cx="18720" cy="26640"/>
                </a:xfrm>
                <a:custGeom>
                  <a:avLst/>
                  <a:gdLst/>
                  <a:ahLst/>
                  <a:rect l="l" t="t" r="r" b="b"/>
                  <a:pathLst>
                    <a:path w="208" h="242">
                      <a:moveTo>
                        <a:pt x="208" y="132"/>
                      </a:moveTo>
                      <a:lnTo>
                        <a:pt x="208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77440" y="3534480"/>
                  <a:ext cx="26640" cy="34560"/>
                </a:xfrm>
                <a:custGeom>
                  <a:avLst/>
                  <a:gdLst/>
                  <a:ahLst/>
                  <a:rect l="l" t="t" r="r" b="b"/>
                  <a:pathLst>
                    <a:path w="285" h="313">
                      <a:moveTo>
                        <a:pt x="285" y="186"/>
                      </a:moveTo>
                      <a:lnTo>
                        <a:pt x="285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5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255480" y="3517560"/>
                  <a:ext cx="201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30280" y="34984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5">
                      <a:moveTo>
                        <a:pt x="248" y="152"/>
                      </a:moveTo>
                      <a:lnTo>
                        <a:pt x="248" y="275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248" y="1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10120" y="329400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219" h="196">
                      <a:moveTo>
                        <a:pt x="219" y="77"/>
                      </a:moveTo>
                      <a:lnTo>
                        <a:pt x="219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19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55480" y="3313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8" h="219">
                      <a:moveTo>
                        <a:pt x="238" y="85"/>
                      </a:moveTo>
                      <a:lnTo>
                        <a:pt x="238" y="21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38" y="8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232080" y="3301200"/>
                  <a:ext cx="21600" cy="24840"/>
                </a:xfrm>
                <a:custGeom>
                  <a:avLst/>
                  <a:gdLst/>
                  <a:ahLst/>
                  <a:rect l="l" t="t" r="r" b="b"/>
                  <a:pathLst>
                    <a:path w="250" h="212">
                      <a:moveTo>
                        <a:pt x="250" y="89"/>
                      </a:moveTo>
                      <a:lnTo>
                        <a:pt x="250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210120" y="33242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08">
                      <a:moveTo>
                        <a:pt x="219" y="91"/>
                      </a:moveTo>
                      <a:lnTo>
                        <a:pt x="219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19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78880" y="3358800"/>
                  <a:ext cx="25200" cy="2628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255480" y="3347280"/>
                  <a:ext cx="21960" cy="24840"/>
                </a:xfrm>
                <a:custGeom>
                  <a:avLst/>
                  <a:gdLst/>
                  <a:ahLst/>
                  <a:rect l="l" t="t" r="r" b="b"/>
                  <a:pathLst>
                    <a:path w="238" h="225">
                      <a:moveTo>
                        <a:pt x="238" y="92"/>
                      </a:moveTo>
                      <a:lnTo>
                        <a:pt x="238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8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232080" y="3335760"/>
                  <a:ext cx="21600" cy="24480"/>
                </a:xfrm>
                <a:custGeom>
                  <a:avLst/>
                  <a:gdLst/>
                  <a:ahLst/>
                  <a:rect l="l" t="t" r="r" b="b"/>
                  <a:pathLst>
                    <a:path w="250" h="224">
                      <a:moveTo>
                        <a:pt x="250" y="101"/>
                      </a:moveTo>
                      <a:lnTo>
                        <a:pt x="250" y="224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50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210120" y="33566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18">
                      <a:moveTo>
                        <a:pt x="219" y="101"/>
                      </a:moveTo>
                      <a:lnTo>
                        <a:pt x="219" y="218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1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55480" y="33818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8" h="237">
                      <a:moveTo>
                        <a:pt x="238" y="101"/>
                      </a:moveTo>
                      <a:lnTo>
                        <a:pt x="238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8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2080" y="3368520"/>
                  <a:ext cx="21600" cy="26280"/>
                </a:xfrm>
                <a:custGeom>
                  <a:avLst/>
                  <a:gdLst/>
                  <a:ahLst/>
                  <a:rect l="l" t="t" r="r" b="b"/>
                  <a:pathLst>
                    <a:path w="250" h="235">
                      <a:moveTo>
                        <a:pt x="250" y="111"/>
                      </a:moveTo>
                      <a:lnTo>
                        <a:pt x="250" y="235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0" y="11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10120" y="33876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2">
                      <a:moveTo>
                        <a:pt x="208" y="103"/>
                      </a:moveTo>
                      <a:lnTo>
                        <a:pt x="208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277440" y="342756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55480" y="341424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1">
                      <a:moveTo>
                        <a:pt x="236" y="114"/>
                      </a:moveTo>
                      <a:lnTo>
                        <a:pt x="236" y="25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1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0280" y="34009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210120" y="34200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8">
                      <a:moveTo>
                        <a:pt x="208" y="108"/>
                      </a:moveTo>
                      <a:lnTo>
                        <a:pt x="208" y="22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208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77440" y="346392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4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255480" y="344880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30280" y="343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210120" y="345024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133"/>
                      </a:moveTo>
                      <a:lnTo>
                        <a:pt x="208" y="251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08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277440" y="3498480"/>
                  <a:ext cx="2664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255480" y="3483000"/>
                  <a:ext cx="201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30280" y="34660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1">
                      <a:moveTo>
                        <a:pt x="248" y="149"/>
                      </a:moveTo>
                      <a:lnTo>
                        <a:pt x="248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278880" y="3322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5" h="236">
                      <a:moveTo>
                        <a:pt x="275" y="96"/>
                      </a:moveTo>
                      <a:lnTo>
                        <a:pt x="275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296520" y="334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278880" y="3393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5" h="258">
                      <a:moveTo>
                        <a:pt x="275" y="119"/>
                      </a:moveTo>
                      <a:lnTo>
                        <a:pt x="275" y="258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1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304080" y="3481200"/>
                  <a:ext cx="122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193200" y="3250080"/>
                <a:ext cx="186840" cy="64440"/>
                <a:chOff x="3193200" y="3250080"/>
                <a:chExt cx="186840" cy="644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3193200" y="3250080"/>
                  <a:ext cx="186840" cy="38160"/>
                </a:xfrm>
                <a:custGeom>
                  <a:avLst/>
                  <a:gdLst/>
                  <a:ahLst/>
                  <a:rect l="l" t="t" r="r" b="b"/>
                  <a:pathLst>
                    <a:path w="2020" h="340">
                      <a:moveTo>
                        <a:pt x="0" y="0"/>
                      </a:moveTo>
                      <a:lnTo>
                        <a:pt x="869" y="25"/>
                      </a:lnTo>
                      <a:lnTo>
                        <a:pt x="2020" y="326"/>
                      </a:lnTo>
                      <a:lnTo>
                        <a:pt x="1220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307320" y="3286080"/>
                  <a:ext cx="7236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194280" y="3251880"/>
                  <a:ext cx="114480" cy="6228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5605200" y="3709440"/>
              <a:ext cx="185040" cy="340200"/>
              <a:chOff x="5605200" y="3709440"/>
              <a:chExt cx="185040" cy="34020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5620680" y="3733920"/>
                <a:ext cx="153360" cy="315720"/>
                <a:chOff x="5620680" y="3733920"/>
                <a:chExt cx="153360" cy="3157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5714640" y="377028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623560" y="373392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714640" y="377028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714640" y="381060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44520" y="381060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730120" y="379332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758200" y="37911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713200" y="379116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714640" y="377208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745960" y="37742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71464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4452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28680" y="382968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758200" y="382968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14640" y="3829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71464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74452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728680" y="386568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758200" y="386568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14640" y="386568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71464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74452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728680" y="390420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758200" y="390204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14640" y="390204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714640" y="3960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744520" y="395784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730120" y="394020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58200" y="394020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714640" y="399600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44520" y="399600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728680" y="3976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758200" y="3976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714640" y="3976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4640" y="40323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44520" y="403236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728680" y="401328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58200" y="401328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4640" y="40132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708160" y="402660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683320" y="400536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658120" y="398628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633280" y="3967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620680" y="395784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08160" y="377028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68332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58120" y="375120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633280" y="374148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20680" y="37360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683320" y="3795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658120" y="37854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633280" y="37742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20680" y="3768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08160" y="384480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83320" y="383148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658120" y="381780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633280" y="38066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620680" y="3798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708160" y="387900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83320" y="386568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658120" y="38527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633280" y="3836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620680" y="3831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708160" y="391752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683320" y="3900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658120" y="38851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633280" y="3869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620680" y="3862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706720" y="39538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683320" y="3936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58120" y="39196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633280" y="39020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620680" y="38948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708160" y="39902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683320" y="397116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58120" y="3953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33280" y="3934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620680" y="39272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620680" y="394236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89440" y="399420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66040" y="39769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41200" y="39578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20680" y="375300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666040" y="3772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64264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620680" y="37836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689440" y="3816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666040" y="38066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642640" y="37951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620680" y="38163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666040" y="38394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642640" y="38275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620680" y="38466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689440" y="3886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666040" y="387360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641200" y="3858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20680" y="38790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689440" y="392328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666040" y="390780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641200" y="3892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620680" y="390996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689440" y="3957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66040" y="394236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641200" y="39250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689440" y="3781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06720" y="380664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689440" y="385272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14640" y="394020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5605200" y="3709440"/>
                <a:ext cx="185040" cy="64440"/>
                <a:chOff x="5605200" y="3709440"/>
                <a:chExt cx="185040" cy="644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605200" y="370944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717880" y="374544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605200" y="370944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1" name=""/>
            <p:cNvSpPr/>
            <p:nvPr/>
          </p:nvSpPr>
          <p:spPr>
            <a:xfrm>
              <a:off x="4969440" y="2868480"/>
              <a:ext cx="39384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53680" y="1165320"/>
              <a:ext cx="478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44400" y="2930040"/>
              <a:ext cx="963720" cy="503280"/>
            </a:xfrm>
            <a:custGeom>
              <a:avLst/>
              <a:gdLst/>
              <a:ahLst/>
              <a:rect l="l" t="t" r="r" b="b"/>
              <a:pathLst>
                <a:path w="1169" h="497">
                  <a:moveTo>
                    <a:pt x="0" y="468"/>
                  </a:moveTo>
                  <a:lnTo>
                    <a:pt x="11" y="497"/>
                  </a:lnTo>
                  <a:lnTo>
                    <a:pt x="1169" y="28"/>
                  </a:lnTo>
                  <a:lnTo>
                    <a:pt x="1157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00120" y="2698200"/>
              <a:ext cx="345240" cy="5896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57560" y="2667240"/>
              <a:ext cx="72000" cy="758880"/>
            </a:xfrm>
            <a:custGeom>
              <a:avLst/>
              <a:gdLst/>
              <a:ahLst/>
              <a:rect l="l" t="t" r="r" b="b"/>
              <a:pathLst>
                <a:path w="92" h="792">
                  <a:moveTo>
                    <a:pt x="61" y="792"/>
                  </a:moveTo>
                  <a:lnTo>
                    <a:pt x="92" y="789"/>
                  </a:lnTo>
                  <a:lnTo>
                    <a:pt x="31" y="0"/>
                  </a:lnTo>
                  <a:lnTo>
                    <a:pt x="0" y="3"/>
                  </a:lnTo>
                  <a:lnTo>
                    <a:pt x="61" y="79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1832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05200" y="1962720"/>
              <a:ext cx="753120" cy="551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ites aux lettres assurance 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228280" y="2330280"/>
              <a:ext cx="185400" cy="340200"/>
              <a:chOff x="5228280" y="2330280"/>
              <a:chExt cx="185400" cy="3402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5243760" y="2354760"/>
                <a:ext cx="153720" cy="315720"/>
                <a:chOff x="5243760" y="2354760"/>
                <a:chExt cx="153720" cy="315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337720" y="2391120"/>
                  <a:ext cx="5796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246640" y="2354760"/>
                  <a:ext cx="9108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337720" y="239112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337720" y="2431440"/>
                  <a:ext cx="280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367600" y="2431440"/>
                  <a:ext cx="298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353560" y="241416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381640" y="24120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336280" y="24120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337720" y="239292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369040" y="23950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33772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36760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352120" y="2450520"/>
                  <a:ext cx="295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381640" y="24505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337720" y="24505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33772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36760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352120" y="2486520"/>
                  <a:ext cx="295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381640" y="24865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337720" y="24865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33772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36760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352120" y="252504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381640" y="25228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337720" y="25228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337720" y="25808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367600" y="257868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353560" y="256104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381640" y="25610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337720" y="2616840"/>
                  <a:ext cx="2808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367600" y="26168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352120" y="259776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381640" y="25977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337720" y="25977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337720" y="26532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367600" y="2653200"/>
                  <a:ext cx="2808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352120" y="263412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381640" y="26341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337720" y="26341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331600" y="26474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306400" y="26262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281200" y="26071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56360" y="25880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43760" y="25786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331600" y="23911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30640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81200" y="23720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56360" y="23623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243760" y="23569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06400" y="24159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281200" y="24062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256360" y="23950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243760" y="2389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331600" y="24656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306400" y="24523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281200" y="24386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256360" y="24274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43760" y="24195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331600" y="24998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306400" y="24865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281200" y="24735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256360" y="24577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243760" y="2452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331600" y="25383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306400" y="25214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281200" y="2505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256360" y="2490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243760" y="24829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330160" y="25747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06400" y="25578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281200" y="25405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256360" y="2522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43760" y="25156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331600" y="26110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306400" y="25920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281200" y="2574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256360" y="25556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43760" y="2548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243760" y="25632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312520" y="26150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289120" y="25977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264280" y="2578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43760" y="23738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289120" y="23929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26572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243760" y="24044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312520" y="24372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9120" y="24274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265720" y="24159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243760" y="24372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289120" y="24602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265720" y="24483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243760" y="24674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312520" y="25077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289120" y="24944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264280" y="2479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243760" y="24998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312520" y="25441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289120" y="25286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264280" y="2513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43760" y="25308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312520" y="25786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9120" y="25632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264280" y="25459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312520" y="24022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330160" y="24274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312520" y="24735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337720" y="25610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5228280" y="2330280"/>
                <a:ext cx="185400" cy="64440"/>
                <a:chOff x="5228280" y="2330280"/>
                <a:chExt cx="185400" cy="644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5228280" y="2330280"/>
                  <a:ext cx="18540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341320" y="23662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228280" y="2330280"/>
                  <a:ext cx="11628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"/>
            <p:cNvGrpSpPr/>
            <p:nvPr/>
          </p:nvGrpSpPr>
          <p:grpSpPr>
            <a:xfrm>
              <a:off x="1224360" y="3688560"/>
              <a:ext cx="461160" cy="399600"/>
              <a:chOff x="1224360" y="3688560"/>
              <a:chExt cx="461160" cy="399600"/>
            </a:xfrm>
          </p:grpSpPr>
          <p:sp>
            <p:nvSpPr>
              <p:cNvPr id="853" name=""/>
              <p:cNvSpPr/>
              <p:nvPr/>
            </p:nvSpPr>
            <p:spPr>
              <a:xfrm>
                <a:off x="1390680" y="3688560"/>
                <a:ext cx="294840" cy="344160"/>
              </a:xfrm>
              <a:custGeom>
                <a:avLst/>
                <a:gdLst/>
                <a:ahLst/>
                <a:rect l="l" t="t" r="r" b="b"/>
                <a:pathLst>
                  <a:path w="469" h="451">
                    <a:moveTo>
                      <a:pt x="207" y="451"/>
                    </a:moveTo>
                    <a:lnTo>
                      <a:pt x="469" y="179"/>
                    </a:lnTo>
                    <a:lnTo>
                      <a:pt x="367" y="0"/>
                    </a:lnTo>
                    <a:lnTo>
                      <a:pt x="0" y="92"/>
                    </a:lnTo>
                    <a:lnTo>
                      <a:pt x="207" y="451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1224360" y="3778560"/>
                <a:ext cx="176760" cy="67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1252080" y="3839400"/>
                <a:ext cx="170280" cy="85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1294200" y="3907440"/>
                <a:ext cx="160200" cy="1011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1344960" y="3970080"/>
                <a:ext cx="142560" cy="1180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668600" y="3433680"/>
              <a:ext cx="469440" cy="329040"/>
              <a:chOff x="1668600" y="3433680"/>
              <a:chExt cx="469440" cy="329040"/>
            </a:xfrm>
          </p:grpSpPr>
          <p:sp>
            <p:nvSpPr>
              <p:cNvPr id="859" name=""/>
              <p:cNvSpPr/>
              <p:nvPr/>
            </p:nvSpPr>
            <p:spPr>
              <a:xfrm>
                <a:off x="1705320" y="3477960"/>
                <a:ext cx="395280" cy="239400"/>
              </a:xfrm>
              <a:custGeom>
                <a:avLst/>
                <a:gdLst/>
                <a:ahLst/>
                <a:rect l="l" t="t" r="r" b="b"/>
                <a:pathLst>
                  <a:path w="532" h="226">
                    <a:moveTo>
                      <a:pt x="0" y="202"/>
                    </a:moveTo>
                    <a:lnTo>
                      <a:pt x="10" y="226"/>
                    </a:lnTo>
                    <a:lnTo>
                      <a:pt x="532" y="24"/>
                    </a:lnTo>
                    <a:lnTo>
                      <a:pt x="523" y="0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668600" y="3647520"/>
                <a:ext cx="8172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057040" y="3433680"/>
                <a:ext cx="8100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1610280" y="4307400"/>
              <a:ext cx="411840" cy="505440"/>
              <a:chOff x="1610280" y="4307400"/>
              <a:chExt cx="411840" cy="505440"/>
            </a:xfrm>
          </p:grpSpPr>
          <p:sp>
            <p:nvSpPr>
              <p:cNvPr id="863" name=""/>
              <p:cNvSpPr/>
              <p:nvPr/>
            </p:nvSpPr>
            <p:spPr>
              <a:xfrm>
                <a:off x="1730160" y="4307400"/>
                <a:ext cx="291960" cy="365400"/>
              </a:xfrm>
              <a:custGeom>
                <a:avLst/>
                <a:gdLst/>
                <a:ahLst/>
                <a:rect l="l" t="t" r="r" b="b"/>
                <a:pathLst>
                  <a:path w="464" h="477">
                    <a:moveTo>
                      <a:pt x="341" y="477"/>
                    </a:moveTo>
                    <a:lnTo>
                      <a:pt x="464" y="119"/>
                    </a:lnTo>
                    <a:lnTo>
                      <a:pt x="294" y="0"/>
                    </a:lnTo>
                    <a:lnTo>
                      <a:pt x="0" y="239"/>
                    </a:lnTo>
                    <a:lnTo>
                      <a:pt x="341" y="477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1610280" y="4502520"/>
                <a:ext cx="136440" cy="1522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1663200" y="4546080"/>
                <a:ext cx="124920" cy="1659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1731240" y="4592160"/>
                <a:ext cx="109440" cy="1746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1804680" y="4632120"/>
                <a:ext cx="87480" cy="1807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960920" y="3761280"/>
              <a:ext cx="424800" cy="580680"/>
              <a:chOff x="1960920" y="3761280"/>
              <a:chExt cx="424800" cy="580680"/>
            </a:xfrm>
          </p:grpSpPr>
          <p:sp>
            <p:nvSpPr>
              <p:cNvPr id="869" name=""/>
              <p:cNvSpPr/>
              <p:nvPr/>
            </p:nvSpPr>
            <p:spPr>
              <a:xfrm>
                <a:off x="1988280" y="3795840"/>
                <a:ext cx="368640" cy="510840"/>
              </a:xfrm>
              <a:custGeom>
                <a:avLst/>
                <a:gdLst/>
                <a:ahLst/>
                <a:rect l="l" t="t" r="r" b="b"/>
                <a:pathLst>
                  <a:path w="587" h="667">
                    <a:moveTo>
                      <a:pt x="0" y="649"/>
                    </a:moveTo>
                    <a:lnTo>
                      <a:pt x="19" y="667"/>
                    </a:lnTo>
                    <a:lnTo>
                      <a:pt x="587" y="18"/>
                    </a:lnTo>
                    <a:lnTo>
                      <a:pt x="568" y="0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60920" y="425844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16960" y="3761280"/>
                <a:ext cx="6876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1783440" y="4395600"/>
              <a:ext cx="232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24120" y="44265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30720" y="4742280"/>
              <a:ext cx="163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13880" y="3684960"/>
              <a:ext cx="100080" cy="11088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3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3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27800" y="4286520"/>
              <a:ext cx="100080" cy="1105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1"/>
                  </a:lnTo>
                  <a:lnTo>
                    <a:pt x="42" y="144"/>
                  </a:lnTo>
                  <a:lnTo>
                    <a:pt x="116" y="144"/>
                  </a:lnTo>
                  <a:lnTo>
                    <a:pt x="159" y="101"/>
                  </a:lnTo>
                  <a:lnTo>
                    <a:pt x="159" y="42"/>
                  </a:lnTo>
                  <a:lnTo>
                    <a:pt x="11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432080" y="3759480"/>
              <a:ext cx="2005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71320" y="37904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58480" y="1778400"/>
              <a:ext cx="988920" cy="1304640"/>
            </a:xfrm>
            <a:custGeom>
              <a:avLst/>
              <a:gdLst/>
              <a:ahLst/>
              <a:rect l="l" t="t" r="r" b="b"/>
              <a:pathLst>
                <a:path w="1575" h="1701">
                  <a:moveTo>
                    <a:pt x="1537" y="1701"/>
                  </a:moveTo>
                  <a:lnTo>
                    <a:pt x="1575" y="1667"/>
                  </a:lnTo>
                  <a:lnTo>
                    <a:pt x="38" y="0"/>
                  </a:lnTo>
                  <a:lnTo>
                    <a:pt x="0" y="35"/>
                  </a:lnTo>
                  <a:lnTo>
                    <a:pt x="1537" y="170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22640" y="1502640"/>
              <a:ext cx="1315440" cy="1312200"/>
            </a:xfrm>
            <a:custGeom>
              <a:avLst/>
              <a:gdLst/>
              <a:ahLst/>
              <a:rect l="l" t="t" r="r" b="b"/>
              <a:pathLst>
                <a:path w="2096" h="1714">
                  <a:moveTo>
                    <a:pt x="0" y="1674"/>
                  </a:moveTo>
                  <a:lnTo>
                    <a:pt x="33" y="1714"/>
                  </a:lnTo>
                  <a:lnTo>
                    <a:pt x="2096" y="40"/>
                  </a:lnTo>
                  <a:lnTo>
                    <a:pt x="2063" y="0"/>
                  </a:lnTo>
                  <a:lnTo>
                    <a:pt x="0" y="167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8320" y="3985560"/>
              <a:ext cx="46800" cy="1400400"/>
            </a:xfrm>
            <a:custGeom>
              <a:avLst/>
              <a:gdLst/>
              <a:ahLst/>
              <a:rect l="l" t="t" r="r" b="b"/>
              <a:pathLst>
                <a:path w="75" h="1828">
                  <a:moveTo>
                    <a:pt x="75" y="1"/>
                  </a:moveTo>
                  <a:lnTo>
                    <a:pt x="23" y="0"/>
                  </a:lnTo>
                  <a:lnTo>
                    <a:pt x="0" y="1827"/>
                  </a:lnTo>
                  <a:lnTo>
                    <a:pt x="52" y="1828"/>
                  </a:lnTo>
                  <a:lnTo>
                    <a:pt x="75" y="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2307960" y="2286360"/>
              <a:ext cx="258480" cy="520200"/>
              <a:chOff x="2307960" y="2286360"/>
              <a:chExt cx="258480" cy="520200"/>
            </a:xfrm>
          </p:grpSpPr>
          <p:sp>
            <p:nvSpPr>
              <p:cNvPr id="883" name=""/>
              <p:cNvSpPr/>
              <p:nvPr/>
            </p:nvSpPr>
            <p:spPr>
              <a:xfrm>
                <a:off x="2334960" y="2323080"/>
                <a:ext cx="204840" cy="446040"/>
              </a:xfrm>
              <a:custGeom>
                <a:avLst/>
                <a:gdLst/>
                <a:ahLst/>
                <a:rect l="l" t="t" r="r" b="b"/>
                <a:pathLst>
                  <a:path w="327" h="581">
                    <a:moveTo>
                      <a:pt x="23" y="0"/>
                    </a:moveTo>
                    <a:lnTo>
                      <a:pt x="0" y="12"/>
                    </a:lnTo>
                    <a:lnTo>
                      <a:pt x="304" y="581"/>
                    </a:lnTo>
                    <a:lnTo>
                      <a:pt x="327" y="56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307960" y="228636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498400" y="2723040"/>
                <a:ext cx="6804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2001600" y="2012040"/>
              <a:ext cx="505440" cy="28908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99160" y="2023920"/>
              <a:ext cx="3074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6960" y="205416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333cc"/>
                  </a:solidFill>
                  <a:latin typeface="Times New Roman"/>
                </a:rPr>
                <a:t>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43080" y="216540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3333cc"/>
                  </a:solidFill>
                  <a:latin typeface="Times New Roman"/>
                </a:rPr>
                <a:t>TIERS infogéré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76640" y="2261520"/>
              <a:ext cx="100080" cy="1087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2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90560" y="1389600"/>
              <a:ext cx="846000" cy="33120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45640" y="1360800"/>
              <a:ext cx="45216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83440" y="1410840"/>
              <a:ext cx="75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be0e3"/>
                  </a:solidFill>
                  <a:latin typeface="Times New Roman"/>
                </a:rPr>
                <a:t>Service externe habil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32120" y="1226520"/>
              <a:ext cx="36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ervices F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097520" y="1594440"/>
              <a:ext cx="2109960" cy="1287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44400" y="2881800"/>
              <a:ext cx="753120" cy="4600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60000" y="1594800"/>
              <a:ext cx="678240" cy="2206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7760" y="3721320"/>
              <a:ext cx="869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25320" y="3797640"/>
              <a:ext cx="118224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6885720" y="4077720"/>
              <a:ext cx="417600" cy="754200"/>
              <a:chOff x="6885720" y="4077720"/>
              <a:chExt cx="417600" cy="754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915600" y="407772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6885720" y="449100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6989040" y="450288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7111440" y="450072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212240" y="449712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6978960" y="420804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36200" y="425376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7583040" y="4069800"/>
              <a:ext cx="419040" cy="754560"/>
              <a:chOff x="7583040" y="4069800"/>
              <a:chExt cx="419040" cy="754560"/>
            </a:xfrm>
          </p:grpSpPr>
          <p:sp>
            <p:nvSpPr>
              <p:cNvPr id="909" name=""/>
              <p:cNvSpPr/>
              <p:nvPr/>
            </p:nvSpPr>
            <p:spPr>
              <a:xfrm>
                <a:off x="7614720" y="406980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7583040" y="4483440"/>
                <a:ext cx="6084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7688160" y="449496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7809120" y="449316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909920" y="448920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675920" y="420012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33880" y="42462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7791840" y="3966480"/>
              <a:ext cx="144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15400" y="3954600"/>
              <a:ext cx="108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7354080" y="3700080"/>
              <a:ext cx="185040" cy="340200"/>
              <a:chOff x="7354080" y="3700080"/>
              <a:chExt cx="185040" cy="34020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7369560" y="3724560"/>
                <a:ext cx="153360" cy="315720"/>
                <a:chOff x="7369560" y="3724560"/>
                <a:chExt cx="153360" cy="3157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463520" y="376092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372440" y="372456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463520" y="376092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63520" y="380124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93400" y="380124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79000" y="378396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507080" y="37818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62080" y="37818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463520" y="37627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494840" y="37648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46352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49340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77560" y="382032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507080" y="38203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463520" y="382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46352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9340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477560" y="385632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07080" y="38563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463520" y="38563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46352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49340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477560" y="389484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507080" y="38926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463520" y="38926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463520" y="395064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493400" y="394848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479000" y="393084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507080" y="39308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463520" y="398664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493400" y="398664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77560" y="396756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507080" y="39675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463520" y="39675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463520" y="4023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93400" y="402300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477560" y="4003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07080" y="4003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463520" y="4003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457040" y="40172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432200" y="39960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407000" y="39769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382160" y="39578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369560" y="39484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457040" y="37609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43220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407000" y="37418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382160" y="373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369560" y="3726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432200" y="378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407000" y="37760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382160" y="37648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369560" y="3759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457040" y="38354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432200" y="3822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407000" y="38084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382160" y="37972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369560" y="37893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457040" y="38696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432200" y="38563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407000" y="38433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382160" y="3827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369560" y="3822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457040" y="39081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432200" y="38912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407000" y="38757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382160" y="38602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369560" y="38527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455600" y="394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32200" y="3927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407000" y="39103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382160" y="3892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369560" y="38854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457040" y="39808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32200" y="3961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407000" y="39445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382160" y="392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369560" y="39178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369560" y="39330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438320" y="3984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414920" y="39675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90080" y="39484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369560" y="37436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414920" y="37627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39152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369560" y="37742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438320" y="3807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414920" y="37972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391520" y="37857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369560" y="38070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414920" y="38300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391520" y="38181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369560" y="38372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438320" y="38775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414920" y="38642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390080" y="38491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9560" y="38696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438320" y="3913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414920" y="38984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90080" y="388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369560" y="39006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438320" y="39484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414920" y="39330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390080" y="3915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38320" y="37720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55600" y="379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38320" y="3843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63520" y="39308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7354080" y="3700080"/>
                <a:ext cx="185040" cy="64440"/>
                <a:chOff x="7354080" y="3700080"/>
                <a:chExt cx="185040" cy="64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7354080" y="370008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466760" y="37360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354080" y="370008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2" name=""/>
            <p:cNvSpPr/>
            <p:nvPr/>
          </p:nvSpPr>
          <p:spPr>
            <a:xfrm>
              <a:off x="3720960" y="5456880"/>
              <a:ext cx="753480" cy="7354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NS publi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« rsv.fr 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5840" y="2973960"/>
              <a:ext cx="1431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ors marché, contrat ent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estataire Réseau et FAI/O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19160" y="4997160"/>
              <a:ext cx="59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ez Co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7564320" y="4905360"/>
              <a:ext cx="301320" cy="275400"/>
              <a:chOff x="7564320" y="4905360"/>
              <a:chExt cx="301320" cy="2754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63956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56432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077440" y="4905360"/>
              <a:ext cx="301320" cy="275400"/>
              <a:chOff x="5077440" y="4905360"/>
              <a:chExt cx="301320" cy="27540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5268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7744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886080" y="4905360"/>
              <a:ext cx="301320" cy="275400"/>
              <a:chOff x="6886080" y="4905360"/>
              <a:chExt cx="301320" cy="275400"/>
            </a:xfrm>
          </p:grpSpPr>
          <p:sp>
            <p:nvSpPr>
              <p:cNvPr id="1042" name=""/>
              <p:cNvSpPr/>
              <p:nvPr/>
            </p:nvSpPr>
            <p:spPr>
              <a:xfrm>
                <a:off x="696132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88608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831280" y="4905360"/>
              <a:ext cx="300960" cy="275400"/>
              <a:chOff x="5831280" y="4905360"/>
              <a:chExt cx="300960" cy="275400"/>
            </a:xfrm>
          </p:grpSpPr>
          <p:sp>
            <p:nvSpPr>
              <p:cNvPr id="1045" name=""/>
              <p:cNvSpPr/>
              <p:nvPr/>
            </p:nvSpPr>
            <p:spPr>
              <a:xfrm>
                <a:off x="590652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3128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1535760" y="1778400"/>
              <a:ext cx="1706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1535760" y="4905360"/>
              <a:ext cx="300960" cy="275400"/>
              <a:chOff x="1535760" y="4905360"/>
              <a:chExt cx="300960" cy="275400"/>
            </a:xfrm>
          </p:grpSpPr>
          <p:sp>
            <p:nvSpPr>
              <p:cNvPr id="1049" name=""/>
              <p:cNvSpPr/>
              <p:nvPr/>
            </p:nvSpPr>
            <p:spPr>
              <a:xfrm>
                <a:off x="161100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53576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932400" y="4077720"/>
              <a:ext cx="301320" cy="275400"/>
              <a:chOff x="932400" y="4077720"/>
              <a:chExt cx="301320" cy="275400"/>
            </a:xfrm>
          </p:grpSpPr>
          <p:sp>
            <p:nvSpPr>
              <p:cNvPr id="1052" name=""/>
              <p:cNvSpPr/>
              <p:nvPr/>
            </p:nvSpPr>
            <p:spPr>
              <a:xfrm>
                <a:off x="1007640" y="407772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932400" y="426168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1234080" y="4629240"/>
              <a:ext cx="301320" cy="275400"/>
              <a:chOff x="1234080" y="4629240"/>
              <a:chExt cx="301320" cy="275400"/>
            </a:xfrm>
          </p:grpSpPr>
          <p:sp>
            <p:nvSpPr>
              <p:cNvPr id="1055" name=""/>
              <p:cNvSpPr/>
              <p:nvPr/>
            </p:nvSpPr>
            <p:spPr>
              <a:xfrm>
                <a:off x="1309320" y="46292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234080" y="48132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706320" y="3709440"/>
              <a:ext cx="301320" cy="275400"/>
              <a:chOff x="706320" y="3709440"/>
              <a:chExt cx="301320" cy="275400"/>
            </a:xfrm>
          </p:grpSpPr>
          <p:sp>
            <p:nvSpPr>
              <p:cNvPr id="1058" name=""/>
              <p:cNvSpPr/>
              <p:nvPr/>
            </p:nvSpPr>
            <p:spPr>
              <a:xfrm>
                <a:off x="781560" y="37094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6320" y="38934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179280" y="43534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200" y="4997160"/>
              <a:ext cx="11239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ôpitaux établiss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3645360" y="2054160"/>
              <a:ext cx="452160" cy="643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14960" y="2790360"/>
              <a:ext cx="678240" cy="5515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062800" y="3341880"/>
              <a:ext cx="1130400" cy="183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2364480" y="3341880"/>
              <a:ext cx="828720" cy="45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4360" y="2881800"/>
              <a:ext cx="0" cy="9194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 txBox="1"/>
          <p:nvPr/>
        </p:nvSpPr>
        <p:spPr>
          <a:xfrm>
            <a:off x="6084720" y="2708280"/>
            <a:ext cx="26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ERNE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8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30B-56B7-4698-97CB-7FF0FFA1C6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28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2"/>
          <a:stretch/>
        </p:blipFill>
        <p:spPr>
          <a:xfrm>
            <a:off x="2340000" y="1309680"/>
            <a:ext cx="446400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3F0-4F12-4E87-90F6-51FA737E5D1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VPN protège les éléments transportés contre l’écoute. (confidentialité) 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(non écout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tout flux TCP/IP, de plus ,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 tout flux passe par un centre de service qui autorise selon une grille d’autorisation matricielle l’échange entre 2 points du VP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part son implémentation, Il garantit que la MDPH est le dernier dépositaire du flux avant son émission vers la C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uthentification de l’expéditeur doit être garantie par d’autres moyens (log-in, authentification par clé USB ou par carte.) 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(nécessite un moyen annexe d’authentification et/ou de signature pour les flux asynchrones « SMTP, FTP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La robustesse est celle d’un réseau privé (débit garant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Solution économique si l’on utilise un VPN exi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7D0-1365-4C28-9D02-8ECF33EFDD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511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3) Le transport : les chemins</a:t>
            </a:r>
            <a:br>
              <a:rPr sz="36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transport sur internet sans VPN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4752720" cy="356688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383040" y="5392800"/>
            <a:ext cx="72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 alors les outils de scellage et d’achemi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se chargent de la sécu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ADC-9888-41A0-B7DF-E60B5560962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3) Le transport :  Les véhicules 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(les technologies d’échange)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esto une norme interopérabl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823-5034-4386-A4B9-B26B1BFBE1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ontext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807588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36576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36576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 est une enveloppe de transport pour l’échange de documents électroniques entre SI d’admin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9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9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6f00"/>
              </a:gs>
              <a:gs pos="50000">
                <a:srgbClr val="ff9900"/>
              </a:gs>
              <a:gs pos="100000">
                <a:srgbClr val="b9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948360" y="1413000"/>
            <a:ext cx="219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tocole proprié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d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411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411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643280" y="909720"/>
            <a:ext cx="2160720" cy="114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3280" y="1700280"/>
            <a:ext cx="216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04000" y="1557360"/>
            <a:ext cx="144360" cy="136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39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771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003640" y="429408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39640" y="5156280"/>
            <a:ext cx="6624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3274920" y="5300640"/>
            <a:ext cx="1152720" cy="4935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7164360" y="522936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36000" y="5229360"/>
            <a:ext cx="21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e standard réutili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392-515E-4F64-817E-CC330F712AE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4313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hanges point à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tifs d’échange suppor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imple (one way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ans attente de réponse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de dossier et traitement ult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ête/Répon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s où l’émetteur reste en attente d’un message en ré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5183280" y="1628640"/>
          <a:ext cx="3960720" cy="19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3280" y="1628640"/>
                    <a:ext cx="396072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"/>
          <p:cNvGraphicFramePr/>
          <p:nvPr/>
        </p:nvGraphicFramePr>
        <p:xfrm>
          <a:off x="5181480" y="3645000"/>
          <a:ext cx="3962520" cy="19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645000"/>
                    <a:ext cx="396252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FCA-1440-42FF-9B85-357BE13741E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75578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le routage de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de décrire les capacités du destin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ation du transport d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XML, PDF, scanné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abilité de la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message transmis arrive exactement 1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 des acquittements de réception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écurité au niveau du message (utilisation optionn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égrité du message (signature par l’émetteur PRE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é du message (chiff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1E2-FB54-488D-99F1-C8EEEED6AD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incip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ép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u protocole métier : les données transportées sont op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es technologies suppor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ens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définir un canal PRESTO offrant différents niveaux d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’ajout de nouveau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ect des normes et standards ouverts internat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b Services du W3C et 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 s’inspire en grande partie du profil WS-RAMP développé par IBM pour l’industrie automobile améri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ynchrone : WS-Addressing  / Optimisation : MTOM/X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abilité : WS-Reliable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curité du message : WS-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C1D-E64C-4E8A-ADEE-2EA35444CE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) Trois  exemples de flux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1) un flux à vocation pilo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2) un flux univoque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3) un flux bilatéral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) Technologies de tran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1) Principes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1) Le transport : les chemins un VPN privé : Exemple le Réseau SESAM-V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2) Le transport : les chemins Un VPN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3) Le transport : les chemins transport sur internet sans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9D7-16F7-407C-83D9-872B80F949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"/>
          <p:cNvGraphicFramePr/>
          <p:nvPr/>
        </p:nvGraphicFramePr>
        <p:xfrm>
          <a:off x="2771640" y="3933720"/>
          <a:ext cx="251964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251964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9" name=""/>
          <p:cNvGraphicFramePr/>
          <p:nvPr/>
        </p:nvGraphicFramePr>
        <p:xfrm>
          <a:off x="6300720" y="1003320"/>
          <a:ext cx="251928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003320"/>
                    <a:ext cx="25192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1" name=""/>
          <p:cNvGraphicFramePr/>
          <p:nvPr/>
        </p:nvGraphicFramePr>
        <p:xfrm>
          <a:off x="250920" y="3460680"/>
          <a:ext cx="2351160" cy="11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460680"/>
                    <a:ext cx="2351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"/>
          <p:cNvGraphicFramePr/>
          <p:nvPr/>
        </p:nvGraphicFramePr>
        <p:xfrm>
          <a:off x="3924360" y="795240"/>
          <a:ext cx="2351160" cy="112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795240"/>
                    <a:ext cx="23511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324000" y="4941720"/>
            <a:ext cx="482436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Exemples de mise en œuv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755640" y="1125360"/>
          <a:ext cx="1181160" cy="103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1125360"/>
                    <a:ext cx="118116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2052720" y="1125360"/>
          <a:ext cx="1198440" cy="104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2720" y="1125360"/>
                    <a:ext cx="1198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543960" y="26305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gré à de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91160" y="263052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ion de plates-formes d’échange ou de messagerie inter appl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55640" y="551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e d’intégration avec un tiers de télé transmission utilisé par le S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734880" y="429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24000" y="2062080"/>
            <a:ext cx="374328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3"/>
          <a:stretch/>
        </p:blipFill>
        <p:spPr>
          <a:xfrm>
            <a:off x="1692360" y="2133720"/>
            <a:ext cx="668160" cy="28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7" name=""/>
          <p:cNvGraphicFramePr/>
          <p:nvPr/>
        </p:nvGraphicFramePr>
        <p:xfrm>
          <a:off x="5148360" y="1630440"/>
          <a:ext cx="110808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1630440"/>
                    <a:ext cx="1108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4427640" y="2060640"/>
            <a:ext cx="4465440" cy="43164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6"/>
          <a:stretch/>
        </p:blipFill>
        <p:spPr>
          <a:xfrm>
            <a:off x="6516720" y="2131920"/>
            <a:ext cx="66816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1" name=""/>
          <p:cNvGraphicFramePr/>
          <p:nvPr/>
        </p:nvGraphicFramePr>
        <p:xfrm>
          <a:off x="828720" y="4367160"/>
          <a:ext cx="1073160" cy="81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8720" y="4367160"/>
                    <a:ext cx="1073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3" name="" descr=""/>
          <p:cNvPicPr/>
          <p:nvPr/>
        </p:nvPicPr>
        <p:blipFill>
          <a:blip r:embed="rId19"/>
          <a:stretch/>
        </p:blipFill>
        <p:spPr>
          <a:xfrm>
            <a:off x="2195640" y="5013360"/>
            <a:ext cx="668160" cy="2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C07-3820-46E4-A114-E553B6D5F6E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-720" y="333360"/>
            <a:ext cx="89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4) L’Etude des moyens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’anonymisation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lorsque nécess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70640" y="1125360"/>
            <a:ext cx="767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tte étude portera en particulier sur la réutilisation et l’inté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odules d’anonymisation développés en Assurance Mala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t dénommés «foins » ou d’autres processus d’anonym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080" y="2133720"/>
            <a:ext cx="8710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Art.. 40-12. – Les données issues des systèmes d’information visés 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’article L.710-6 du code de la santé publique, celles issues des doss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dicaux détenus dans le cadre de l’exercice libéral des profession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é, ainsi que celles issues des systèmes d’information des ca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assurance maladie, ne peuvent être communiquées à des fin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évaluation ou d’analyse des pratiques et des activités de soins e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vention que sous la forme de statistiques agrégées ou de données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ient constituées de telle sorte que les personnes concernées ne puis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être identifi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ême si il ne s’agit de données purement médicales, le même principe s’appliqu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tre la MDPH et la C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solution proposée : FOIN (Fonction d’Occultation d’Identifiants Nominati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051-D571-411D-AA4F-CEEFF4A1ADB5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419720" cy="52657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5148360" y="1052640"/>
            <a:ext cx="3816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 fonctions d’anonymisation sont développées en langage C et sont livrées sous 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’obj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lles doivent être intégrées dans un logiciel qui effectue la sélection et le contrôle des informations nominatives, directes ou indirectes, à rendre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ne documentation d’intégration, précisant le nom de chaque fonction nécessaire et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amètres d’appel, est fournie avec chaque objet liv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417-1FD0-423A-9525-731E74A4DDE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5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nction élaborée intègre les notions et propriété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370640" cy="38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65D-3017-4881-A32B-1203962889D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5)Formats de fichiers et Entêt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67440" y="639720"/>
            <a:ext cx="55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pl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 intégrant des fichiers pl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A90-BF54-4394-B235-24105AF7CD0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Merci de votr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04F-B4CA-4136-8274-8842A38D3FC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3) Le transport :  Les véhicules (les technologies d’échange) Presto une norme interop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) L’Etude des moyens d’anonymisation lorsque nécessaire 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5)Formats de fichiers et Entê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EF1-510C-4672-863C-BA2D388327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Les échang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2492280"/>
            <a:ext cx="108108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2492280"/>
            <a:ext cx="647640" cy="108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ond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m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2421000"/>
            <a:ext cx="86364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AIERIE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6" idx="3"/>
            <a:endCxn id="107" idx="1"/>
          </p:cNvCxnSpPr>
          <p:nvPr/>
        </p:nvCxnSpPr>
        <p:spPr>
          <a:xfrm flipV="1">
            <a:off x="7667640" y="2744280"/>
            <a:ext cx="505440" cy="28944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09" name=""/>
          <p:cNvSpPr/>
          <p:nvPr/>
        </p:nvSpPr>
        <p:spPr>
          <a:xfrm>
            <a:off x="5003640" y="2492280"/>
            <a:ext cx="648000" cy="100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re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3645000"/>
            <a:ext cx="64800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372280"/>
            <a:ext cx="115092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Inspection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cadé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H="1">
            <a:off x="4427280" y="4653000"/>
            <a:ext cx="900720" cy="937440"/>
          </a:xfrm>
          <a:prstGeom prst="straightConnector1">
            <a:avLst/>
          </a:prstGeom>
          <a:ln w="34920">
            <a:solidFill>
              <a:srgbClr val="000080"/>
            </a:solidFill>
            <a:prstDash val="sysDot"/>
            <a:miter/>
            <a:tailEnd len="lg" type="triangle" w="sm"/>
          </a:ln>
        </p:spPr>
      </p:cxnSp>
      <p:cxnSp>
        <p:nvCxnSpPr>
          <p:cNvPr id="113" name=""/>
          <p:cNvCxnSpPr>
            <a:endCxn id="114" idx="3"/>
          </p:cNvCxnSpPr>
          <p:nvPr/>
        </p:nvCxnSpPr>
        <p:spPr>
          <a:xfrm flipH="1">
            <a:off x="3201120" y="4149360"/>
            <a:ext cx="1770840" cy="86436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5" name=""/>
          <p:cNvSpPr/>
          <p:nvPr/>
        </p:nvSpPr>
        <p:spPr>
          <a:xfrm>
            <a:off x="684360" y="4076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0" idx="1"/>
            <a:endCxn id="115" idx="3"/>
          </p:cNvCxnSpPr>
          <p:nvPr/>
        </p:nvCxnSpPr>
        <p:spPr>
          <a:xfrm flipH="1">
            <a:off x="1834560" y="4149720"/>
            <a:ext cx="3169080" cy="288000"/>
          </a:xfrm>
          <a:prstGeom prst="straightConnector1">
            <a:avLst/>
          </a:prstGeom>
          <a:ln w="34920">
            <a:solidFill>
              <a:srgbClr val="333399"/>
            </a:solidFill>
            <a:prstDash val="sysDot"/>
            <a:miter/>
            <a:tailEnd len="lg" type="triangle" w="sm"/>
          </a:ln>
        </p:spPr>
      </p:cxnSp>
      <p:sp>
        <p:nvSpPr>
          <p:cNvPr id="117" name=""/>
          <p:cNvSpPr/>
          <p:nvPr/>
        </p:nvSpPr>
        <p:spPr>
          <a:xfrm>
            <a:off x="4643280" y="5229360"/>
            <a:ext cx="936720" cy="288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co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221000"/>
            <a:ext cx="1224000" cy="3621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422100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50292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139920"/>
            <a:ext cx="11509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edico-S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0" idx="1"/>
          </p:cNvCxnSpPr>
          <p:nvPr/>
        </p:nvCxnSpPr>
        <p:spPr>
          <a:xfrm flipH="1" flipV="1">
            <a:off x="1763280" y="3499920"/>
            <a:ext cx="3240720" cy="6501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3" name=""/>
          <p:cNvSpPr/>
          <p:nvPr/>
        </p:nvSpPr>
        <p:spPr>
          <a:xfrm>
            <a:off x="684360" y="227664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0" idx="1"/>
          </p:cNvCxnSpPr>
          <p:nvPr/>
        </p:nvCxnSpPr>
        <p:spPr>
          <a:xfrm flipH="1" flipV="1">
            <a:off x="1834560" y="2636640"/>
            <a:ext cx="3169080" cy="1513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5" name=""/>
          <p:cNvSpPr/>
          <p:nvPr/>
        </p:nvSpPr>
        <p:spPr>
          <a:xfrm>
            <a:off x="2411280" y="3284640"/>
            <a:ext cx="1224000" cy="3618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ers 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09" idx="1"/>
          </p:cNvCxnSpPr>
          <p:nvPr/>
        </p:nvCxnSpPr>
        <p:spPr>
          <a:xfrm flipH="1" flipV="1">
            <a:off x="2700000" y="2420280"/>
            <a:ext cx="230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cxnSp>
        <p:nvCxnSpPr>
          <p:cNvPr id="129" name=""/>
          <p:cNvCxnSpPr>
            <a:stCxn id="109" idx="1"/>
            <a:endCxn id="127" idx="2"/>
          </p:cNvCxnSpPr>
          <p:nvPr/>
        </p:nvCxnSpPr>
        <p:spPr>
          <a:xfrm flipH="1" flipV="1">
            <a:off x="4140000" y="2420280"/>
            <a:ext cx="86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30" name=""/>
          <p:cNvSpPr/>
          <p:nvPr/>
        </p:nvSpPr>
        <p:spPr>
          <a:xfrm>
            <a:off x="3708360" y="249228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63700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EE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268280"/>
            <a:ext cx="24480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Dépar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2" idx="2"/>
            <a:endCxn id="105" idx="0"/>
          </p:cNvCxnSpPr>
          <p:nvPr/>
        </p:nvCxnSpPr>
        <p:spPr>
          <a:xfrm flipH="1">
            <a:off x="6336720" y="1989000"/>
            <a:ext cx="35640" cy="504000"/>
          </a:xfrm>
          <a:prstGeom prst="straightConnector1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lg" type="triangle" w="sm"/>
          </a:ln>
        </p:spPr>
      </p:cxnSp>
      <p:sp>
        <p:nvSpPr>
          <p:cNvPr id="134" name=""/>
          <p:cNvSpPr/>
          <p:nvPr/>
        </p:nvSpPr>
        <p:spPr>
          <a:xfrm>
            <a:off x="6300720" y="5156280"/>
            <a:ext cx="358920" cy="0"/>
          </a:xfrm>
          <a:prstGeom prst="line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5013360"/>
            <a:ext cx="93492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sans N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5516640"/>
            <a:ext cx="358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37372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avec NIR organisme autori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6093000"/>
            <a:ext cx="358920" cy="0"/>
          </a:xfrm>
          <a:prstGeom prst="line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595008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change de données en mod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Push  ou P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980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C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765000"/>
            <a:ext cx="3024360" cy="2232360"/>
          </a:xfrm>
          <a:prstGeom prst="ellipse">
            <a:avLst/>
          </a:prstGeom>
          <a:noFill/>
          <a:ln cap="rnd" w="349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4005360"/>
            <a:ext cx="792000" cy="71892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6948000" y="422064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rtif 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endCxn id="126" idx="2"/>
          </p:cNvCxnSpPr>
          <p:nvPr/>
        </p:nvCxnSpPr>
        <p:spPr>
          <a:xfrm flipH="1" flipV="1">
            <a:off x="2700360" y="2420640"/>
            <a:ext cx="2230920" cy="1729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46" name=""/>
          <p:cNvSpPr/>
          <p:nvPr/>
        </p:nvSpPr>
        <p:spPr>
          <a:xfrm>
            <a:off x="611280" y="5084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P EMPL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10" idx="1"/>
            <a:endCxn id="146" idx="3"/>
          </p:cNvCxnSpPr>
          <p:nvPr/>
        </p:nvCxnSpPr>
        <p:spPr>
          <a:xfrm flipH="1">
            <a:off x="1761840" y="4149720"/>
            <a:ext cx="3242160" cy="129600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4" name=""/>
          <p:cNvSpPr/>
          <p:nvPr/>
        </p:nvSpPr>
        <p:spPr>
          <a:xfrm>
            <a:off x="2050920" y="465300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DTE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0" y="981000"/>
            <a:ext cx="936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sme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écurité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1413000"/>
            <a:ext cx="936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 l’empl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981000"/>
            <a:ext cx="93672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épart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413000"/>
            <a:ext cx="936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co-soci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1D2-B6B7-43FC-88F1-603C83F73C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1) Flux fonctionnels entre MDPH et organism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56" name="MDPH" descr=""/>
          <p:cNvPicPr/>
          <p:nvPr/>
        </p:nvPicPr>
        <p:blipFill>
          <a:blip r:embed="rId3"/>
          <a:stretch/>
        </p:blipFill>
        <p:spPr>
          <a:xfrm>
            <a:off x="6156360" y="2708280"/>
            <a:ext cx="1582560" cy="820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95920" y="119700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)Flux de décisions d’orientation sphère é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02120" y="234936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3480" y="31161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71600" y="3429000"/>
            <a:ext cx="25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 d’académ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or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blissement sc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68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47680" y="4413240"/>
            <a:ext cx="40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personnalisé de scola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441440" cy="9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9E9-59A5-452F-A7C9-CBE04A7BFF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1413000" cy="140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94840" y="1197000"/>
            <a:ext cx="69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) Flux de décisions d’orientation 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8520" y="3284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5240" y="17002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4076640"/>
            <a:ext cx="442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Profess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9800" y="342900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ordi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pris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PE, CAT-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156360" y="2082960"/>
            <a:ext cx="1728720" cy="1296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99960" y="4941720"/>
            <a:ext cx="31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T (entreprise spécialis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aide par le trav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692360" y="3644640"/>
            <a:ext cx="410364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4508640"/>
            <a:ext cx="424836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385-5310-4911-AFB7-058870C5E5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92320" y="119700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) Flux de d’orientations de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0400" y="31417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de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9760" y="3573360"/>
            <a:ext cx="37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 (Foyer d’accueil médicalis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 (Maison d’accueil spécialis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 (Foyer occupatio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 (Foyer d’héber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9320" y="4653000"/>
            <a:ext cx="36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s (flux occasionn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232000" cy="1635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87800" y="16477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blissements 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086-7C30-4E35-BE56-C1C626E039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9440" y="119700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) Flux de pre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280" y="314172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e prestation AAH,AEEH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37480" y="443700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à jour des dro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1944720" cy="1462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380360" y="3191040"/>
            <a:ext cx="523800" cy="571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380360" y="3838680"/>
            <a:ext cx="619200" cy="647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867080" y="3159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37640" y="38084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B6E-2F9A-443D-8E29-18489AD6B15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55:58Z</dcterms:created>
  <dc:creator>Alain Pelc</dc:creator>
  <dc:description/>
  <dc:language>en-US</dc:language>
  <cp:lastModifiedBy>Alain Pelc</cp:lastModifiedBy>
  <dcterms:modified xsi:type="dcterms:W3CDTF">2007-03-19T19:00:33Z</dcterms:modified>
  <cp:revision>153</cp:revision>
  <dc:subject/>
  <dc:title>MDPH : Organisation du système d’information L.247-2 </dc:title>
</cp:coreProperties>
</file>