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60E5-7923-489C-B57E-FF29AA54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7C2-7FB5-4AA4-8F7B-799AB55B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8C4D-9BF2-480D-AB42-DAF2ABF2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80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268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80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268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772E-143E-481D-81BA-70A87165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B4AE-4250-4D2E-A835-7D9E9D0C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17F9-57AE-4ABF-B462-A77729E3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21A2-F257-47DA-89BC-A0893F2A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5CAE-BCC4-4700-89F9-994E4226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11E1-8C30-41FC-8C13-86C7B8A6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71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4043-4C2E-400C-9382-336A9B52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20AE-A752-41BE-972C-20C5E02E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8C2D-88F1-495D-9983-FDFADB43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F571-C3A9-46EB-878E-926D6516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63BA-E901-4377-8985-2AFEDBF8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AFB5-0202-47C1-AD57-73827BC8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14E3-C84A-45F3-8C58-B9288F27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9680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4268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5056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9680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4268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24D3-BA88-432E-A4B0-3D367F82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3DA1-9B7B-4E03-944E-D70A3401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CAAE-5E38-4D57-8C3E-3985BA42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CFE5-2564-4F6A-A98B-9B0CBD1C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71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9A55-C2F6-431F-9C77-86BEAB1B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8E1B-C321-4602-A10A-18B6CCA6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DA86-E8CA-4BC3-9052-BA97E8A1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BAA7-4CCC-4785-8801-CEFBCCF3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0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0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1BF8-C6A8-462C-BACA-7A8A51FEE2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53720" cy="6858000"/>
            <a:chOff x="1440" y="0"/>
            <a:chExt cx="9153720" cy="6858000"/>
          </a:xfrm>
        </p:grpSpPr>
        <p:sp>
          <p:nvSpPr>
            <p:cNvPr id="42" name=""/>
            <p:cNvSpPr/>
            <p:nvPr/>
          </p:nvSpPr>
          <p:spPr>
            <a:xfrm>
              <a:off x="1440" y="0"/>
              <a:ext cx="1673280" cy="6858000"/>
            </a:xfrm>
            <a:prstGeom prst="rect">
              <a:avLst/>
            </a:prstGeom>
            <a:solidFill>
              <a:srgbClr val="556c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" name=""/>
            <p:cNvGraphicFramePr/>
            <p:nvPr/>
          </p:nvGraphicFramePr>
          <p:xfrm>
            <a:off x="304920" y="2820960"/>
            <a:ext cx="1116000" cy="1523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920" y="2820960"/>
                      <a:ext cx="1116000" cy="15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" name=""/>
            <p:cNvSpPr/>
            <p:nvPr/>
          </p:nvSpPr>
          <p:spPr>
            <a:xfrm>
              <a:off x="1677960" y="3789360"/>
              <a:ext cx="7466040" cy="3068640"/>
            </a:xfrm>
            <a:prstGeom prst="rect">
              <a:avLst/>
            </a:prstGeom>
            <a:solidFill>
              <a:srgbClr val="fac46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79280" y="5661000"/>
              <a:ext cx="1225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Optima Bold"/>
                </a:rPr>
                <a:t>Direction du Système d’Infor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1687680" y="3240"/>
              <a:ext cx="7467480" cy="378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7640" y="2130120"/>
            <a:ext cx="6550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52B7-B5FE-4406-AD86-8A207175CC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7640" y="2130120"/>
            <a:ext cx="6550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ocole d’échang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re les MDPH et les CA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07640" y="4317480"/>
            <a:ext cx="655164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ncontre du 23 mars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’offre de service RMI actuel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sultation de la Base Allocatai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ffre  : CAFPRO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ransfert de données de gestion mens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ffre  : Flux XML Mensuel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ableau de bord sur les Droits Rm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ffre  : Tableau HTML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s évolutions de l’offre RM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713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uverture de la consultation de la base allocataire à de nouveaux profils mét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volution du transfert de données de gestion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tégration de nouvelles donné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tilisation du format xml standard du w3c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ise en place d’un transfert de données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fra-mensuel événement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réation d’un tableau de bord financ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ise à disposition d’une téléprocédure : @IR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ématérialisation des échanges par transfert électronique réciproque d’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s évolutions de l’offre RM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sues d’un travail partenarial au sein de groupes mixtes composés de représentant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nseils généra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aisses d’Allocation famili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la Caisse Nationale de M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s l ’égide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l’Association des Départements de 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la Caisse Nationale des Allocations Famil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tre proposition pour les MDP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réation de profils de consultation de la Base Allocataires adaptés aux métiers des MDP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ise en place d’échanges de données entre les MDPH et les CAF (dans les deux se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éflexion sur la dématérialisation complète du processus de traitement entre les MDPH et les CA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07:47:41Z</dcterms:created>
  <dc:creator>Régis Pont</dc:creator>
  <dc:description/>
  <dc:language>en-US</dc:language>
  <cp:lastModifiedBy>caf de l'ain</cp:lastModifiedBy>
  <dcterms:modified xsi:type="dcterms:W3CDTF">2007-03-23T10:58:23Z</dcterms:modified>
  <cp:revision>10</cp:revision>
  <dc:subject/>
  <dc:title>Protocole d’échange  les MDPH et les CAF</dc:title>
</cp:coreProperties>
</file>