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9F8-745D-43D1-9915-474258D6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8BD-106E-4D51-A68C-559BB2D0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E92-56AD-4F6F-8913-52A27492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95B-BC7D-4A65-A4E5-5C37FAF6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48B-22D7-4F98-8261-50416AD9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D2E-E5A3-450E-BB5A-4DDA7AC6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89D-3384-459B-9F10-0064B459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3F6-8B5C-4FB5-80E7-CA0F8877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D0C-298D-4CDD-8768-5BBB8C67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770-1F14-4539-A887-4779A8A7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753-E5C2-47B6-846B-42013A81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D46-87E0-4E1E-B8A4-5F649D3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E3B9211C-0BB6-4491-96EE-C5945B71BCFE}" type="slidenum"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8640" y="58680"/>
          <a:ext cx="14617800" cy="1035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8680"/>
                    <a:ext cx="14617800" cy="10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ATaconnet</cp:lastModifiedBy>
  <dcterms:modified xsi:type="dcterms:W3CDTF">2007-02-23T11:13:56Z</dcterms:modified>
  <cp:revision>20</cp:revision>
  <dc:subject/>
  <dc:title>Présentation PowerPoint</dc:title>
</cp:coreProperties>
</file>