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0631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C4D5-9AD4-459C-9A7A-BCA01082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166-3FD6-4017-8FE8-7C17F35A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79B-1B94-4F29-A7BE-09E6ED51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C4B8-77EC-4B11-8835-94E5E50A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24"/>
              </a:spcBef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1D4-1CBC-4E73-8612-2C77DB41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C99-9629-4E00-B252-CBCA31C4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BE4E-A778-4E8C-BC56-43FA7CB9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131A-6BF9-48FC-B1F0-C33C9D71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944280"/>
            <a:ext cx="1360152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24"/>
              </a:spcBef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EAE-889A-428A-8D2B-2768A3BA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68F-F3DB-4C16-A926-4AE4F284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FCC-EC4E-4BCB-A34C-D1FFE04E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A15-0CB9-4108-82C9-F168890D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 fontScale="93000"/>
          </a:bodyPr>
          <a:p>
            <a:pPr marL="529920" indent="-52992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9840" indent="-44280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2" marL="1768680" indent="-35280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3" marL="247752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9685440"/>
            <a:ext cx="506736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fld id="{9E56A02A-BCDC-43D5-8695-2978A3BB8F3F}" type="slidenum"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77800" y="112680"/>
          <a:ext cx="14847840" cy="1040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12680"/>
                    <a:ext cx="14847840" cy="104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5:39:38Z</dcterms:created>
  <dc:creator>thierry.becco</dc:creator>
  <dc:description/>
  <dc:language>en-US</dc:language>
  <cp:lastModifiedBy>thierry.becco</cp:lastModifiedBy>
  <dcterms:modified xsi:type="dcterms:W3CDTF">2007-01-23T15:50:33Z</dcterms:modified>
  <cp:revision>14</cp:revision>
  <dc:subject/>
  <dc:title>Présentation PowerPoint</dc:title>
</cp:coreProperties>
</file>