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6002000" cy="106314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C2D6-B06C-424C-82F2-2CE8436AC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136015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00240" y="6401520"/>
            <a:ext cx="136015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D749-5C75-431B-9CC1-2898EE7C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02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98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C7C1-C640-48C9-B007-A9461FCCB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8880" y="30697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97880" y="30697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00240" y="64015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98880" y="64015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397880" y="64015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E4B4-4A29-41B4-AD5E-412E236A1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00240" y="3069720"/>
            <a:ext cx="13601520" cy="63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24"/>
              </a:spcBef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D77C-78FE-4ADB-AAAC-CA43B2BB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136015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F0B6-CD38-4E5E-B75D-87482F6B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8CF9-D76B-4443-BCBD-48DAF110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5799-42DC-4F77-8531-022C2F2F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0240" y="944280"/>
            <a:ext cx="13601520" cy="82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24"/>
              </a:spcBef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63A0-B4E9-435D-9A4A-0E03C072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002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EE49-D3AB-4AA4-B4CE-F17AF1A3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98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B23D-5099-4422-BD69-500CB30D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00240" y="6401520"/>
            <a:ext cx="136015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67AF-5FB8-4BC8-AAF6-10DECFF7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0240" y="3069720"/>
            <a:ext cx="136015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 fontScale="93000"/>
          </a:bodyPr>
          <a:p>
            <a:pPr marL="529920" indent="-529920">
              <a:spcBef>
                <a:spcPts val="1324"/>
              </a:spcBef>
              <a:buClr>
                <a:srgbClr val="000000"/>
              </a:buClr>
              <a:buFont typeface="Times New Roman"/>
              <a:buChar char="•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9840" indent="-442800">
              <a:spcBef>
                <a:spcPts val="1324"/>
              </a:spcBef>
              <a:buClr>
                <a:srgbClr val="000000"/>
              </a:buClr>
              <a:buFont typeface="Times New Roman"/>
              <a:buChar char="–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2" marL="1768680" indent="-352800">
              <a:spcBef>
                <a:spcPts val="1324"/>
              </a:spcBef>
              <a:buClr>
                <a:srgbClr val="000000"/>
              </a:buClr>
              <a:buFont typeface="Times New Roman"/>
              <a:buChar char="•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3" marL="247752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–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4" marL="318456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5" marL="318456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6" marL="318456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0240" y="9685440"/>
            <a:ext cx="3333600" cy="7077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Autofit/>
          </a:bodyPr>
          <a:lstStyle>
            <a:lvl1pPr indent="0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  <a:defRPr b="0" lang="en-US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67320" y="9685440"/>
            <a:ext cx="5067360" cy="7077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Autofit/>
          </a:bodyPr>
          <a:lstStyle>
            <a:lvl1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  <a:defRPr b="0" lang="en-US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468160" y="9685440"/>
            <a:ext cx="3333600" cy="7077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Autofit/>
          </a:bodyPr>
          <a:lstStyle>
            <a:lvl1pPr indent="0" algn="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  <a:defRPr b="0" lang="en-US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fld id="{212D0727-BC8E-4CA4-ADAF-96ADA0EDA431}" type="slidenum"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77800" y="112680"/>
          <a:ext cx="14847840" cy="1040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112680"/>
                    <a:ext cx="14847840" cy="104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5:39:38Z</dcterms:created>
  <dc:creator>thierry.becco</dc:creator>
  <dc:description/>
  <dc:language>en-US</dc:language>
  <cp:lastModifiedBy>thierry.becco</cp:lastModifiedBy>
  <dcterms:modified xsi:type="dcterms:W3CDTF">2007-01-23T15:50:33Z</dcterms:modified>
  <cp:revision>14</cp:revision>
  <dc:subject/>
  <dc:title>Présentation PowerPoint</dc:title>
</cp:coreProperties>
</file>