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349-D267-47B1-853E-EA99ADE3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288-04E5-4DBB-87EE-59A2BBF4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236-CF03-4151-B124-19013AD9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7ED-375A-4DAE-B6B5-E43E020F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9AA9-1DF1-470A-8565-5FC749FD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5390-FB8C-410A-9A87-3BA872CC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D7FF-5C0D-4100-8D58-B5A94CC3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06C7-E706-4F4D-94E2-9875B855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8A9B-AD5D-4F9F-807B-CA59F4B9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3139-DB4D-460E-92E7-AC76BA6D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EEEB-0CD6-4399-BC1C-25ACD71D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FFA-6EEF-4A5A-8A19-D0949E5F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DB29-D194-4D81-A377-CD15A1F3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40CD-048E-439A-BA8B-79E169E5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697C-3112-4159-AD7B-D1BDECA0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EDDB-21FE-4578-82D3-EF665241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F4C5-7768-4CA9-A781-E613E30E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A21-8D62-4AC5-85B7-3EE85039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FD7-EDFF-47FF-8290-D59AF561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94F-232C-4CBB-90B1-06091856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44A-B358-4CBD-9CC7-C9B9E11D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7B3-2379-4FCE-9ACC-F3143ADD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897-AE34-493A-ADD4-44609B73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63C-4831-4904-9C0D-211EFA03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527C-05A2-4526-877E-4A177231BA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53720" cy="6858000"/>
            <a:chOff x="1440" y="0"/>
            <a:chExt cx="9153720" cy="6858000"/>
          </a:xfrm>
        </p:grpSpPr>
        <p:sp>
          <p:nvSpPr>
            <p:cNvPr id="42" name=""/>
            <p:cNvSpPr/>
            <p:nvPr/>
          </p:nvSpPr>
          <p:spPr>
            <a:xfrm>
              <a:off x="1440" y="0"/>
              <a:ext cx="1673280" cy="6858000"/>
            </a:xfrm>
            <a:prstGeom prst="rect">
              <a:avLst/>
            </a:prstGeom>
            <a:solidFill>
              <a:srgbClr val="556c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304920" y="2820960"/>
            <a:ext cx="1116000" cy="15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2820960"/>
                      <a:ext cx="111600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1677960" y="3789360"/>
              <a:ext cx="7466040" cy="3068640"/>
            </a:xfrm>
            <a:prstGeom prst="rect">
              <a:avLst/>
            </a:prstGeom>
            <a:solidFill>
              <a:srgbClr val="fac46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9280" y="5661000"/>
              <a:ext cx="122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Optima Bold"/>
                </a:rPr>
                <a:t>Direction du Système d’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1687680" y="3240"/>
              <a:ext cx="7467480" cy="37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A082-94A2-431C-B8CF-D26458CE85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cole d’échang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 les MDPH et les CA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7640" y="4317480"/>
            <a:ext cx="65516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contre du 23 mars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’offre de service RMI actuel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sultation de la Base Allocatai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CAFPRO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nsfert de données de gestion mens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Flux XML Mensue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ableau de bord sur les Droits R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Tableau HTM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71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uverture de la consultation de la base allocataire à de nouveaux profils mét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volution du transfert de données de gestion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égration de nouvelles donn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tilisation du format xml standard du w3c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un transfert de données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fra-mensuel événement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’un tableau de bord financ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à disposition d’une téléprocédure : @IR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ématérialisation des échanges par transfert électronique réciproque d’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d’un travail partenarial au sein de groupes mixtes composés de représentant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nseils génér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aisses d’Allocation famil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 M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 l ’égid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’Association des Départements de 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s Allocations Famil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re proposition pour les MDP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e profils de consultation de la Base Allocataires adaptés aux métiers des MD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échanges de données entre les MDPH et les CAF (dans les deux se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lexion sur la dématérialisation complète du processus de traitement entre les MDPH et les C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7:47:41Z</dcterms:created>
  <dc:creator>Régis Pont</dc:creator>
  <dc:description/>
  <dc:language>en-US</dc:language>
  <cp:lastModifiedBy>caf de l'ain</cp:lastModifiedBy>
  <dcterms:modified xsi:type="dcterms:W3CDTF">2007-03-23T10:58:23Z</dcterms:modified>
  <cp:revision>10</cp:revision>
  <dc:subject/>
  <dc:title>Protocole d’échange  les MDPH et les CAF</dc:title>
</cp:coreProperties>
</file>