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687C-1655-4BA3-AF51-580B57EDE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2D8B-C4BF-4145-9132-5F3485381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E78B-CCB8-4142-AF5C-45CEDBD24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9B3D-8115-4152-BF9F-E26FA93A6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085C-819C-4826-A137-35CC66DF1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7D8F-6CFD-4026-BB78-F6250ECBD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2FA9-9577-455E-B023-1E4DD51E3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AC7C-607F-4BB7-813D-31D87F7A7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616A-5887-4A6E-B5A4-2DC950BF1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4A0D-6DA9-4986-B326-8F42D0546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6309-5983-4895-A681-65A2495B3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AB3D-800E-4BDD-B77F-7D1B6D6AD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7FA44-6C28-48B8-A7E7-D3438DB1A1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90720" y="6114960"/>
            <a:ext cx="7200720" cy="7430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843560" y="6172200"/>
            <a:ext cx="39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ude et mise en place d’une plateforme de travail collaborat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-logo" descr=""/>
          <p:cNvPicPr/>
          <p:nvPr/>
        </p:nvPicPr>
        <p:blipFill>
          <a:blip r:embed="rId3"/>
          <a:stretch/>
        </p:blipFill>
        <p:spPr>
          <a:xfrm>
            <a:off x="5486400" y="152280"/>
            <a:ext cx="3657600" cy="99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logo" descr=""/>
          <p:cNvPicPr/>
          <p:nvPr/>
        </p:nvPicPr>
        <p:blipFill>
          <a:blip r:embed="rId1"/>
          <a:stretch/>
        </p:blipFill>
        <p:spPr>
          <a:xfrm>
            <a:off x="762120" y="4495680"/>
            <a:ext cx="3809880" cy="1150920"/>
          </a:xfrm>
          <a:prstGeom prst="rect">
            <a:avLst/>
          </a:prstGeom>
          <a:ln w="0">
            <a:noFill/>
          </a:ln>
        </p:spPr>
      </p:pic>
      <p:pic>
        <p:nvPicPr>
          <p:cNvPr id="45" name="phpcollab_logo" descr=""/>
          <p:cNvPicPr/>
          <p:nvPr/>
        </p:nvPicPr>
        <p:blipFill>
          <a:blip r:embed="rId2"/>
          <a:stretch/>
        </p:blipFill>
        <p:spPr>
          <a:xfrm>
            <a:off x="4876920" y="4572000"/>
            <a:ext cx="4000320" cy="10288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09480" y="152280"/>
            <a:ext cx="4740480" cy="22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NCHI Antho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GOUZO Isabel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GHOUCHE Abdelkrim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INA Jonathan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52388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2895480"/>
            <a:ext cx="5333760" cy="990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tude et mise en place d’une plateforme de travail collaborati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971640" y="1773360"/>
            <a:ext cx="7200720" cy="72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3581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812880" indent="-812880">
              <a:spcBef>
                <a:spcPts val="601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290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382760" indent="-711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290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382760" indent="-711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290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élivr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382760" indent="-711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290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én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382760" indent="-711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290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382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290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buClr>
                <a:srgbClr val="000000"/>
              </a:buClr>
              <a:buFont typeface="Times New Roman"/>
              <a:buAutoNum type="romanUcPeriod" startAt="2"/>
              <a:tabLst>
                <a:tab algn="l" pos="290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hase de con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382760" indent="-71136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290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lyse de l’exist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382760" indent="-71136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290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herche de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382760" indent="0">
              <a:lnSpc>
                <a:spcPct val="100000"/>
              </a:lnSpc>
              <a:buNone/>
              <a:tabLst>
                <a:tab algn="l" pos="0"/>
                <a:tab algn="l" pos="290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382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90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382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290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382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90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55640" y="1660680"/>
            <a:ext cx="32194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buClr>
                <a:srgbClr val="000000"/>
              </a:buClr>
              <a:buFont typeface="Times New Roman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hase de 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6680" indent="-6094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523880" indent="-6094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é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523880" indent="-6094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al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523880" indent="-6094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émonst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6680" indent="-6094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pColl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523880" indent="-6094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al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523880" indent="-6094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émonst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57440" y="4267080"/>
            <a:ext cx="20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buClr>
                <a:srgbClr val="000000"/>
              </a:buClr>
              <a:buFont typeface="Times New Roman"/>
              <a:buAutoNum type="roman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nclu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144792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362320" y="1143000"/>
            <a:ext cx="16761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6T08:48:39Z</dcterms:created>
  <dc:creator>default</dc:creator>
  <dc:description/>
  <dc:language>en-US</dc:language>
  <cp:lastModifiedBy>default</cp:lastModifiedBy>
  <dcterms:modified xsi:type="dcterms:W3CDTF">2005-04-06T09:39:34Z</dcterms:modified>
  <cp:revision>10</cp:revision>
  <dc:subject/>
  <dc:title>Présentation PowerPoint</dc:title>
</cp:coreProperties>
</file>