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346-7529-48E3-A26E-78447D89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11F-F749-4FCB-ACD4-D300238F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3CB-1413-41BB-85DE-41F54515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F1A-90B8-4B01-A4EC-F36C650F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691-80F8-46F2-A5B2-8A8323FF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A40-E90B-45E6-A056-8996B7F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F82-9522-4F5D-9580-2DABAD2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DDE-675F-4AB7-B3A4-DDE0C88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735-F94C-4677-A7E3-6F6721F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9D2-4B2D-4ACD-883B-54F8B64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F9D-5F83-4825-8926-76431B9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787-6D17-49D9-A5AC-541D5D7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427E-D8E2-4037-B6B0-F490B2048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6114960"/>
            <a:ext cx="7200720" cy="74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43560" y="6172200"/>
            <a:ext cx="39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-logo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6576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45" name="phpcollab_logo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4000320" cy="10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47404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HI Ant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UZO Is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GHOUCHE Abdelkrim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INA Jonat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95480"/>
            <a:ext cx="53337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20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iv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é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buClr>
                <a:srgbClr val="000000"/>
              </a:buClr>
              <a:buFont typeface="Times New Roman"/>
              <a:buAutoNum type="romanUcPeriod" startAt="2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5640" y="1660680"/>
            <a:ext cx="321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Col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440" y="4267080"/>
            <a:ext cx="20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67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48:39Z</dcterms:created>
  <dc:creator>default</dc:creator>
  <dc:description/>
  <dc:language>en-US</dc:language>
  <cp:lastModifiedBy>default</cp:lastModifiedBy>
  <dcterms:modified xsi:type="dcterms:W3CDTF">2005-04-06T09:39:34Z</dcterms:modified>
  <cp:revision>10</cp:revision>
  <dc:subject/>
  <dc:title>Présentation PowerPoint</dc:title>
</cp:coreProperties>
</file>