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6E3-1172-409F-A58D-295CACD2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E8D-EB5D-4A23-B5CB-63B07951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6D2-45A1-4DC3-BBDB-DC8DC5CF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CDD-6309-4D4E-9FE5-C8A07E00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14E-F4F0-4754-B3F7-1C7AC33F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C8B-BDBF-4D6C-8FD7-1D130D29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FFE-2345-4983-A8E7-4E4698A6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89C-FA47-40D3-AF6F-368955FE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86D-4C1B-40FC-8072-B426FDC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C74-6D28-4DA6-81EC-525FCD8F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36A-568A-4DDC-A739-FD505835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456-FFAF-4B2F-8184-7E45FC6C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87CE-3BC9-4DDD-8BFD-E70DA7B64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90720" y="6114960"/>
            <a:ext cx="7200720" cy="74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43560" y="6172200"/>
            <a:ext cx="39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-logo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36576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3809880" cy="1150920"/>
          </a:xfrm>
          <a:prstGeom prst="rect">
            <a:avLst/>
          </a:prstGeom>
          <a:ln w="0">
            <a:noFill/>
          </a:ln>
        </p:spPr>
      </p:pic>
      <p:pic>
        <p:nvPicPr>
          <p:cNvPr id="45" name="phpcollab_logo" descr=""/>
          <p:cNvPicPr/>
          <p:nvPr/>
        </p:nvPicPr>
        <p:blipFill>
          <a:blip r:embed="rId2"/>
          <a:stretch/>
        </p:blipFill>
        <p:spPr>
          <a:xfrm>
            <a:off x="4876920" y="4572000"/>
            <a:ext cx="4000320" cy="10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480" y="152280"/>
            <a:ext cx="47404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HI Antho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GOUZO Isab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GHOUCHE Abdelkrim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INA Jonatha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238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895480"/>
            <a:ext cx="533376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ude et mise en place d’une plateforme de travail collabor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720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liv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é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buClr>
                <a:srgbClr val="000000"/>
              </a:buClr>
              <a:buFont typeface="Times New Roman"/>
              <a:buAutoNum type="romanUcPeriod" startAt="2"/>
              <a:tabLst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e de l’ex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-711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erche d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5640" y="1660680"/>
            <a:ext cx="321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ase d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pCol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440" y="4267080"/>
            <a:ext cx="20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4479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1676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8:48:39Z</dcterms:created>
  <dc:creator>default</dc:creator>
  <dc:description/>
  <dc:language>en-US</dc:language>
  <cp:lastModifiedBy>default</cp:lastModifiedBy>
  <dcterms:modified xsi:type="dcterms:W3CDTF">2005-04-06T09:39:34Z</dcterms:modified>
  <cp:revision>10</cp:revision>
  <dc:subject/>
  <dc:title>Présentation PowerPoint</dc:title>
</cp:coreProperties>
</file>